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CA227-F44A-400A-8706-DB498D63DF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F9A4-D973-492E-8B2E-57302E45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1233-32FC-47B4-A070-E998E43A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F3FA-0E1A-4E8E-9BE2-9F9BFA61D4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30DC2-BCBA-46FA-A052-84E0591829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339EC-DCBE-4F4C-B39A-A70BDD0F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DCD95-2374-4AF1-BA07-355FA792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AA636-657E-4077-A851-256D9C14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49E38-2B2B-4C4A-9F62-6822AEE1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8160" cy="72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1AF51-0BBA-4402-8B91-571D6E15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5E98C-0D0E-423C-9941-23CA8442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69EB9-6EDF-40F8-BBDD-3DB995F5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9C1CD-8D28-4403-9333-DD532981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7C052-B959-4514-9E4A-8DFC715C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F2FA0-D709-445A-BB46-EC49B106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C3635-DA90-44F1-A581-FED985CD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BCD40-52CD-46B9-9735-F0A7ED842F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367A2-A419-4F80-A5E9-A7540CDB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82CC-5865-4457-A3F5-80F7E760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0DBB5-ACAE-49B6-BA30-6271759D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8160" cy="72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8A4E-1F53-4EBB-89D9-00999AD0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895F-B020-4A2C-8DA2-519E164F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E17F-6C21-4B4B-9A4E-CD2E37CC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E216-EC38-45F7-9565-BC52F819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2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lnSpc>
                <a:spcPct val="102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lnSpc>
                <a:spcPct val="102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0520" indent="-208080">
              <a:lnSpc>
                <a:spcPct val="102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AEF3A7-2275-41C6-A69C-32D0787D8709}" type="slidenum">
              <a:rPr b="0" lang="en-GB" sz="1200" spc="-1" strike="noStrike">
                <a:solidFill>
                  <a:srgbClr val="d1eaee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80720" cy="646200"/>
            <a:chOff x="-19080" y="203040"/>
            <a:chExt cx="91807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88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80720" cy="563400"/>
              <a:chOff x="-19080" y="247680"/>
              <a:chExt cx="9180720" cy="56340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648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Freeform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Freeform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2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lnSpc>
                <a:spcPct val="102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lnSpc>
                <a:spcPct val="102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0520" indent="-208080">
              <a:lnSpc>
                <a:spcPct val="102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18FEF5-9247-4186-9010-7E8F3FEC014B}" type="slidenum">
              <a:rPr b="0" lang="en-GB" sz="1200" spc="-1" strike="noStrike">
                <a:solidFill>
                  <a:srgbClr val="d1eaee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900000" y="836640"/>
            <a:ext cx="77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ccff99"/>
                </a:solidFill>
                <a:latin typeface="Constantia"/>
                <a:ea typeface="Arial"/>
              </a:rPr>
              <a:t>НЕГОСУДАРСТВЕННОЕ ОБРАЗОВАТЕЛЬНОЕ УЧРЕЖДЕНИЕ ВЫСШЕГО ПРОФЕССИОНАЛЬНОГО ОБРАЗОВАНИ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ccff99"/>
                </a:solidFill>
                <a:latin typeface="Constantia"/>
                <a:ea typeface="Arial"/>
              </a:rPr>
              <a:t>ЦЕНТРОСОЮЗА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ccff99"/>
                </a:solidFill>
                <a:latin typeface="Constantia"/>
                <a:ea typeface="Arial"/>
              </a:rPr>
              <a:t>СИБИРСКИЙ УНИВЕРСИТЕТ ПОТРЕБИТЕЛЬСКОЙ КООПЕРАЦИ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0" y="630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d0d0d"/>
                </a:solidFill>
                <a:uFillTx/>
                <a:latin typeface="Arial"/>
                <a:ea typeface="Arial"/>
              </a:rPr>
              <a:t>Сайт</a:t>
            </a:r>
            <a:r>
              <a:rPr b="0" lang="en-GB" sz="1800" spc="-1" strike="noStrike">
                <a:solidFill>
                  <a:srgbClr val="0d0d0d"/>
                </a:solidFill>
                <a:latin typeface="Arial"/>
                <a:ea typeface="Arial"/>
              </a:rPr>
              <a:t>: </a:t>
            </a:r>
            <a:r>
              <a:rPr b="0" i="1" lang="en-GB" sz="1800" spc="-1" strike="noStrike">
                <a:solidFill>
                  <a:srgbClr val="0d0d0d"/>
                </a:solidFill>
                <a:latin typeface="Arial"/>
                <a:ea typeface="Arial"/>
              </a:rPr>
              <a:t>www.sibupk.su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627280" y="6308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d0d0d"/>
                </a:solidFill>
                <a:uFillTx/>
                <a:latin typeface="Arial"/>
                <a:ea typeface="Arial"/>
              </a:rPr>
              <a:t>E-mail</a:t>
            </a:r>
            <a:r>
              <a:rPr b="0" lang="en-GB" sz="1800" spc="-1" strike="noStrike">
                <a:solidFill>
                  <a:srgbClr val="0d0d0d"/>
                </a:solidFill>
                <a:latin typeface="Arial"/>
                <a:ea typeface="Arial"/>
              </a:rPr>
              <a:t>: </a:t>
            </a:r>
            <a:r>
              <a:rPr b="0" i="1" lang="en-GB" sz="1800" spc="-1" strike="noStrike">
                <a:solidFill>
                  <a:srgbClr val="0d0d0d"/>
                </a:solidFill>
                <a:latin typeface="Arial"/>
                <a:ea typeface="Arial"/>
              </a:rPr>
              <a:t>common@sibupk.nsk.su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91280" y="630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d0d0d"/>
                </a:solidFill>
                <a:uFillTx/>
                <a:latin typeface="Arial"/>
                <a:ea typeface="Arial"/>
              </a:rPr>
              <a:t>Телефон</a:t>
            </a:r>
            <a:r>
              <a:rPr b="0" lang="en-GB" sz="1800" spc="-1" strike="noStrike">
                <a:solidFill>
                  <a:srgbClr val="0d0d0d"/>
                </a:solidFill>
                <a:latin typeface="Arial"/>
                <a:ea typeface="Arial"/>
              </a:rPr>
              <a:t>: (383) 314-00-39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556000" y="2827440"/>
            <a:ext cx="4386240" cy="2916000"/>
          </a:xfrm>
          <a:prstGeom prst="rect">
            <a:avLst/>
          </a:prstGeom>
          <a:ln w="38160">
            <a:solidFill>
              <a:srgbClr val="dbf5f9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179280" y="228600"/>
            <a:ext cx="7632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dbf5f9"/>
                </a:solidFill>
                <a:latin typeface="Tahoma"/>
              </a:rPr>
              <a:t>Социально-технологический     </a:t>
            </a:r>
            <a:r>
              <a:rPr b="1" lang="en-GB" sz="3800" spc="-1" strike="noStrike">
                <a:solidFill>
                  <a:srgbClr val="dbf5f9"/>
                </a:solidFill>
                <a:latin typeface="Tahoma"/>
              </a:rPr>
              <a:t>	</a:t>
            </a:r>
            <a:r>
              <a:rPr b="1" lang="en-GB" sz="3800" spc="-1" strike="noStrike">
                <a:solidFill>
                  <a:srgbClr val="dbf5f9"/>
                </a:solidFill>
                <a:latin typeface="Tahoma"/>
              </a:rPr>
              <a:t>	</a:t>
            </a:r>
            <a:r>
              <a:rPr b="1" lang="en-GB" sz="3800" spc="-1" strike="noStrike">
                <a:solidFill>
                  <a:srgbClr val="dbf5f9"/>
                </a:solidFill>
                <a:latin typeface="Tahoma"/>
              </a:rPr>
              <a:t>	</a:t>
            </a:r>
            <a:r>
              <a:rPr b="1" lang="en-GB" sz="3800" spc="-1" strike="noStrike">
                <a:solidFill>
                  <a:srgbClr val="dbf5f9"/>
                </a:solidFill>
                <a:latin typeface="Tahoma"/>
              </a:rPr>
              <a:t>факультет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990720" y="1905120"/>
            <a:ext cx="441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14200" y="1571760"/>
            <a:ext cx="7993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акалавры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0800.62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Товароведение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60100.62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Продукты питания из растительного сырья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60200.62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Продукты питания животного происхождения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0100.62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Сервис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0400.62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Туризм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60800.62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Технология продукции и организация общественного питания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Магистры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0100.68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Сервис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0400.68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Туризм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60100.68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Продукты питания из растительного сырья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60200.68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Продукты питания животного происхождения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60800.68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Технология продукции и организация общественного питания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429080" y="407196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206360" cy="11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79280" y="260280"/>
            <a:ext cx="763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dbf5f9"/>
                </a:solidFill>
                <a:latin typeface="Tahoma"/>
              </a:rPr>
              <a:t>Факультет финансов и учёта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990720" y="1905120"/>
            <a:ext cx="441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16000" y="2133720"/>
            <a:ext cx="6480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Бакалавры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080200.62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"Менеджмент"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Магистры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080200.68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"Менеджмент"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081100.68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"Государственное и муниципальное управление"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990720" y="4114800"/>
            <a:ext cx="441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990720" y="4707000"/>
            <a:ext cx="792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7812000" y="333360"/>
            <a:ext cx="1189080" cy="11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395280" y="476280"/>
            <a:ext cx="79200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dbf5f9"/>
                </a:solidFill>
                <a:latin typeface="Tahoma"/>
              </a:rPr>
              <a:t>Экономический факультет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990720" y="1447920"/>
            <a:ext cx="441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71640" y="1989000"/>
            <a:ext cx="7993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акалавры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050100.62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Педагогическое образование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050400.62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Психолого-педагогическое образование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051000.62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Профессиональное обучение (по отраслям)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080100.62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Экономика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30700.62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Прикладная информатика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30100.62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Информатика и вычислительная техника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Магистры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050100.68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Педагогическое образование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050400.68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Психолого-педагогическое образование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051000.68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Профессиональное обучение (по отраслям)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080100.68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Экономика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30100.68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Информатика и вычислительная техника"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990720" y="3886200"/>
            <a:ext cx="441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28600" y="4797360"/>
            <a:ext cx="77281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7956720" y="476280"/>
            <a:ext cx="1042920" cy="102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-468360" y="228600"/>
            <a:ext cx="9536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dbf5f9"/>
                </a:solidFill>
                <a:latin typeface="Tahoma"/>
              </a:rPr>
              <a:t>Юридический факультет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990720" y="2133720"/>
            <a:ext cx="441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42920" y="2819520"/>
            <a:ext cx="7850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Бакалавры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030900.62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"Юриспруденция«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Магистры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030900.68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"Юриспруденция"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90720" y="3886200"/>
            <a:ext cx="441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7667640" y="260280"/>
            <a:ext cx="1190520" cy="11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676440" y="380880"/>
            <a:ext cx="8162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dbf5f9"/>
                </a:solidFill>
                <a:latin typeface="Tahoma"/>
                <a:ea typeface="Tahoma"/>
              </a:rPr>
              <a:t>Программы среднего профессионального образовани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1187280" y="2060640"/>
            <a:ext cx="720108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Право и организация социального обеспеч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Экономика и бухгалтерский учет (по отраслям)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Товароведение и экспертиза качества потребительских товар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Гостиничный сервис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Информационные системы (по отраслям)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Технология продуктов общественного пита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867280" y="191628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57200" y="428760"/>
            <a:ext cx="82296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Прямоугольник 1"/>
          <p:cNvSpPr/>
          <p:nvPr/>
        </p:nvSpPr>
        <p:spPr>
          <a:xfrm>
            <a:off x="108000" y="549360"/>
            <a:ext cx="90360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истема дополнительного профессионального образования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ентр дополнительного профессионального образования СибУПК систематически проводит мониторинг потребностей рынка труда в специалистах, на основе которого разрабатываются современные программы курсов повышения квалификации и профессиональной подготовки. Все программы дополнительного профессионального образования соответствуют международным стандартам, отражают современное состояни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457200" y="0"/>
            <a:ext cx="82296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dbf5f9"/>
                </a:solidFill>
                <a:latin typeface="Tahoma"/>
                <a:ea typeface="Tahoma"/>
              </a:rPr>
              <a:t>Диплом о профессиональной переподготовке (государственного образца)</a:t>
            </a:r>
            <a:r>
              <a:rPr b="1" lang="en-GB" sz="3200" spc="-1" strike="noStrike">
                <a:solidFill>
                  <a:srgbClr val="dbf5f9"/>
                </a:solidFill>
                <a:latin typeface="Tahoma"/>
                <a:ea typeface="Tahom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466560" y="147636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срок обучения – 9 месяцев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направления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менеджмент предприят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управление бизнесом, учет и налогообложени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управление персоналом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маркетинг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реклама и маркетинговые технолог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товароведение и экспертиза товар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ресторанный бизнес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менеджер курортного, гостиничного дела и туриз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юриспруденция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250920" y="1104840"/>
            <a:ext cx="87138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существление взаимодействия с -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орговыми и производственными предприятиям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научными и образовательными учреждениями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торгово-промышленными палатами, - - органами Роспотребнадзора и др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учебной, научно-исследовательской и профессиональных сферах по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57200" y="703440"/>
            <a:ext cx="82296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dbf5f9"/>
                </a:solidFill>
                <a:latin typeface="Tahoma"/>
                <a:ea typeface="Tahoma"/>
              </a:rPr>
              <a:t>Привлечение молодых специалистов в </a:t>
            </a:r>
            <a:r>
              <a:rPr b="0" lang="ru-RU" sz="3600" spc="-1" strike="noStrike">
                <a:solidFill>
                  <a:srgbClr val="dbf5f9"/>
                </a:solidFill>
                <a:latin typeface="Tahoma"/>
                <a:ea typeface="Tahoma"/>
              </a:rPr>
              <a:t>предприятия сферы услуг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57200" y="184788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целевой набор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обучение за счет средств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предприятия на основе договор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студенты проходят производственную практику на базе предприят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после получения образования специалисты направляются работать в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предприят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250920" y="0"/>
            <a:ext cx="8435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dbf5f9"/>
                </a:solidFill>
                <a:latin typeface="Tahoma"/>
                <a:ea typeface="Tahoma"/>
              </a:rPr>
              <a:t>Перспективные  направления</a:t>
            </a:r>
            <a:r>
              <a:rPr b="1" lang="ru-RU" sz="2800" spc="-1" strike="noStrike">
                <a:solidFill>
                  <a:srgbClr val="dbf5f9"/>
                </a:solidFill>
                <a:latin typeface="Tahoma"/>
                <a:ea typeface="Tahoma"/>
              </a:rPr>
              <a:t> образовательной</a:t>
            </a:r>
            <a:r>
              <a:rPr b="1" lang="en-GB" sz="2800" spc="-1" strike="noStrike">
                <a:solidFill>
                  <a:srgbClr val="dbf5f9"/>
                </a:solidFill>
                <a:latin typeface="Tahoma"/>
                <a:ea typeface="Tahoma"/>
              </a:rPr>
              <a:t> деятельност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Tahoma"/>
                <a:ea typeface="Tahoma"/>
              </a:rPr>
              <a:t>Сибирского университета потребительской коопераци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592200" y="1876320"/>
            <a:ext cx="8229600" cy="45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Развитие многоуровневой системы образова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Довузовская подготов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Среднее профессиональное образова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Высшее профессиональное образование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(2 ступени - бакалавриат и магистратура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Послевузовское образование –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(аспирантура и докторантура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Дополнительное образование –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повышение квалификации и переподготовка кадров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324000" y="1562040"/>
            <a:ext cx="8820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Перед тем, как достичь этой даты, вуз прошел многие этапы становления, развития, и превратился в ведущий университет Западно-Сибирского региона по подготовке специалистов для потребительской сфер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В марте 1956 года, в соответствии с постановлением Совета Министров СССР и Правления Центросоюза СССР для подготовки специалистов в организации потребительской кооперации Сибири, Урала, Дальнего Востока и частично Казахстана в Новосибирске открыт кооперативный институт советской кооперативной торговли – НИСКТ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179280" y="189000"/>
            <a:ext cx="86407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Сибирскому университету потребительской кооперации – 55 лет!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0" y="15840"/>
            <a:ext cx="9036000" cy="15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Сибирский университет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потребительской коопераци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сегодня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7200" y="1752480"/>
            <a:ext cx="3962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0bd0d9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75738 выпускников за 55 ле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0bd0d9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5 факультет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0bd0d9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33 кафед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0bd0d9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13 иногородних подразделени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0bd0d9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Около 13000 студентов на очной и заочной формах обучения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0bd0d9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(вместе с филиалами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79280" y="133200"/>
            <a:ext cx="878544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888 преподавателей (включая филиалы), среди них с учеными степенями и званиями около 68,2% человека,  профессоров и докторов наук – 21%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Научные исследования по 5 комплексным проблемам, по шести отраслям нау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Аспирантура по 6 направлениям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(технические, экономические, юридические, педагогические, социологические, географические науки) и 11 специальностям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Диссертационные советы по защите докторских и кандидатских диссертаций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Экономика и управление народным хозяйством (экономика, организация и управление предприятиями, отраслями, комплексами: сфера услуг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Экономика и управление народным хозяйством (маркетинг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Бухгалтерский учет, статистик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50920" y="1546200"/>
            <a:ext cx="87138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  <a:ea typeface="Tahoma"/>
              </a:rPr>
              <a:t>Материально-техническая база: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Шесть учебных корпус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Библиотечный корпус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Студенческие общежит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Спортивные зал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Плавательный бассей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Восстановительно-реабилитационный центр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Студенческая база отдыха на берегу Новосибирского водохранилища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608040"/>
            <a:ext cx="8304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bf5f9"/>
                </a:solidFill>
                <a:latin typeface="Calibri"/>
              </a:rPr>
              <a:t>ПРОГРАММЫ ПОДГОТОВК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8088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5000" indent="-765000">
              <a:lnSpc>
                <a:spcPct val="100000"/>
              </a:lnSpc>
              <a:spcAft>
                <a:spcPts val="975"/>
              </a:spcAft>
              <a:buClr>
                <a:srgbClr val="dbf5f9"/>
              </a:buClr>
              <a:buFont typeface="Wingdings" charset="2"/>
              <a:buChar char=""/>
              <a:tabLst>
                <a:tab algn="l" pos="1405080"/>
                <a:tab algn="l" pos="2319480"/>
                <a:tab algn="l" pos="3233880"/>
                <a:tab algn="l" pos="4148280"/>
                <a:tab algn="l" pos="5062680"/>
                <a:tab algn="l" pos="5977080"/>
                <a:tab algn="l" pos="6891480"/>
                <a:tab algn="l" pos="7805880"/>
                <a:tab algn="l" pos="8720280"/>
                <a:tab algn="l" pos="9634680"/>
                <a:tab algn="l" pos="10549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Высшее профессиональное образование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765000" indent="-765000">
              <a:lnSpc>
                <a:spcPct val="100000"/>
              </a:lnSpc>
              <a:spcAft>
                <a:spcPts val="975"/>
              </a:spcAft>
              <a:buClr>
                <a:srgbClr val="dbf5f9"/>
              </a:buClr>
              <a:buFont typeface="Wingdings" charset="2"/>
              <a:buChar char=""/>
              <a:tabLst>
                <a:tab algn="l" pos="1405080"/>
                <a:tab algn="l" pos="2319480"/>
                <a:tab algn="l" pos="3233880"/>
                <a:tab algn="l" pos="4148280"/>
                <a:tab algn="l" pos="5062680"/>
                <a:tab algn="l" pos="5977080"/>
                <a:tab algn="l" pos="6891480"/>
                <a:tab algn="l" pos="7805880"/>
                <a:tab algn="l" pos="8720280"/>
                <a:tab algn="l" pos="9634680"/>
                <a:tab algn="l" pos="10549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Магистров – 15 направлений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765000" indent="-765000">
              <a:lnSpc>
                <a:spcPct val="100000"/>
              </a:lnSpc>
              <a:spcAft>
                <a:spcPts val="975"/>
              </a:spcAft>
              <a:buClr>
                <a:srgbClr val="dbf5f9"/>
              </a:buClr>
              <a:buFont typeface="Wingdings" charset="2"/>
              <a:buChar char=""/>
              <a:tabLst>
                <a:tab algn="l" pos="1405080"/>
                <a:tab algn="l" pos="2319480"/>
                <a:tab algn="l" pos="3233880"/>
                <a:tab algn="l" pos="4148280"/>
                <a:tab algn="l" pos="5062680"/>
                <a:tab algn="l" pos="5977080"/>
                <a:tab algn="l" pos="6891480"/>
                <a:tab algn="l" pos="7805880"/>
                <a:tab algn="l" pos="8720280"/>
                <a:tab algn="l" pos="9634680"/>
                <a:tab algn="l" pos="10549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Бакалавров – 18 направлений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765000" indent="-765000">
              <a:lnSpc>
                <a:spcPct val="100000"/>
              </a:lnSpc>
              <a:spcAft>
                <a:spcPts val="975"/>
              </a:spcAft>
              <a:buClr>
                <a:srgbClr val="dbf5f9"/>
              </a:buClr>
              <a:buFont typeface="Wingdings" charset="2"/>
              <a:buChar char=""/>
              <a:tabLst>
                <a:tab algn="l" pos="1405080"/>
                <a:tab algn="l" pos="2319480"/>
                <a:tab algn="l" pos="3233880"/>
                <a:tab algn="l" pos="4148280"/>
                <a:tab algn="l" pos="5062680"/>
                <a:tab algn="l" pos="5977080"/>
                <a:tab algn="l" pos="6891480"/>
                <a:tab algn="l" pos="7805880"/>
                <a:tab algn="l" pos="8720280"/>
                <a:tab algn="l" pos="9634680"/>
                <a:tab algn="l" pos="10549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Среднее профессиональное образование – 6 специальност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765000" indent="-765000">
              <a:lnSpc>
                <a:spcPct val="100000"/>
              </a:lnSpc>
              <a:spcAft>
                <a:spcPts val="975"/>
              </a:spcAft>
              <a:tabLst>
                <a:tab algn="l" pos="0"/>
                <a:tab algn="l" pos="1405080"/>
                <a:tab algn="l" pos="2319480"/>
                <a:tab algn="l" pos="3233880"/>
                <a:tab algn="l" pos="4148280"/>
                <a:tab algn="l" pos="5062680"/>
                <a:tab algn="l" pos="5977080"/>
                <a:tab algn="l" pos="6891480"/>
                <a:tab algn="l" pos="7805880"/>
                <a:tab algn="l" pos="8720280"/>
                <a:tab algn="l" pos="9634680"/>
                <a:tab algn="l" pos="10549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533520" y="677880"/>
            <a:ext cx="8164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bf5f9"/>
                </a:solidFill>
                <a:latin typeface="Calibri"/>
              </a:rPr>
              <a:t>КОНТИНГЕНТ СТУДЕНТОВ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304920" y="1905120"/>
            <a:ext cx="8762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5000" indent="-765000">
              <a:lnSpc>
                <a:spcPct val="80000"/>
              </a:lnSpc>
              <a:spcAft>
                <a:spcPts val="1500"/>
              </a:spcAft>
              <a:buClr>
                <a:srgbClr val="dbf5f9"/>
              </a:buClr>
              <a:buFont typeface="Wingdings" charset="2"/>
              <a:buChar char=""/>
              <a:tabLst>
                <a:tab algn="l" pos="1405080"/>
                <a:tab algn="l" pos="2319480"/>
                <a:tab algn="l" pos="3233880"/>
                <a:tab algn="l" pos="4148280"/>
                <a:tab algn="l" pos="5062680"/>
                <a:tab algn="l" pos="5977080"/>
                <a:tab algn="l" pos="6891480"/>
                <a:tab algn="l" pos="7805880"/>
                <a:tab algn="l" pos="8720280"/>
                <a:tab algn="l" pos="9634680"/>
                <a:tab algn="l" pos="10549080"/>
                <a:tab algn="l" pos="1078236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nstantia"/>
              </a:rPr>
              <a:t>Контингент студентов – 16 тысяч человек</a:t>
            </a: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765000" indent="-765000"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1405080"/>
                <a:tab algn="l" pos="2319480"/>
                <a:tab algn="l" pos="3233880"/>
                <a:tab algn="l" pos="4148280"/>
                <a:tab algn="l" pos="5062680"/>
                <a:tab algn="l" pos="5977080"/>
                <a:tab algn="l" pos="6891480"/>
                <a:tab algn="l" pos="7805880"/>
                <a:tab algn="l" pos="8720280"/>
                <a:tab algn="l" pos="9634680"/>
                <a:tab algn="l" pos="10549080"/>
                <a:tab algn="l" pos="1078236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onstantia"/>
              </a:rPr>
              <a:t>	</a:t>
            </a:r>
            <a:br>
              <a:rPr sz="800"/>
            </a:b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В том числе: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очной формы обучения – 6 тысяч человек,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заочной формы обучения – 10 тысяч человек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765000" indent="-765000">
              <a:lnSpc>
                <a:spcPct val="80000"/>
              </a:lnSpc>
              <a:spcAft>
                <a:spcPts val="1500"/>
              </a:spcAft>
              <a:buClr>
                <a:srgbClr val="dbf5f9"/>
              </a:buClr>
              <a:buFont typeface="Wingdings" charset="2"/>
              <a:buChar char=""/>
              <a:tabLst>
                <a:tab algn="l" pos="1405080"/>
                <a:tab algn="l" pos="2319480"/>
                <a:tab algn="l" pos="3233880"/>
                <a:tab algn="l" pos="4148280"/>
                <a:tab algn="l" pos="5062680"/>
                <a:tab algn="l" pos="5977080"/>
                <a:tab algn="l" pos="6891480"/>
                <a:tab algn="l" pos="7805880"/>
                <a:tab algn="l" pos="8720280"/>
                <a:tab algn="l" pos="9634680"/>
                <a:tab algn="l" pos="10549080"/>
                <a:tab algn="l" pos="1078236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nstantia"/>
              </a:rPr>
              <a:t>Приём студентов на 1 курс в 2011 году – 4425 человек</a:t>
            </a: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.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765000" indent="-765000">
              <a:lnSpc>
                <a:spcPct val="80000"/>
              </a:lnSpc>
              <a:tabLst>
                <a:tab algn="l" pos="0"/>
                <a:tab algn="l" pos="1405080"/>
                <a:tab algn="l" pos="2319480"/>
                <a:tab algn="l" pos="3233880"/>
                <a:tab algn="l" pos="4148280"/>
                <a:tab algn="l" pos="5062680"/>
                <a:tab algn="l" pos="5977080"/>
                <a:tab algn="l" pos="6891480"/>
                <a:tab algn="l" pos="7805880"/>
                <a:tab algn="l" pos="8720280"/>
                <a:tab algn="l" pos="9634680"/>
                <a:tab algn="l" pos="10549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В том числе: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на очную форму обучения – 1090 человек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765000" indent="-765000"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1405080"/>
                <a:tab algn="l" pos="2319480"/>
                <a:tab algn="l" pos="3233880"/>
                <a:tab algn="l" pos="4148280"/>
                <a:tab algn="l" pos="5062680"/>
                <a:tab algn="l" pos="5977080"/>
                <a:tab algn="l" pos="6891480"/>
                <a:tab algn="l" pos="7805880"/>
                <a:tab algn="l" pos="8720280"/>
                <a:tab algn="l" pos="9634680"/>
                <a:tab algn="l" pos="10549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на очно-заочную форму обучения – 500 человек,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на заочную форму обучения – 2835человек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1619280" y="2924280"/>
            <a:ext cx="5715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200" spc="-1" strike="noStrike">
                <a:solidFill>
                  <a:srgbClr val="e2d700"/>
                </a:solidFill>
                <a:latin typeface="Calibri"/>
              </a:rPr>
              <a:t>ФАКУЛЬТЕТЫ</a:t>
            </a:r>
            <a:endParaRPr b="0" lang="en-US" sz="5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57680" y="1052640"/>
            <a:ext cx="206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Социально-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технологически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1206360" cy="1182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7449840" y="692640"/>
            <a:ext cx="1301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Финансов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и учёта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7524720" y="1413000"/>
            <a:ext cx="1189080" cy="1198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5983920" y="45090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Коммерци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3"/>
          <a:stretch/>
        </p:blipFill>
        <p:spPr>
          <a:xfrm>
            <a:off x="6227640" y="4869000"/>
            <a:ext cx="1217880" cy="11937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1619280" y="4509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Юридически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4"/>
          <a:stretch/>
        </p:blipFill>
        <p:spPr>
          <a:xfrm>
            <a:off x="1908000" y="4941720"/>
            <a:ext cx="1190880" cy="1122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0"/>
          <p:cNvSpPr/>
          <p:nvPr/>
        </p:nvSpPr>
        <p:spPr>
          <a:xfrm>
            <a:off x="3458880" y="62100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Экономически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20" name="Group 11"/>
          <p:cNvGrpSpPr/>
          <p:nvPr/>
        </p:nvGrpSpPr>
        <p:grpSpPr>
          <a:xfrm>
            <a:off x="3924360" y="1197000"/>
            <a:ext cx="1041480" cy="1019160"/>
            <a:chOff x="3924360" y="1197000"/>
            <a:chExt cx="1041480" cy="1019160"/>
          </a:xfrm>
        </p:grpSpPr>
        <p:pic>
          <p:nvPicPr>
            <p:cNvPr id="121" name="Picture 12" descr=""/>
            <p:cNvPicPr/>
            <p:nvPr/>
          </p:nvPicPr>
          <p:blipFill>
            <a:blip r:embed="rId5"/>
            <a:stretch/>
          </p:blipFill>
          <p:spPr>
            <a:xfrm>
              <a:off x="3924360" y="1197000"/>
              <a:ext cx="104148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3"/>
            <p:cNvSpPr/>
            <p:nvPr/>
          </p:nvSpPr>
          <p:spPr>
            <a:xfrm>
              <a:off x="3924360" y="1197000"/>
              <a:ext cx="104148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23" name="Line 14"/>
          <p:cNvSpPr/>
          <p:nvPr/>
        </p:nvSpPr>
        <p:spPr>
          <a:xfrm>
            <a:off x="4500720" y="2492280"/>
            <a:ext cx="144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Line 15"/>
          <p:cNvSpPr/>
          <p:nvPr/>
        </p:nvSpPr>
        <p:spPr>
          <a:xfrm flipH="1" flipV="1">
            <a:off x="2482560" y="2563560"/>
            <a:ext cx="506520" cy="47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Line 16"/>
          <p:cNvSpPr/>
          <p:nvPr/>
        </p:nvSpPr>
        <p:spPr>
          <a:xfrm flipV="1">
            <a:off x="6948360" y="2746080"/>
            <a:ext cx="503280" cy="29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Line 17"/>
          <p:cNvSpPr/>
          <p:nvPr/>
        </p:nvSpPr>
        <p:spPr>
          <a:xfrm flipV="1">
            <a:off x="3360600" y="3859200"/>
            <a:ext cx="274680" cy="52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Line 18"/>
          <p:cNvSpPr/>
          <p:nvPr/>
        </p:nvSpPr>
        <p:spPr>
          <a:xfrm flipH="1" flipV="1">
            <a:off x="5794200" y="3858840"/>
            <a:ext cx="314640" cy="561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179280" y="260280"/>
            <a:ext cx="738036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300" spc="-1" strike="noStrike">
                <a:solidFill>
                  <a:srgbClr val="dbf5f9"/>
                </a:solidFill>
                <a:latin typeface="Tahoma"/>
              </a:rPr>
              <a:t>Факультет коммерции</a:t>
            </a:r>
            <a:endParaRPr b="0" lang="en-US" sz="4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042920" y="1905120"/>
            <a:ext cx="4367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14200" y="1989000"/>
            <a:ext cx="83584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Бакалавры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031600.62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Реклама и связи с общественностью"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0700.62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Торговое дело"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10800.62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Агроинженерия"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10900.62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Технология производства и переработки сельскохозяйственной продукции"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Магистры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0700.68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Торговое дело"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10800.68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Агроинженерия"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144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90720" y="4648320"/>
            <a:ext cx="441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987640" y="595008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17520" cy="119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гей</dc:creator>
  <dc:description/>
  <dc:language>en-US</dc:language>
  <cp:lastModifiedBy>Бакайтис Валентина Ивановна</cp:lastModifiedBy>
  <cp:lastPrinted>2011-07-20T04:11:01Z</cp:lastPrinted>
  <dcterms:modified xsi:type="dcterms:W3CDTF">2011-07-26T03:32:13Z</dcterms:modified>
  <cp:revision>11</cp:revision>
  <dc:subject/>
  <dc:title>Слайд 1</dc:title>
</cp:coreProperties>
</file>