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25.png" ContentType="image/png"/>
  <Override PartName="/ppt/media/image13.wmf" ContentType="image/x-wmf"/>
  <Override PartName="/ppt/media/image28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15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6.wmf" ContentType="image/x-wmf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6DA5-F011-4F04-83B3-C38BA14890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A0DF-72A0-4741-B72A-337189CC75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Верхний колонтитул 1"/>
          <p:cNvSpPr/>
          <p:nvPr/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служебного 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Дата 2"/>
          <p:cNvSpPr/>
          <p:nvPr/>
        </p:nvSpPr>
        <p:spPr>
          <a:xfrm>
            <a:off x="3887640" y="0"/>
            <a:ext cx="2968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служебного 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тенциал национальной фармацевтической нау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промышленности является важным показателем возможности государства противодействовать внешним и внутренним угрозам, включая угроз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обальных пандемий и биотеррориз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Лекарственные средства являются важнейшей составляющей современной медицинской помощи и обеспечивают возможность профилактики, диагностики и лечени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ирокого круга заболеваний челове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способствуют увеличению продолжительности жизни людей, повышают качество жиз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держка отечественных производителей фармацевтической продукц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беспечение населения и лечебно-профилактических учреждений здравоохранения отечественными лекарственными препаратами является одним из элементов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карственной безопас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зис ликвидност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онул предприятия реального сектора экономики и серьезно угрожает реализации долгосрочных планов развития промышленности. Хотя лекарственные средства  и являются товаром  с низкой эластичностью спроса, и изменение общей финансовой ситуации не влияет на объемы его потребления, но сложившаяся ситуация с острой нехваткой ликвидности может привести к серьезным проблемам в производственном и торговом сегментах, обусловленным ростом дебиторской и кредиторской задолженности, влекущим к сокращению ассортимента, а следовательно, к негативным социальным последств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8064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55280" y="3689280"/>
            <a:ext cx="8064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5528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772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1920" y="98100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08200" y="98100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55280" y="368928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1920" y="368928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08200" y="368928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E5203-9DF7-498B-9A96-EEAE6AFF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280" y="98100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48D10-AB6A-4D8F-A595-2179E5B2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2CCD7-EF21-4EDC-AADE-7FC01FDD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FF018-76E0-481A-8B7D-F2419A4D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2F179-828B-4C78-9755-336D096D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42920" y="189000"/>
            <a:ext cx="777240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EC02C-5A32-4843-A30B-4AF55C97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28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C9E35-402F-4C09-8C4B-1B14941D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55280" y="98100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772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34DFF-52BC-429C-A841-1D879B42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280" y="3689280"/>
            <a:ext cx="8064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37FFF-F1AE-4857-A42E-5C2C83E4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8064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280" y="3689280"/>
            <a:ext cx="8064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E5DFF-1556-4C17-8881-F93C9E64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28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8772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E7514-21E4-43AF-B7EF-FC8E2F5B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81920" y="98100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08200" y="98100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280" y="368928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81920" y="368928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08200" y="368928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4EEAF-6650-416A-AF12-B091219E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ACCF2F-03BD-47F5-9FB6-2F54F9BF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55280" y="98100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EBF644-12C1-4189-8B66-8C9FC500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EA883B-E9A4-416C-AABD-3FAC598E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A38D25-D00F-4A9C-BB34-3DDF4734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F84B97-05F6-4322-A7ED-154A2010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042920" y="189000"/>
            <a:ext cx="777240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8A5292-1E50-4005-AC17-4D9187EC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5528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5431CA-68B9-4044-BA58-62D81B69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88772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2AA01C-3CC5-4E4D-989D-5AEFEC69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55280" y="3689280"/>
            <a:ext cx="8064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52E34D-BBAB-428D-B6B5-061798CB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8064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55280" y="3689280"/>
            <a:ext cx="8064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B16E09-0B56-4E6D-A564-84E5250B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5528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88772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9235E7-5CFE-4FB3-A210-A19F014A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481920" y="98100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08200" y="98100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55280" y="368928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481920" y="368928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208200" y="368928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E96E4A-EF3C-4B4B-90C4-70247675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C9756A-F016-434C-B720-5D07462C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55280" y="98100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5AC8EC-09DC-48E4-979C-E721440F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E7219D-D0A5-4F4F-BAFE-1477095F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A8FCE0-91BC-4B62-B720-E2F621DD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B6A5EC-EECB-4CE6-8719-BD04374A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042920" y="189000"/>
            <a:ext cx="777240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D88DEB-E9E1-4BC8-9FC8-B61F01E4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5528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AB2B24-C23A-49EB-B5E7-DCF89466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88772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05598A-A3FF-44A3-887E-C20DEC0C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55280" y="3689280"/>
            <a:ext cx="8064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4E44B7-0F54-452E-AFEF-CA5C887A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8064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55280" y="3689280"/>
            <a:ext cx="8064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1785A2-E234-485E-907B-208CAF38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5528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88772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761981-7AA4-47DF-BB81-746F4686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481920" y="98100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08200" y="98100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55280" y="368928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481920" y="368928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208200" y="368928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DD94FA-0151-4134-9152-E40F362A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66CA68-CA23-4B5D-A415-C7FFE7D0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55280" y="98100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A5DEA0-4F3F-4588-8118-6BCB9C86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FF7176-79ED-4340-BDD7-D6290BBC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8858FD-4B4E-4132-866C-757A6F35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C6BCF9-BB61-4304-9E09-96E23C28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042920" y="189000"/>
            <a:ext cx="777240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25DEE9-E999-4BC3-88FB-820D09D8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5528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9A8892-8575-436B-BF73-0B2452FC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8772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2486CE-2ACA-4ADF-8306-560C47B6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55280" y="3689280"/>
            <a:ext cx="8064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C81F2B-ED66-4CFE-855C-695873D4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8064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55280" y="3689280"/>
            <a:ext cx="8064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6AD5B7-0623-40BE-8A37-6D7D97A1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5528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8772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FA4FDA-1D56-40A4-A5AD-F330D208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42920" y="189000"/>
            <a:ext cx="777240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81920" y="98100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08200" y="98100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55280" y="368928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81920" y="368928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208200" y="368928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E88193-A2DE-4482-87E3-B391890D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280" y="98100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42920" y="189000"/>
            <a:ext cx="777240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5528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88772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55280" y="3689280"/>
            <a:ext cx="8064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5528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8064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55280" y="3689280"/>
            <a:ext cx="8064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5528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88772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481920" y="98100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08200" y="98100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55280" y="368928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481920" y="368928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208200" y="368928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3BFEF-B64B-42B2-88F2-C08BAD06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755280" y="98100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A8EC0-3D9F-4CC4-BF3E-419825D1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4E615-F8A4-49E9-9156-3F366113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A0CA3-A639-4766-880C-8B3F1F97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8AD8C-AD07-4C61-802E-804AF8AA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042920" y="189000"/>
            <a:ext cx="777240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5163C-2CCE-438A-9514-BA73B8A7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5528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5384F-2C70-4470-A4FF-206B55C4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772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88772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D9196-BAF2-4C24-96EF-5B0384D1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755280" y="3689280"/>
            <a:ext cx="8064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A4432-7518-4079-AAEB-B092EFDB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8064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755280" y="3689280"/>
            <a:ext cx="8064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E1047-479F-4B1C-A49C-976E1CB2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5528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887720" y="368928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6F5AF-1468-4AA9-B5F3-01AD9752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481920" y="98100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08200" y="98100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755280" y="368928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481920" y="368928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08200" y="3689280"/>
            <a:ext cx="2596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7D06B-1580-4C4D-8838-FF6DF503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7720" y="981000"/>
            <a:ext cx="3935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55280" y="3689280"/>
            <a:ext cx="8064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 Narrow"/>
              </a:rPr>
              <a:t>Click to edit the title text format</a:t>
            </a:r>
            <a:endParaRPr b="1" lang="en-US" sz="2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6699"/>
              </a:solidFill>
              <a:latin typeface="Impact"/>
            </a:endParaRPr>
          </a:p>
          <a:p>
            <a:pPr lvl="1" marL="154080" indent="-154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6699"/>
              </a:solidFill>
              <a:latin typeface="Impact"/>
            </a:endParaRPr>
          </a:p>
          <a:p>
            <a:pPr lvl="2" marL="154080" indent="-154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6699"/>
              </a:solidFill>
              <a:latin typeface="Impact"/>
            </a:endParaRPr>
          </a:p>
          <a:p>
            <a:pPr lvl="3" marL="154080" indent="-154080" algn="ctr">
              <a:spcBef>
                <a:spcPts val="799"/>
              </a:spcBef>
              <a:buClr>
                <a:srgbClr val="666699"/>
              </a:buClr>
              <a:buFont typeface="Impac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6699"/>
              </a:solidFill>
              <a:latin typeface="Impact"/>
            </a:endParaRPr>
          </a:p>
          <a:p>
            <a:pPr lvl="4" marL="154080" indent="-154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6699"/>
              </a:solidFill>
              <a:latin typeface="Impact"/>
            </a:endParaRPr>
          </a:p>
          <a:p>
            <a:pPr lvl="5" marL="154080" indent="-154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6699"/>
              </a:solidFill>
              <a:latin typeface="Impact"/>
            </a:endParaRPr>
          </a:p>
          <a:p>
            <a:pPr lvl="6" marL="154080" indent="-154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6699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700" spc="-1" strike="noStrike">
                <a:solidFill>
                  <a:srgbClr val="8a0f0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8a0f0f"/>
                </a:solidFill>
                <a:latin typeface="Times New Roman"/>
              </a:rPr>
              <a:t>Томск, 13 апреля 2011 г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9640" y="3933720"/>
            <a:ext cx="822960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Impact"/>
              </a:rPr>
              <a:t>Председатель Координационного совета, начальник Департамента потребительского рынка Администрации Том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Impact"/>
              </a:rPr>
              <a:t>ТАЛОВСКИЙ АЛЕКСАНДР ИВАН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F69A-A231-4B4B-81CB-FA28DA8DE0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7B94-9E66-40D2-91E1-91AF5432B5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3420-CFFD-46ED-B70B-E940785FC6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88FB-0105-4B75-9511-05860D2FD38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189000"/>
            <a:ext cx="9143640" cy="1052280"/>
            <a:chOff x="0" y="189000"/>
            <a:chExt cx="9143640" cy="1052280"/>
          </a:xfrm>
        </p:grpSpPr>
        <p:grpSp>
          <p:nvGrpSpPr>
            <p:cNvPr id="211" name=""/>
            <p:cNvGrpSpPr/>
            <p:nvPr/>
          </p:nvGrpSpPr>
          <p:grpSpPr>
            <a:xfrm>
              <a:off x="294840" y="296640"/>
              <a:ext cx="721440" cy="474480"/>
              <a:chOff x="294840" y="296640"/>
              <a:chExt cx="721440" cy="474480"/>
            </a:xfrm>
          </p:grpSpPr>
          <p:sp>
            <p:nvSpPr>
              <p:cNvPr id="212" name=""/>
              <p:cNvSpPr/>
              <p:nvPr/>
            </p:nvSpPr>
            <p:spPr>
              <a:xfrm>
                <a:off x="294840" y="296640"/>
                <a:ext cx="4438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83280" y="296640"/>
                <a:ext cx="333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420480" y="718920"/>
              <a:ext cx="748440" cy="474480"/>
              <a:chOff x="420480" y="718920"/>
              <a:chExt cx="748440" cy="474480"/>
            </a:xfrm>
          </p:grpSpPr>
          <p:sp>
            <p:nvSpPr>
              <p:cNvPr id="215" name=""/>
              <p:cNvSpPr/>
              <p:nvPr/>
            </p:nvSpPr>
            <p:spPr>
              <a:xfrm>
                <a:off x="420480" y="718920"/>
                <a:ext cx="42768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94520" y="718920"/>
                <a:ext cx="3744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0" y="645840"/>
              <a:ext cx="56880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4400" y="189000"/>
              <a:ext cx="3204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320760" y="1010160"/>
              <a:ext cx="88228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4"/>
          </p:nvPr>
        </p:nvSpPr>
        <p:spPr>
          <a:xfrm>
            <a:off x="-360" y="6597360"/>
            <a:ext cx="26449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ahoma"/>
              </a:rPr>
              <a:t>Томск, 13 апреля 2011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5"/>
          </p:nvPr>
        </p:nvSpPr>
        <p:spPr>
          <a:xfrm>
            <a:off x="3527280" y="6461280"/>
            <a:ext cx="5616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ahoma"/>
              </a:rPr>
              <a:t>Координационный Совет по торговле и потребительскому рынку Межрегиональной ассоциации «Сибирское соглашени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79280" y="6307920"/>
            <a:ext cx="8823600" cy="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22F5-602A-457D-B9BF-244ECFED9E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6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6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6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6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6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6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6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6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6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6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6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6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6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lnSpc>
                <a:spcPct val="80000"/>
              </a:lnSpc>
              <a:spcBef>
                <a:spcPts val="2288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 Narrow"/>
              </a:rPr>
              <a:t>Первый Торговый форум Сиби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0" y="0"/>
            <a:ext cx="7650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642960" y="71280"/>
            <a:ext cx="807228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Impact"/>
              </a:rPr>
              <a:t>О проблемах и перспективах развития торговли и потребительского рынка Сиби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8a0f0f"/>
                </a:solidFill>
                <a:latin typeface="Times New Roman"/>
              </a:rPr>
              <a:t>Омск, июль 2011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714240" y="4022640"/>
            <a:ext cx="767268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ТАЛОВСКИЙ АЛЕКСАНДР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едседатель Координационного сове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о торговле и потребительскому рынку МАСС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начальник Департамента потребительского рын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Администрации Томской област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канд. экон. нау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258920" y="74520"/>
            <a:ext cx="748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311120" y="163440"/>
            <a:ext cx="743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403280" y="13284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Основные показатели розничной торговли в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Сибирском федеральном окру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324000" y="907920"/>
          <a:ext cx="4176720" cy="374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07920"/>
                    <a:ext cx="417672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4554360" y="2781360"/>
          <a:ext cx="4589640" cy="388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54360" y="2781360"/>
                    <a:ext cx="458964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258920" y="74520"/>
            <a:ext cx="748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0" y="993600"/>
          <a:ext cx="9072720" cy="586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3600"/>
                    <a:ext cx="907272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1187280" y="115920"/>
            <a:ext cx="743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-102240"/>
            <a:ext cx="7489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Основные показатели розничной торговли в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Сибирском федеральном окру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258920" y="74520"/>
            <a:ext cx="748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"/>
          <p:cNvSpPr/>
          <p:nvPr/>
        </p:nvSpPr>
        <p:spPr>
          <a:xfrm>
            <a:off x="1311120" y="163440"/>
            <a:ext cx="743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03280" y="4377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Оборот общественного питания регионов СФ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258920" y="74520"/>
            <a:ext cx="748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11120" y="163440"/>
            <a:ext cx="743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03280" y="13284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Оборот общественного питания на душу населения, тыс.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0" y="1052640"/>
          <a:ext cx="9144000" cy="58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914400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258920" y="74520"/>
            <a:ext cx="748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311120" y="163440"/>
            <a:ext cx="743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03280" y="13284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Индекс производства пищевых продуктов, включая напитки, и табака за 2010 год, в % к 2009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0" y="1015920"/>
          <a:ext cx="9144000" cy="584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15920"/>
                    <a:ext cx="9144000" cy="58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258920" y="74520"/>
            <a:ext cx="748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311120" y="163440"/>
            <a:ext cx="743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03280" y="13284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Индекс текстильного и швейного производства за 2010 год, в % к 2009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0" y="836640"/>
          <a:ext cx="9144000" cy="602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914400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258920" y="74520"/>
            <a:ext cx="748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311120" y="163440"/>
            <a:ext cx="743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03280" y="13284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Индекс производства кожи, изделий из кожи и производство обуви за 2010 год, в % к 2009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0" y="981000"/>
          <a:ext cx="914400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258920" y="74520"/>
            <a:ext cx="748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311120" y="163440"/>
            <a:ext cx="743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03280" y="13284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Индексы потребительских цен за декабрь 2010 года в процентах к декабрю 200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0" y="1009800"/>
          <a:ext cx="9144000" cy="584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09800"/>
                    <a:ext cx="9144000" cy="58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258920" y="74520"/>
            <a:ext cx="748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311120" y="163440"/>
            <a:ext cx="743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403280" y="13284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Потребительские ожидания в России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в I квартале 201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4352760" cy="2448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4286160" cy="25430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395280" y="3716280"/>
            <a:ext cx="4352760" cy="24382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4643280" y="3716280"/>
            <a:ext cx="430560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258920" y="74520"/>
            <a:ext cx="748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311120" y="163440"/>
            <a:ext cx="743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547640" y="83880"/>
            <a:ext cx="727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ahoma"/>
              </a:rPr>
              <a:t>Мероприятия по реализации Закона № 381-ФЗ от 28.12.2009  «Об основах государственного регулирования торговой деятельности в Российской Федера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Object 3"/>
          <p:cNvGraphicFramePr/>
          <p:nvPr/>
        </p:nvGraphicFramePr>
        <p:xfrm>
          <a:off x="900000" y="1125360"/>
          <a:ext cx="7610760" cy="51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25360"/>
                    <a:ext cx="761076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58920" y="74520"/>
            <a:ext cx="748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11120" y="163440"/>
            <a:ext cx="743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03280" y="4377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Особенности потребительского рын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ahoma"/>
              </a:rPr>
              <a:t>прямо или косвенно отражает экономические отношения между производителем и население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ahoma"/>
              </a:rPr>
              <a:t>наиболее массовый рынок по численности субъектов и объек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ahoma"/>
              </a:rPr>
              <a:t>обладая кумулятивностью, находится во взаимоотношении со всеми без исключения рынк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ahoma"/>
              </a:rPr>
              <a:t>обеспечение жизнеобеспечения людей необходимыми товар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187280" y="4724280"/>
            <a:ext cx="1714680" cy="12384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6588000" y="4724280"/>
            <a:ext cx="1714680" cy="12384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3851280" y="4724280"/>
            <a:ext cx="17143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258920" y="74520"/>
            <a:ext cx="748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311120" y="163440"/>
            <a:ext cx="743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03280" y="439560"/>
            <a:ext cx="7489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Object 3"/>
          <p:cNvGraphicFramePr/>
          <p:nvPr/>
        </p:nvGraphicFramePr>
        <p:xfrm>
          <a:off x="971640" y="1125360"/>
          <a:ext cx="7610400" cy="51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25360"/>
                    <a:ext cx="761040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>
            <a:off x="1547640" y="83880"/>
            <a:ext cx="727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ahoma"/>
              </a:rPr>
              <a:t>Мероприятия по реализации Закона № 381-ФЗ от 28.12.2009  «Об основах государственного регулирования торговой деятельности в Российской Федера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258920" y="74520"/>
            <a:ext cx="748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332000" y="0"/>
            <a:ext cx="7437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258920" y="189000"/>
            <a:ext cx="770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Ключевые показатели торговли в России и развитых странах Европ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0" name="Объект 32" descr=""/>
          <p:cNvPicPr/>
          <p:nvPr/>
        </p:nvPicPr>
        <p:blipFill>
          <a:blip r:embed="rId1"/>
          <a:srcRect l="-1074" t="-2640" r="-1310" b="-2190"/>
          <a:stretch/>
        </p:blipFill>
        <p:spPr>
          <a:xfrm>
            <a:off x="108000" y="1197000"/>
            <a:ext cx="9036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472000" cy="487188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258920" y="74520"/>
            <a:ext cx="748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311120" y="163440"/>
            <a:ext cx="743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33800" y="113760"/>
            <a:ext cx="655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пасибо за 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258920" y="74520"/>
            <a:ext cx="748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00000" y="33156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Преимущества глобализ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55280" y="1196640"/>
            <a:ext cx="8064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экономия на масштабах производства и сокращение издержек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рост производительности труда за счет распространения передовых технологий, развития конкуренции, международной торговли на взаимовыгодных условия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932360" y="3860640"/>
            <a:ext cx="4211640" cy="27608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46432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395280" y="981000"/>
            <a:ext cx="8748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00"/>
                </a:solidFill>
                <a:latin typeface="Tahoma"/>
              </a:rPr>
              <a:t>мыслитель и философ Льюис сказал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Tahoma"/>
              </a:rPr>
              <a:t>«Народы и территории буду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Tahoma"/>
              </a:rPr>
              <a:t>процветать, если научатся торговать!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258920" y="74520"/>
            <a:ext cx="748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311120" y="163440"/>
            <a:ext cx="743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03280" y="4377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Вклад торговли в ВВП и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7"/>
          <p:cNvGraphicFramePr/>
          <p:nvPr/>
        </p:nvGraphicFramePr>
        <p:xfrm>
          <a:off x="395280" y="1052640"/>
          <a:ext cx="8640720" cy="55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052640"/>
                    <a:ext cx="8640720" cy="55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58920" y="74520"/>
            <a:ext cx="748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11120" y="163440"/>
            <a:ext cx="743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03280" y="-232560"/>
            <a:ext cx="7489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Основные показатели розничной торговли в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Сибирском федеральном окру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3058920" cy="29401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5435640" y="4508640"/>
            <a:ext cx="3635280" cy="1368360"/>
          </a:xfrm>
          <a:prstGeom prst="rect">
            <a:avLst/>
          </a:prstGeom>
          <a:ln w="0">
            <a:noFill/>
          </a:ln>
        </p:spPr>
      </p:pic>
      <p:grpSp>
        <p:nvGrpSpPr>
          <p:cNvPr id="337" name=""/>
          <p:cNvGrpSpPr/>
          <p:nvPr/>
        </p:nvGrpSpPr>
        <p:grpSpPr>
          <a:xfrm>
            <a:off x="179280" y="1484280"/>
            <a:ext cx="5111640" cy="4049640"/>
            <a:chOff x="179280" y="1484280"/>
            <a:chExt cx="5111640" cy="4049640"/>
          </a:xfrm>
        </p:grpSpPr>
        <p:sp>
          <p:nvSpPr>
            <p:cNvPr id="338" name=""/>
            <p:cNvSpPr/>
            <p:nvPr/>
          </p:nvSpPr>
          <p:spPr>
            <a:xfrm>
              <a:off x="3678120" y="2060640"/>
              <a:ext cx="925560" cy="2655720"/>
            </a:xfrm>
            <a:custGeom>
              <a:avLst/>
              <a:gdLst/>
              <a:ahLst/>
              <a:rect l="l" t="t" r="r" b="b"/>
              <a:pathLst>
                <a:path w="583" h="1673">
                  <a:moveTo>
                    <a:pt x="160" y="1631"/>
                  </a:moveTo>
                  <a:cubicBezTo>
                    <a:pt x="235" y="1644"/>
                    <a:pt x="277" y="1620"/>
                    <a:pt x="331" y="1576"/>
                  </a:cubicBezTo>
                  <a:cubicBezTo>
                    <a:pt x="343" y="1566"/>
                    <a:pt x="361" y="1560"/>
                    <a:pt x="372" y="1549"/>
                  </a:cubicBezTo>
                  <a:cubicBezTo>
                    <a:pt x="380" y="1541"/>
                    <a:pt x="384" y="1529"/>
                    <a:pt x="393" y="1521"/>
                  </a:cubicBezTo>
                  <a:cubicBezTo>
                    <a:pt x="411" y="1506"/>
                    <a:pt x="436" y="1502"/>
                    <a:pt x="454" y="1487"/>
                  </a:cubicBezTo>
                  <a:cubicBezTo>
                    <a:pt x="490" y="1457"/>
                    <a:pt x="498" y="1444"/>
                    <a:pt x="523" y="1412"/>
                  </a:cubicBezTo>
                  <a:cubicBezTo>
                    <a:pt x="535" y="1377"/>
                    <a:pt x="543" y="1346"/>
                    <a:pt x="564" y="1316"/>
                  </a:cubicBezTo>
                  <a:cubicBezTo>
                    <a:pt x="583" y="1219"/>
                    <a:pt x="573" y="1290"/>
                    <a:pt x="557" y="1089"/>
                  </a:cubicBezTo>
                  <a:cubicBezTo>
                    <a:pt x="553" y="1037"/>
                    <a:pt x="552" y="984"/>
                    <a:pt x="544" y="932"/>
                  </a:cubicBezTo>
                  <a:cubicBezTo>
                    <a:pt x="541" y="910"/>
                    <a:pt x="479" y="771"/>
                    <a:pt x="461" y="753"/>
                  </a:cubicBezTo>
                  <a:cubicBezTo>
                    <a:pt x="426" y="654"/>
                    <a:pt x="336" y="627"/>
                    <a:pt x="242" y="609"/>
                  </a:cubicBezTo>
                  <a:cubicBezTo>
                    <a:pt x="184" y="614"/>
                    <a:pt x="148" y="599"/>
                    <a:pt x="118" y="644"/>
                  </a:cubicBezTo>
                  <a:cubicBezTo>
                    <a:pt x="108" y="682"/>
                    <a:pt x="102" y="718"/>
                    <a:pt x="84" y="753"/>
                  </a:cubicBezTo>
                  <a:cubicBezTo>
                    <a:pt x="63" y="836"/>
                    <a:pt x="64" y="926"/>
                    <a:pt x="16" y="1000"/>
                  </a:cubicBezTo>
                  <a:cubicBezTo>
                    <a:pt x="0" y="1055"/>
                    <a:pt x="1" y="1101"/>
                    <a:pt x="16" y="1158"/>
                  </a:cubicBezTo>
                  <a:cubicBezTo>
                    <a:pt x="28" y="1265"/>
                    <a:pt x="51" y="1369"/>
                    <a:pt x="77" y="1473"/>
                  </a:cubicBezTo>
                  <a:cubicBezTo>
                    <a:pt x="92" y="1532"/>
                    <a:pt x="97" y="1581"/>
                    <a:pt x="132" y="1631"/>
                  </a:cubicBezTo>
                  <a:cubicBezTo>
                    <a:pt x="134" y="1638"/>
                    <a:pt x="132" y="1649"/>
                    <a:pt x="139" y="1652"/>
                  </a:cubicBezTo>
                  <a:cubicBezTo>
                    <a:pt x="162" y="1662"/>
                    <a:pt x="189" y="1661"/>
                    <a:pt x="214" y="1665"/>
                  </a:cubicBezTo>
                  <a:cubicBezTo>
                    <a:pt x="259" y="1673"/>
                    <a:pt x="221" y="1672"/>
                    <a:pt x="242" y="1672"/>
                  </a:cubicBezTo>
                  <a:lnTo>
                    <a:pt x="109" y="1497"/>
                  </a:lnTo>
                  <a:lnTo>
                    <a:pt x="246" y="1633"/>
                  </a:lnTo>
                  <a:lnTo>
                    <a:pt x="33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9280" y="1484280"/>
              <a:ext cx="5111640" cy="38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0400" y="2403360"/>
              <a:ext cx="4803840" cy="202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6800" y="2531880"/>
              <a:ext cx="237960" cy="1897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6800" y="2531880"/>
              <a:ext cx="237960" cy="189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95120" y="3909960"/>
              <a:ext cx="238320" cy="5191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95120" y="3909960"/>
              <a:ext cx="238320" cy="51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95240" y="3922560"/>
              <a:ext cx="238320" cy="506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95240" y="3922560"/>
              <a:ext cx="238320" cy="50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93920" y="4157640"/>
              <a:ext cx="247680" cy="2714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93920" y="4157640"/>
              <a:ext cx="2476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903400" y="3427200"/>
              <a:ext cx="236520" cy="10018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03400" y="3427200"/>
              <a:ext cx="236520" cy="100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02080" y="3876480"/>
              <a:ext cx="237960" cy="552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02080" y="3876480"/>
              <a:ext cx="237960" cy="55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01840" y="3840120"/>
              <a:ext cx="236520" cy="588960"/>
            </a:xfrm>
            <a:prstGeom prst="rect">
              <a:avLst/>
            </a:prstGeom>
            <a:solidFill>
              <a:srgbClr val="69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01840" y="3840120"/>
              <a:ext cx="236520" cy="58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00520" y="4205160"/>
              <a:ext cx="237960" cy="223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00520" y="4205160"/>
              <a:ext cx="237960" cy="22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400" y="4429080"/>
              <a:ext cx="480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20400" y="4428720"/>
              <a:ext cx="180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919080" y="4428720"/>
              <a:ext cx="1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519200" y="4428720"/>
              <a:ext cx="1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2117520" y="4428720"/>
              <a:ext cx="180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725560" y="4428720"/>
              <a:ext cx="180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325680" y="4428720"/>
              <a:ext cx="180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925800" y="4428720"/>
              <a:ext cx="1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524120" y="4428720"/>
              <a:ext cx="180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124240" y="4428720"/>
              <a:ext cx="180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0640" y="2709720"/>
              <a:ext cx="4203720" cy="1141560"/>
            </a:xfrm>
            <a:custGeom>
              <a:avLst/>
              <a:gdLst/>
              <a:ahLst/>
              <a:rect l="l" t="t" r="r" b="b"/>
              <a:pathLst>
                <a:path w="477" h="97">
                  <a:moveTo>
                    <a:pt x="0" y="35"/>
                  </a:moveTo>
                  <a:lnTo>
                    <a:pt x="68" y="55"/>
                  </a:lnTo>
                  <a:lnTo>
                    <a:pt x="136" y="0"/>
                  </a:lnTo>
                  <a:lnTo>
                    <a:pt x="204" y="8"/>
                  </a:lnTo>
                  <a:lnTo>
                    <a:pt x="273" y="60"/>
                  </a:lnTo>
                  <a:lnTo>
                    <a:pt x="341" y="97"/>
                  </a:lnTo>
                  <a:lnTo>
                    <a:pt x="409" y="80"/>
                  </a:lnTo>
                  <a:lnTo>
                    <a:pt x="477" y="8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3640" y="3087720"/>
              <a:ext cx="52200" cy="6804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17" y="0"/>
                  </a:moveTo>
                  <a:lnTo>
                    <a:pt x="33" y="21"/>
                  </a:lnTo>
                  <a:lnTo>
                    <a:pt x="17" y="4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91960" y="3321000"/>
              <a:ext cx="54000" cy="7128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17" y="0"/>
                  </a:moveTo>
                  <a:lnTo>
                    <a:pt x="34" y="22"/>
                  </a:lnTo>
                  <a:lnTo>
                    <a:pt x="17" y="43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792080" y="2674800"/>
              <a:ext cx="52560" cy="698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17" y="0"/>
                  </a:moveTo>
                  <a:lnTo>
                    <a:pt x="33" y="21"/>
                  </a:lnTo>
                  <a:lnTo>
                    <a:pt x="17" y="43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92200" y="2768400"/>
              <a:ext cx="52560" cy="716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16" y="0"/>
                  </a:moveTo>
                  <a:lnTo>
                    <a:pt x="33" y="21"/>
                  </a:lnTo>
                  <a:lnTo>
                    <a:pt x="16" y="43"/>
                  </a:lnTo>
                  <a:lnTo>
                    <a:pt x="0" y="2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00240" y="3381120"/>
              <a:ext cx="52560" cy="698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16" y="0"/>
                  </a:moveTo>
                  <a:lnTo>
                    <a:pt x="33" y="21"/>
                  </a:lnTo>
                  <a:lnTo>
                    <a:pt x="16" y="43"/>
                  </a:lnTo>
                  <a:lnTo>
                    <a:pt x="0" y="2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98920" y="3816360"/>
              <a:ext cx="52200" cy="7128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17" y="0"/>
                  </a:moveTo>
                  <a:lnTo>
                    <a:pt x="33" y="21"/>
                  </a:lnTo>
                  <a:lnTo>
                    <a:pt x="17" y="43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98680" y="3616200"/>
              <a:ext cx="52560" cy="6984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16" y="0"/>
                  </a:moveTo>
                  <a:lnTo>
                    <a:pt x="33" y="21"/>
                  </a:lnTo>
                  <a:lnTo>
                    <a:pt x="16" y="42"/>
                  </a:lnTo>
                  <a:lnTo>
                    <a:pt x="0" y="2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797360" y="3616200"/>
              <a:ext cx="52200" cy="6984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17" y="0"/>
                  </a:moveTo>
                  <a:lnTo>
                    <a:pt x="33" y="21"/>
                  </a:lnTo>
                  <a:lnTo>
                    <a:pt x="17" y="4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10960" y="40273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55,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12640" y="375768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637,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13720" y="39924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787,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88640" y="371160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544,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96320" y="373356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490,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29800" y="328608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976,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82480" y="36860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739,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7880" y="23558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5604,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80800" y="34272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03,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80120" y="29448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07,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78560" y="30988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05,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48640" y="25686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09,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18600" y="32162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05,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55000" y="35924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02,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20200" y="34034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03,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31240" y="24858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09,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5440" y="4500360"/>
              <a:ext cx="49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Централ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04240" y="4500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8360" y="4653000"/>
              <a:ext cx="18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ный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53000" y="4500360"/>
              <a:ext cx="383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Северо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368000" y="4500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43640" y="4653000"/>
              <a:ext cx="47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Западный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67520" y="4500360"/>
              <a:ext cx="38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Южный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59720" y="4500360"/>
              <a:ext cx="35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Северо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49160" y="4500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06080" y="4653000"/>
              <a:ext cx="52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Кавказский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31760" y="4500360"/>
              <a:ext cx="454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Привол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01480" y="4500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46240" y="4653000"/>
              <a:ext cx="20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ский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14240" y="4500360"/>
              <a:ext cx="52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Уральский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014360" y="4500360"/>
              <a:ext cx="538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Сибирский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54800" y="4500360"/>
              <a:ext cx="38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Дальн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65120" y="4500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19520" y="4653000"/>
              <a:ext cx="50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восточный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98280" y="4935600"/>
              <a:ext cx="23040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971280" y="5084640"/>
              <a:ext cx="230400" cy="7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60360" y="5013360"/>
              <a:ext cx="31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орот розничной торговли, млрд. рубле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41240" y="488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71280" y="5300640"/>
              <a:ext cx="2383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60360" y="5229000"/>
              <a:ext cx="343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ндекс физического объема оборота розничной торговли, в % к 2009 г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61840" y="5064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75600" y="1590480"/>
              <a:ext cx="21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борот розничной торгов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18240" y="1790640"/>
              <a:ext cx="382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 федеральным округам Российской Феде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17400" y="19908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в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05960" y="199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2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42560" y="198900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год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5796000" y="1268280"/>
            <a:ext cx="287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Доля федеральных округов в розничном обороте России,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58920" y="74520"/>
            <a:ext cx="748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1187280" y="115920"/>
            <a:ext cx="743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258920" y="-102240"/>
            <a:ext cx="7489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Основные показатели розничной торговли в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Сибирском федеральном окру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258920" y="74520"/>
            <a:ext cx="748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11120" y="163440"/>
            <a:ext cx="743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403280" y="-232560"/>
            <a:ext cx="7489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Основные показатели розничной торговли в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Сибирском федеральном окру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971640" y="1125360"/>
          <a:ext cx="7424640" cy="539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25360"/>
                    <a:ext cx="7424640" cy="53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258920" y="74520"/>
            <a:ext cx="748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403280" y="-232560"/>
            <a:ext cx="7489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Основные показатели розничной торговли в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Сибирском федеральном окру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79280" y="1052640"/>
          <a:ext cx="8964720" cy="58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896472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4:49:28Z</dcterms:created>
  <dc:creator>Пользователь</dc:creator>
  <dc:description/>
  <dc:language>en-US</dc:language>
  <cp:lastModifiedBy>gammer</cp:lastModifiedBy>
  <dcterms:modified xsi:type="dcterms:W3CDTF">2011-07-18T08:54:39Z</dcterms:modified>
  <cp:revision>9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