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9E3-2F77-4A96-9637-9FD0FD54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A51-ECF9-48BE-BF3D-940355F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B9B-23B1-4F28-BB05-50CBDA24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D0F-4EDB-4AF7-BDCE-CD16C9E1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FCF0-844F-49A1-8597-D4454F24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6921-1CFB-4FDD-B3EC-864FF5E6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38A2-53F8-418C-A193-7F14966E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453-C7E1-4E51-9772-6C81892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0A78-4390-479F-B4AB-51FB8DD5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4F9F-3ACF-4B97-9B65-7102C38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0877-B4A1-4FEC-AD05-82DC0CB5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CE1-92A5-422C-8A34-B337CEB2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887F-660E-4EC8-8460-0CF1D21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0E67-5DD1-4F2B-94BE-3374029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8BD-1C07-498F-971A-11EAB4AA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1A59-31E6-4E97-A410-30C8B1B1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D437-BB97-4607-A701-D987CEEF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66A-64E8-4E48-94E5-F4985586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7DF-8F01-41C6-BF02-DF71A8E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E75-3054-4850-BDEB-E07E9AF6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EED-0663-43CE-955D-88193049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7D6-9ADF-4FAE-A69F-D37E575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DE2-95EC-451D-97FD-F8C424D1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0E7-9500-4F9D-A367-060E968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25AC-8394-459D-8981-E479ADC1BA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B6A6-60FF-412C-B276-DA1CC65A3F9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ГОУ ВПО «Омский государственный аграрный университет»</a:t>
            </a:r>
            <a:br>
              <a:rPr sz="2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100"/>
            </a:br>
            <a:br>
              <a:rPr sz="1000"/>
            </a:b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АНО ВПО «Омский экономический институт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ологический факультет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38080" y="228600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2100"/>
            </a:br>
            <a:br>
              <a:rPr sz="10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блемы и перспективы подготовки профессиональных кадров для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индустрии пит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667640" y="6248520"/>
            <a:ext cx="123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айд - </a:t>
            </a:r>
            <a:fld id="{817BFE95-4AE8-4239-9508-7217E2E3D7A1}" type="slidenum">
              <a:rPr b="1" lang="ru-RU" sz="1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32" descr="C:\Users\Соловьёвы\Desktop\logo.jpg"/>
          <p:cNvPicPr/>
          <p:nvPr/>
        </p:nvPicPr>
        <p:blipFill>
          <a:blip r:embed="rId1"/>
          <a:stretch/>
        </p:blipFill>
        <p:spPr>
          <a:xfrm>
            <a:off x="7215120" y="609480"/>
            <a:ext cx="19288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467480" y="6248520"/>
            <a:ext cx="1436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айд - </a:t>
            </a:r>
            <a:fld id="{3AA38379-BCA1-4269-88AC-D021D6E388E1}" type="slidenum">
              <a:rPr b="1" lang="ru-RU" sz="1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667640" y="6248520"/>
            <a:ext cx="123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айд - </a:t>
            </a:r>
            <a:fld id="{9C1EC30C-7175-48CE-B2BD-F864ADC1F2F1}" type="slidenum">
              <a:rPr b="1" lang="ru-RU" sz="1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технологического факульте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1447920" y="2209680"/>
            <a:ext cx="6324480" cy="3892680"/>
            <a:chOff x="1447920" y="2209680"/>
            <a:chExt cx="6324480" cy="3892680"/>
          </a:xfrm>
        </p:grpSpPr>
        <p:sp>
          <p:nvSpPr>
            <p:cNvPr id="106" name="AutoShape 7"/>
            <p:cNvSpPr/>
            <p:nvPr/>
          </p:nvSpPr>
          <p:spPr>
            <a:xfrm>
              <a:off x="1447920" y="2209680"/>
              <a:ext cx="6324480" cy="38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3636720" y="3912480"/>
              <a:ext cx="1946520" cy="72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Технологический факульт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1496160" y="5250240"/>
              <a:ext cx="1702080" cy="851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Кафедра технологии продуктов питания и сервиса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5753160" y="5250240"/>
              <a:ext cx="1816560" cy="847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Кафедра экологии и естественнонаучных дисциплин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569240" y="2453040"/>
              <a:ext cx="2311200" cy="1094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Научно-исследовательская и экспериментальная лаборатория технологии и качества продуктов питания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5753160" y="2453040"/>
              <a:ext cx="1945800" cy="85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Учебно-производственный комбина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5947920" y="4520880"/>
              <a:ext cx="729360" cy="60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 flipV="1">
              <a:off x="2834280" y="3547440"/>
              <a:ext cx="60804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 flipH="1">
              <a:off x="2956320" y="4520880"/>
              <a:ext cx="55872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 flipV="1">
              <a:off x="5947920" y="3426120"/>
              <a:ext cx="72936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636720" y="5372640"/>
              <a:ext cx="1825200" cy="608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Тренинговый центр компании «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ational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8"/>
            <p:cNvSpPr/>
            <p:nvPr/>
          </p:nvSpPr>
          <p:spPr>
            <a:xfrm>
              <a:off x="4610160" y="4764240"/>
              <a:ext cx="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Лабораторная база факульте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Рисунок 2" descr="Лаборатория организации и обслуживания, барного дела"/>
          <p:cNvPicPr/>
          <p:nvPr/>
        </p:nvPicPr>
        <p:blipFill>
          <a:blip r:embed="rId1"/>
          <a:stretch/>
        </p:blipFill>
        <p:spPr>
          <a:xfrm>
            <a:off x="4952880" y="838080"/>
            <a:ext cx="3353040" cy="2641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Лаборатория аналитической, физической и коллоидной химии и физико-химических методов анализа, 227 ауд."/>
          <p:cNvPicPr/>
          <p:nvPr/>
        </p:nvPicPr>
        <p:blipFill>
          <a:blip r:embed="rId2"/>
          <a:stretch/>
        </p:blipFill>
        <p:spPr>
          <a:xfrm>
            <a:off x="4952880" y="3809880"/>
            <a:ext cx="3429000" cy="2659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Лаборатория микробиологии, санитарии и гигиены питания, 224 ауд."/>
          <p:cNvPicPr/>
          <p:nvPr/>
        </p:nvPicPr>
        <p:blipFill>
          <a:blip r:embed="rId3"/>
          <a:stretch/>
        </p:blipFill>
        <p:spPr>
          <a:xfrm>
            <a:off x="838080" y="3733920"/>
            <a:ext cx="3589560" cy="271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SC_0387"/>
          <p:cNvPicPr/>
          <p:nvPr/>
        </p:nvPicPr>
        <p:blipFill>
          <a:blip r:embed="rId4"/>
          <a:srcRect l="11510" t="0" r="0" b="0"/>
          <a:stretch/>
        </p:blipFill>
        <p:spPr>
          <a:xfrm>
            <a:off x="762120" y="762120"/>
            <a:ext cx="3646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нинговый центр компании «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tional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базе факульт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7667640" y="6248520"/>
            <a:ext cx="123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айд - </a:t>
            </a:r>
            <a:fld id="{5D588182-CD8F-45B9-85E5-6F7E8E56C8A3}" type="slidenum">
              <a:rPr b="1" lang="ru-RU" sz="1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IMG_4897"/>
          <p:cNvPicPr/>
          <p:nvPr/>
        </p:nvPicPr>
        <p:blipFill>
          <a:blip r:embed="rId2"/>
          <a:stretch/>
        </p:blipFill>
        <p:spPr>
          <a:xfrm>
            <a:off x="4343400" y="17524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Logo A"/>
          <p:cNvPicPr/>
          <p:nvPr/>
        </p:nvPicPr>
        <p:blipFill>
          <a:blip r:embed="rId3"/>
          <a:stretch/>
        </p:blipFill>
        <p:spPr>
          <a:xfrm>
            <a:off x="7238880" y="1143000"/>
            <a:ext cx="1231920" cy="34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MG_2563"/>
          <p:cNvPicPr/>
          <p:nvPr/>
        </p:nvPicPr>
        <p:blipFill>
          <a:blip r:embed="rId4"/>
          <a:stretch/>
        </p:blipFill>
        <p:spPr>
          <a:xfrm>
            <a:off x="304920" y="43434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учно-инновационная деятельность по усовершенствованию школьного пит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7543800" y="6248520"/>
            <a:ext cx="144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айд - </a:t>
            </a:r>
            <a:fld id="{55B19C1B-8751-4A68-AACA-908F33C25198}" type="slidenum">
              <a:rPr b="1" lang="ru-RU" sz="1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Рисунок 4" descr="F:\Захват5.bmp"/>
          <p:cNvPicPr/>
          <p:nvPr/>
        </p:nvPicPr>
        <p:blipFill>
          <a:blip r:embed="rId1"/>
          <a:srcRect l="2146" t="3416" r="3902" b="2928"/>
          <a:stretch/>
        </p:blipFill>
        <p:spPr>
          <a:xfrm>
            <a:off x="457200" y="1676520"/>
            <a:ext cx="3284640" cy="26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Рисунок 7" descr=""/>
          <p:cNvPicPr/>
          <p:nvPr/>
        </p:nvPicPr>
        <p:blipFill>
          <a:blip r:embed="rId2"/>
          <a:srcRect l="34748" t="26253" r="17093" b="17419"/>
          <a:stretch/>
        </p:blipFill>
        <p:spPr>
          <a:xfrm>
            <a:off x="3962520" y="1600200"/>
            <a:ext cx="414792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благод"/>
          <p:cNvPicPr/>
          <p:nvPr/>
        </p:nvPicPr>
        <p:blipFill>
          <a:blip r:embed="rId3"/>
          <a:stretch/>
        </p:blipFill>
        <p:spPr>
          <a:xfrm>
            <a:off x="457200" y="4419720"/>
            <a:ext cx="1581120" cy="2209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благод"/>
          <p:cNvPicPr/>
          <p:nvPr/>
        </p:nvPicPr>
        <p:blipFill>
          <a:blip r:embed="rId4"/>
          <a:stretch/>
        </p:blipFill>
        <p:spPr>
          <a:xfrm>
            <a:off x="2173320" y="4419720"/>
            <a:ext cx="1631880" cy="2209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3"/>
          <p:cNvPicPr/>
          <p:nvPr/>
        </p:nvPicPr>
        <p:blipFill>
          <a:blip r:embed="rId5"/>
          <a:srcRect l="1650" t="0" r="2305" b="0"/>
          <a:stretch/>
        </p:blipFill>
        <p:spPr>
          <a:xfrm>
            <a:off x="3886200" y="4648320"/>
            <a:ext cx="14256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Учебно-производственный комбина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4" descr="IMG_8754"/>
          <p:cNvPicPr/>
          <p:nvPr/>
        </p:nvPicPr>
        <p:blipFill>
          <a:blip r:embed="rId1"/>
          <a:stretch/>
        </p:blipFill>
        <p:spPr>
          <a:xfrm>
            <a:off x="228600" y="8380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IMG_8752"/>
          <p:cNvPicPr/>
          <p:nvPr/>
        </p:nvPicPr>
        <p:blipFill>
          <a:blip r:embed="rId2"/>
          <a:stretch/>
        </p:blipFill>
        <p:spPr>
          <a:xfrm>
            <a:off x="4343400" y="762120"/>
            <a:ext cx="3505320" cy="2620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Технологи ДПО 2009 78"/>
          <p:cNvPicPr/>
          <p:nvPr/>
        </p:nvPicPr>
        <p:blipFill>
          <a:blip r:embed="rId3"/>
          <a:srcRect l="3696" t="0" r="1717" b="0"/>
          <a:stretch/>
        </p:blipFill>
        <p:spPr>
          <a:xfrm>
            <a:off x="380880" y="3770280"/>
            <a:ext cx="3429000" cy="289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Технологи ДПО 2009 77"/>
          <p:cNvPicPr/>
          <p:nvPr/>
        </p:nvPicPr>
        <p:blipFill>
          <a:blip r:embed="rId4"/>
          <a:srcRect l="2656" t="0" r="3018" b="0"/>
          <a:stretch/>
        </p:blipFill>
        <p:spPr>
          <a:xfrm>
            <a:off x="4419720" y="3733920"/>
            <a:ext cx="350496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Лабораторное занятие по дисциплине «Технология кулинарной продукции за рубежом», шеф-повар ресторана «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Bevitore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»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Тарасов Роман Михайлович (выпускник факультета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4" descr="DSC_0951"/>
          <p:cNvPicPr/>
          <p:nvPr/>
        </p:nvPicPr>
        <p:blipFill>
          <a:blip r:embed="rId1"/>
          <a:stretch/>
        </p:blipFill>
        <p:spPr>
          <a:xfrm>
            <a:off x="1371600" y="1447920"/>
            <a:ext cx="70992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Лабораторное занятие по дисциплине «Технология кондитерских изделий», Левченко Елена Валерьевна,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директор кафе «Дольче Вита», (выпускница факультета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4" descr="DSC_0412"/>
          <p:cNvPicPr/>
          <p:nvPr/>
        </p:nvPicPr>
        <p:blipFill>
          <a:blip r:embed="rId1"/>
          <a:stretch/>
        </p:blipFill>
        <p:spPr>
          <a:xfrm>
            <a:off x="1447920" y="2017800"/>
            <a:ext cx="67183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Лабораторное занятие по дисциплине «Барное дело»  - Бибик Андрей Геннадьевич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(член гильдии барменов России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DSC_0373"/>
          <p:cNvPicPr/>
          <p:nvPr/>
        </p:nvPicPr>
        <p:blipFill>
          <a:blip r:embed="rId1"/>
          <a:stretch/>
        </p:blipFill>
        <p:spPr>
          <a:xfrm>
            <a:off x="762120" y="175248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SC_0412"/>
          <p:cNvPicPr/>
          <p:nvPr/>
        </p:nvPicPr>
        <p:blipFill>
          <a:blip r:embed="rId2"/>
          <a:stretch/>
        </p:blipFill>
        <p:spPr>
          <a:xfrm>
            <a:off x="4876920" y="1828800"/>
            <a:ext cx="3592440" cy="238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DSC_0425"/>
          <p:cNvPicPr/>
          <p:nvPr/>
        </p:nvPicPr>
        <p:blipFill>
          <a:blip r:embed="rId3"/>
          <a:stretch/>
        </p:blipFill>
        <p:spPr>
          <a:xfrm>
            <a:off x="2819520" y="4343400"/>
            <a:ext cx="3365280" cy="22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7-21T08:25:50Z</dcterms:modified>
  <cp:revision>1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