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AA6-027F-4615-86A7-6C7A2E2C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5C4-A3FD-43A4-AB26-87292EC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013-83CC-4FFB-A796-727885A0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72B-0C3A-429D-B4BB-566237BE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E686-BE16-4758-920E-1C313DF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14C-1F00-49E3-B813-FC43AF88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8DC-A369-41C8-8D85-F693A0C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7C2-A69E-4721-A3BC-8DDEE8AD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A2E7-54BC-44AD-B5EF-2F8CAFEF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4BBE-8ED1-4BF3-8156-94C16FE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2A2F-3677-459F-A847-860D338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9CA-7546-4754-B5E6-3C83EAC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50A-55E0-4E06-8466-FF6CC0E1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6C8C-A3FD-40BD-A26F-41EE42C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7C30-36C1-42B5-8401-7C0D0255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58C-0005-4317-83E8-17EDA6E9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1FA3-C023-40C2-990E-47F3E8F8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B8C-DF1D-42BD-AE3E-DBA0161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D41-44B6-4824-84DB-3FC237F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3AB-A56F-41DC-BD2B-B044F422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F6E-41FF-409F-B479-B92D727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BCF-A70C-4D2E-B98D-418D164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84C-86F3-46A3-A3FC-127F767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37B-D9F1-4D53-A42B-DA0282C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D535-02AC-4872-8525-A439A656A3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8AD-17CA-4152-9EEE-A06B4C5DFC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15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333000"/>
            <a:ext cx="403848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Анализ кач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товаров и услуг по СФ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07000" y="4952880"/>
            <a:ext cx="3827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О.Н. Иштулк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66ccff"/>
                </a:solidFill>
                <a:latin typeface="Tahoma"/>
              </a:rPr>
              <a:t>Руководитель отдела организации независимой экспертной оценки Международного конкурса «Лучшие товары и услуги ЕВРАЗИИ-ГЕММ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3240360" cy="309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3280" y="260280"/>
            <a:ext cx="403884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260280"/>
            <a:ext cx="403884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99000" y="260280"/>
            <a:ext cx="2745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04560" y="358920"/>
            <a:ext cx="7294680" cy="13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Из решения конференции  Союза потребителей России от 17 декабря 2010 года.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ущественно замедлился в последние годы, если не остановился, и рост позитивных показателей правового сознания и поведения потребителей. До сих пор 20% граждан ничего не знают о своих потребительских правах, 37% потребителей даже не пытаются защититься, когда нарушают их прав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02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продолжени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рьезнейшей проблемой для потребителей и защитников их прав становится массовое неисполнение судебных решений.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Если в 2005 г. не исполнялось каждое четверто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решение суда, вынесенное в пользу потребителя, то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в 2009 г. не были исполнены более трети решени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Пробелы в законодательстве позволяют недобросовестным предпринимателям уходить от ответственности, фиктивно меняя юридическое лицо, или же выводить средства со счетов, не давая возможности взыскать с них даже небольшие суммы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324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ной из форм защиты гражданских прав является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досудебная защи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 которая заключается в  урегулировании спорных вопросов непосредственно между предпринимателями  и потребителями до передачи дела в су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ктика работы показывает, что настойчивое намерение потребителя отстаивать свои права в суде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в отдельных случаях вынуждает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продавцов (исполнителей)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удовлетворять законные требования потребителя в доброволь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720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ффективный подход к вопросу выбора форм и методов защиты нарушенных прав потребителей возможен только на основе сочетания мер административной и гражданско-правовой ответ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удебная защита прав потребителей осуществляется в соответствии с Гражданским кодексом РФ, Законом РФ « О защите прав потребителей», а также иными нормативно-правовыми актами, регламентирующими отношения в сфере защиты прав потребителей в следующих форма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обращение в судебные органы с заявлениями в защиту неопределенного круга потребителей, а также с заявлениями о ликвидации продавцов за неоднократное нарушение прав потреби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частие в рассмотрении судебными органами дел в форме дачи заключения по делу в целях защиты прав потреб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27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нако эффективность применения законодательства о защите прав потребителей и контроль за его соблюдением требуют не только наличия законодательной базы, но и формирования прогрессивной потребительской политики, адекватной уровню развития экономики и общества, и включающей в себя правовое, организационное, информационное, просветительское и ряд других направ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ятельность по защите прав потребителей федерального округа должна быть направлена на обеспечение единых принципов практической деятельности органов, занимающихся защитой прав потребителей в субъектах округа, а также на формирование единообразного понимания и применения законодательства о защите прав потребителей, выработке единых подходов к вопросам реализации потребительской политики в федеральном округ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Перед системой защиты прав потребителей СФО стоит цель – обеспечение возможности жителям реализовать свои потребительские права на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риобретение товаров (работ, услуг) надлежащего качества и безопасных для жизни, здоровья и имущества потребителей, окружающе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олучение достоверной и полной информации о товарах (работах, услугах) и об их изготовителях (исполнителях, продавцах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равовое просвещение в области защиты прав потребител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государственную и общественную защиту интересов граждан – потребителей товаров (работ, услуг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Реализация этой цели предусматривает совокупное решение следующих основных задач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овышение эффективности функционирования действующей системы защиты прав и законных интересов граждан-потребител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расширение взаимодействия исполнительных органов государственной власти округа, органов местного самоуправления и федеральных исполнительных органов в выработке согласованных действий в области защиты прав потребител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овышение правовой грамотности населения по вопросам защиты прав потребителей, формирование навыков рационального потребительского поведения, повышение культуры предпринимательства на потребительском рынке товаров и услуг ок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7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795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ним из основных прав потребителей, предусмотренных международным и российским  потребительским законодательством, является право на качество и безопасность товаров (работ, услуг). Качественное оказания услуг, своевременное выполнение работ, продажа  товара соответствующего качества обуславливает более комфортный уровень жизни населен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27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осударство много делает для юридических лиц и индивидуальных предпринимателей для упрощения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веденный Федеральный закон от 26.12.08 </a:t>
            </a: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егламентировал деятельность надзорных орга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статочно уведомить о начале осуществления вида предпринимательской деятельности, но это  накладывает и большую ответственность на предпринимателя. </a:t>
            </a: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Уведомлением подтверждается, что деятельность будет осуществляться с соблюдением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юридическим лицом, индивидуальным предпринимателем </a:t>
            </a: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обязательных требований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 а также о соответствии их работников, осуществляемой ими предпринимательской деятельности и предназначенных для использования в процессе осуществления ими предпринимательской деятельности территорий, зданий, строений, сооружений, помещений, оборудования, подобных объектов, транспортных средств обязательным требованиям и требованиям, установленным муниципальными правовыми актами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Доля проб продуктов и продовольственного сырья, не отвечающих гигиеническим нормативам по санитарно-химическим показателям (%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413000"/>
          <a:ext cx="8229600" cy="5255640"/>
        </p:xfrm>
        <a:graphic>
          <a:graphicData uri="http://schemas.openxmlformats.org/drawingml/2006/table">
            <a:tbl>
              <a:tblPr/>
              <a:tblGrid>
                <a:gridCol w="3675240"/>
                <a:gridCol w="1400040"/>
                <a:gridCol w="1398600"/>
                <a:gridCol w="1755720"/>
              </a:tblGrid>
              <a:tr h="83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аименование административных террито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0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1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емп прироста/убы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1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Ты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Хак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3,6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лтай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Забайкаль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раснояр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ркут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емеров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овосибир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1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СФ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Доля проб продуктов и продовольственного сырья, не отвечающих гигиеническим нормативам по микробиологическим показателям (%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341360"/>
          <a:ext cx="8229600" cy="5278680"/>
        </p:xfrm>
        <a:graphic>
          <a:graphicData uri="http://schemas.openxmlformats.org/drawingml/2006/table">
            <a:tbl>
              <a:tblPr/>
              <a:tblGrid>
                <a:gridCol w="3841920"/>
                <a:gridCol w="1463760"/>
                <a:gridCol w="1461960"/>
                <a:gridCol w="1461960"/>
              </a:tblGrid>
              <a:tr h="89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аименование административных террито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0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1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емп прироста/убы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2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Ты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2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Хак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лтай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Забайкаль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раснояр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ркут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емеров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овосибир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СФ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ahoma"/>
              </a:rPr>
              <a:t>Забракованное продовольственное сырье и пищевые продукты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125360"/>
          <a:ext cx="8229600" cy="5535720"/>
        </p:xfrm>
        <a:graphic>
          <a:graphicData uri="http://schemas.openxmlformats.org/drawingml/2006/table">
            <a:tbl>
              <a:tblPr/>
              <a:tblGrid>
                <a:gridCol w="3708360"/>
                <a:gridCol w="1595520"/>
                <a:gridCol w="1514520"/>
                <a:gridCol w="14112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аименование административных террито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Число парт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0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1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емп прироста/у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2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2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Ты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5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Хак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2,4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лтай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Забайкаль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2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раснояр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2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ркут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4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2,2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емеров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9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1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овосибир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1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1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СФ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227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29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3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Забракованное продовольственное сырье и пищевые продукты</a:t>
            </a:r>
            <a:r>
              <a:rPr b="1" lang="en-US" sz="16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925560"/>
          <a:ext cx="8229600" cy="5835600"/>
        </p:xfrm>
        <a:graphic>
          <a:graphicData uri="http://schemas.openxmlformats.org/drawingml/2006/table">
            <a:tbl>
              <a:tblPr/>
              <a:tblGrid>
                <a:gridCol w="3689280"/>
                <a:gridCol w="1585800"/>
                <a:gridCol w="1551240"/>
                <a:gridCol w="1403280"/>
              </a:tblGrid>
              <a:tr h="6264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аименование административных террито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бъем (тон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0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1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емп прироста/у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,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2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4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0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7,8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3,9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Ты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6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,4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7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Хак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,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7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2,5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лтай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3,6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7,1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4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Забайкаль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9,4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7,6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расноярский 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8,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65,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2.8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ркут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8,0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емеров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5,2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3,2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6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овосибир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8,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0,9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-8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.7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00, 7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в 35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ом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4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СФ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348,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578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Arial Cyr"/>
                          <a:ea typeface="Arial"/>
                        </a:rPr>
                        <a:t>6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Количество обращений на нарушения прав потребителей в Управления Роспотребнадзора за 2010 год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628640"/>
          <a:ext cx="8713800" cy="4724280"/>
        </p:xfrm>
        <a:graphic>
          <a:graphicData uri="http://schemas.openxmlformats.org/drawingml/2006/table">
            <a:tbl>
              <a:tblPr/>
              <a:tblGrid>
                <a:gridCol w="3168720"/>
                <a:gridCol w="2087640"/>
                <a:gridCol w="1746360"/>
                <a:gridCol w="1711080"/>
              </a:tblGrid>
              <a:tr h="7776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дминистратив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террито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Количество обращ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з ни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удельный вес по торгов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удельный вес по услуг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Новосибир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2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Алтайский кр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82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7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4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Республика Алт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Иркут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27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Международном конкурсе «Лучшие товары и услуги Евразии-ГЕММА» в 2010 году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 Сибири принимали участие предприятия и в номинации  «Продовольственная группа товаров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 проведении независимой экспертизы пищевых продуктов участников заявленных на конкурс, выявлялась продукция не отвечающая нормативным требованиям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результатам лабораторных исследований у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16 юридически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лиц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родукция не отвечала нормативам по микробиологическим и физико-химическим показателям, что составило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21,9%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Удельный вес нестандартных проб составил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26,9%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0:38:14Z</dcterms:created>
  <dc:creator>Машунина О.А.</dc:creator>
  <dc:description/>
  <dc:language>en-US</dc:language>
  <cp:lastModifiedBy>ТАНЮШКА</cp:lastModifiedBy>
  <dcterms:modified xsi:type="dcterms:W3CDTF">2011-07-19T04:52:54Z</dcterms:modified>
  <cp:revision>108</cp:revision>
  <dc:subject/>
  <dc:title>Слайд 1</dc:title>
</cp:coreProperties>
</file>