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AF8B-96E7-473D-9927-B2C5802DD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3A1-699C-42ED-B1D6-06BC7E21AB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9CD5-1067-4C46-8775-3830840DD9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D6D0-206E-49C7-A90B-C02DE62076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D9D9-69DF-4375-8D45-6D46B4B6E5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2A0-E72E-4053-A9F6-28A60F5A4E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5F4E-337B-47A7-BCA2-E9E1377905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8CBD-F16D-40F8-A6D6-6BD4C84FCD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3167-4759-44A1-9598-59271CD2BE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C70F-1F56-4E6B-9B88-FE25C6EBBE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8D54-338F-4870-884E-A925DE3BF1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4E76-97C0-41D1-AC23-C9403BB958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C98-09B5-4AE5-9B7E-9FF1E72E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78C-45BE-4DFC-B4B0-F2116EF5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011-F7F2-4DC2-B781-84CB75E3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47D-4B42-44E0-A81C-52A50ADD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50F-703F-45CC-B193-1E2BE7EB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F68-CE4D-4AA1-9960-0F10DA13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10D-C9CF-4783-93FC-32688EA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423-A5AB-49F4-A935-889C2171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413-6124-41DD-AC5E-2BB4AAA5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AF0-D54C-4D8C-AA06-195F828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685-FF80-42CA-95D5-11CFABBF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B04-2139-4F85-B88F-0A414563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D7E4-ED82-4185-B2D3-56BE1B4FB3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НОУ ВПО Центросоюза РФ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Сибирский университет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отребительской кооперации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. Новосибирск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77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C:\Documents and Settings\BakVI\Рабочий стол\СибУПК Информация для стенда\СибУПК фото\DSC_0158.JPG"/>
          <p:cNvPicPr/>
          <p:nvPr/>
        </p:nvPicPr>
        <p:blipFill>
          <a:blip r:embed="rId1"/>
          <a:stretch/>
        </p:blipFill>
        <p:spPr>
          <a:xfrm>
            <a:off x="762120" y="1828800"/>
            <a:ext cx="784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C:\Documents and Settings\BakVI\Рабочий стол\СибУПК Информация для стенда\СибУПК фото\sibupk (142).JPG"/>
          <p:cNvPicPr/>
          <p:nvPr/>
        </p:nvPicPr>
        <p:blipFill>
          <a:blip r:embed="rId1"/>
          <a:stretch/>
        </p:blipFill>
        <p:spPr>
          <a:xfrm>
            <a:off x="152280" y="380880"/>
            <a:ext cx="8971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2" descr="C:\Documents and Settings\BakVI\Рабочий стол\СибУПК Информация для стенда\СибУПК фото\02.jpg"/>
          <p:cNvPicPr/>
          <p:nvPr/>
        </p:nvPicPr>
        <p:blipFill>
          <a:blip r:embed="rId1"/>
          <a:stretch/>
        </p:blipFill>
        <p:spPr>
          <a:xfrm>
            <a:off x="2133720" y="457200"/>
            <a:ext cx="6629400" cy="617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BakVI\Рабочий стол\СибУПК Информация для стенда\СибУПК фото\01.jpg"/>
          <p:cNvPicPr/>
          <p:nvPr/>
        </p:nvPicPr>
        <p:blipFill>
          <a:blip r:embed="rId2"/>
          <a:stretch/>
        </p:blipFill>
        <p:spPr>
          <a:xfrm>
            <a:off x="-68400" y="412920"/>
            <a:ext cx="41832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НОУ ВПО Центросоюза РФ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Сибирский университет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отребительской кооперации</a:t>
            </a:r>
            <a:br>
              <a:rPr sz="24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«КОНЦЕПЦИЯ РАЗВИТИЯ ЦЕНТРА МОНИТОРИНГА КАЧЕСТВА И БЕЗОПАСНОСТИ ТОВАРОВ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Учебно-научный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пытательный центр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струк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4343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аборатор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рганолептического и физико-химического контр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ЦР- лаборато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пределение ГМИ/ГМ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81480" y="2666520"/>
            <a:ext cx="33530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аборато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ктериологического контр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04920" y="2666880"/>
            <a:ext cx="4495680" cy="3124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181480" y="2666880"/>
            <a:ext cx="3505320" cy="3124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ПОСЫЛКИ СОЗДАНИЯ ЦЕНТРА –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ализация государственной политики на региональном уровн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ТЕГИЦЕСКАЯ ЦЕЛ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ыщение потребительского рынка качественными и безопасными товарами на осно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системного контроля качества и безопасности (мониторинг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обеспечение добросовестной  конкурен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повышение престижа местных товаропроизв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оздание Центра мониторинг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зволи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иверситет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7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полнять требования ФГОС по обеспечению профессиональных компетенций выпускников и их социальной адап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7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ключиться в реализацию государственной политики обеспечения качества и безопасности товаров на региональном уров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рганам государственной исполнительной власти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уществлять содействие: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Повышению доступности населению качественных и безопасных потребительских товаро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Решению проблем торговли и потребительского рынк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рганизациям торговл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–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5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учение достоверных данных о качестве и безопасности товаров для формирования договорных отношений с поставщиками (производителя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5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действие потребителям в компетентном выборе товаров ры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28600" y="152280"/>
            <a:ext cx="8686800" cy="73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ятельность Центра мониторинга должна быть направлена на решение следующих задач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действие потребителям в компетентном выборе това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аботка рекомендаций для товаропроизводителей по улучшению качества  това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ка выставок, ярмарок, работы конкурсных комиссий, подтверждающих престиж потребительских товаров и товаропроизводите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вещение в средствах массовой информации вопросов качества и безопасности продуктов пит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ка, переподготовка и повышение квалификации кадров по вопросам контроля качества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бучение руководителей и специалистов организаций малого и среднего бизнеса по вопросам современных технологий производства и управления качеств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68120" y="14256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инансирование со стороны органов государственной власти, органов местного самоуправ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анты от отечественных или международных фон­д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инансовая поддержка от юридических или физических лиц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аз на проведение мониторинга со стороны средств массовой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редства, поступающие от продажи печатных издан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304920" y="15228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сточники финансирования программ по мониторингу каче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Сибирскому университету потребительской кооперации – 55 лет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5000"/>
              </a:lnSpc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ед тем, как достичь этой даты, вуз прошел многие этапы становления, развития, и превратился в ведущий университет Западно-Сибирского региона по подготовке специалистов для потребительской сфе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95000"/>
              </a:lnSpc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марте 1956 года, в соответствии с постановлением Совета Министров СССР и Правления Центросоюза СССР для подготовки специалистов в организации потребительской кооперации Сибири, Урала, Дальнего Востока и частично Казахстана в Новосибирске открыт кооперативный институт советской кооперативной торговли – НИСК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Сибирский университет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отребительской кооперации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сегодня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962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5738 выпускников за 55 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 факульте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3 кафед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 иногородних подраз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коло 13000 студентов на очной и заочной формах обу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вместе с филиалам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600" y="1676160"/>
            <a:ext cx="3967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ка специалист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ысшим профессиональным образованием по 16 специальност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 средним профессиональным образованием по 6 специальност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гистров по 14 направлен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калавров по 17 направлен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" y="73332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888 преподавателе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включая филиалы)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среди них ученые степени и звания имеют 602 человека, среди них профессоров и докторов наук – 13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учные исследования по 5 комплексным проблемам, по шести отраслям на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спирантура по 6 направлениям (технические, экономические, юридические, педагогические, социологические, географические науки) и 11 специальност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ссертационные советы по защите докторских и кандидатских диссертаций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ономика и управление народным хозяйством (экономика, организация и управление предприятиями, отраслями, комплексами: сфера услу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ономика и управление народным хозяйством (маркетин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ухгалтерский учет, стати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304920" y="609480"/>
            <a:ext cx="86104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уществление взаимодействи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 торговыми и производственными предприятиями, научными и образовательными учреждениями, торгово-промышленными палатами, органами Роспотребнадзора и др. в учебной, научно-исследовательской и профессиональных сферах по проблемам торговли и потребительского ры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истема дополнительного профессионального образован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Центр дополнительного профессионального образования СибУПК систематически проводит мониторинг потребностей рынка труда в специалистах, на основе которого разрабатываются современные программы курсов повышения квалификации и профессиональной подготовки. Все программы дополнительного профессионального образования соответствуют международным стандартам, отражают современное состояние экономики и бизне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57200" y="623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304920" y="623880"/>
            <a:ext cx="8001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ально-техническая б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есть учебных корпу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иблиотечный корпу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уденческие общеж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ртивные з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авательный бассей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сстановительно-реабилитационный цент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уденческая база отдыха на берегу Новосибирского водохранилищ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0" descr="C:\Documents and Settings\BakVI\Рабочий стол\СибУПК Информация для стенда\СибУПК фото\--.jpg"/>
          <p:cNvPicPr/>
          <p:nvPr/>
        </p:nvPicPr>
        <p:blipFill>
          <a:blip r:embed="rId1"/>
          <a:stretch/>
        </p:blipFill>
        <p:spPr>
          <a:xfrm>
            <a:off x="-1157400" y="-380880"/>
            <a:ext cx="1146024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10" descr="C:\Documents and Settings\BakVI\Рабочий стол\СибУПК Информация для стенда\СибУПК фото\студ.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C:\Documents and Settings\BakVI\Рабочий стол\СибУПК Информация для стенда\СибУПК фото\20_1.jpg"/>
          <p:cNvPicPr/>
          <p:nvPr/>
        </p:nvPicPr>
        <p:blipFill>
          <a:blip r:embed="rId1"/>
          <a:stretch/>
        </p:blipFill>
        <p:spPr>
          <a:xfrm>
            <a:off x="-9715680" y="-6095880"/>
            <a:ext cx="28575360" cy="190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кайтис Валентина Ивановна</cp:lastModifiedBy>
  <cp:lastPrinted>2011-07-20T04:33:48Z</cp:lastPrinted>
  <dcterms:modified xsi:type="dcterms:W3CDTF">2011-07-20T04:34:25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