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76116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9CCE-3014-435A-BDC7-FF1E34BA4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CF62-2F45-4216-8143-0EFD662F7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1A0B40-A450-4C18-B3A8-BDE071D08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010B78-E97A-4EDB-B32E-4D76B9A5E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969867-331F-4B9F-84CF-8B68F0E2A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0B5075-9F26-4828-AB30-C690D18D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9805D5-DADD-4593-939D-92989770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ACDE5C-4906-4A60-9D19-90A35BF9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13CCF8-B65F-43DE-87B2-F78FCC78E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CB530B-06F4-4F89-B8A9-F4084ABDD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B1A9B7-0021-4E02-BDEA-CCC694914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3A78-D7D7-4CB0-BE6C-B757B8332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8FF6-8424-425F-AE8E-5351CA0B5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73FC2-1B2B-4D6E-B304-6387E6B59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56CE0-E691-4E08-8B7A-3A6E45218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ACB27-1723-4C4A-A4C8-9AB2BE79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7FA22-CF1E-4A85-96A0-9E71BEC06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782F7-9E3E-4403-915E-233163D71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CEF1C-AEE3-4B5C-BD33-0B7ADF52F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5CAC1-8F90-4289-A606-52CD9606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4CE3-7A2D-45B3-90AC-077F52DD9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1B428-E721-4363-B663-0768B69D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6AAA5-D988-4F81-8B2C-8F7FCD6C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42000-EEC8-479A-BFFF-6F24EF249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17B8C-590A-4095-BE65-D2F23E417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49080-A63E-4043-B83C-8969097FF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53278-4469-4E0B-8181-F492D3F23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F1C0F-9968-4AED-B741-CC40E93C8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8FED3-5203-461C-9860-7CC5AD48B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80A03-354A-4395-A94E-6A44F1BC4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13436-1F72-4392-82E3-5D05740F8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BD86-CA01-4E80-A80C-420B388F0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21A7F-E9C5-4019-9FE2-2BD539477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B8B50-606C-47B8-9AE4-54A7A89E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08F60-5100-4ABA-A415-1F268AEB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FBF97-A794-4C15-8148-D12A2AA7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ED4FF-76D7-4919-999D-842E8E44A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98BB1-6661-4C2B-8ED9-C38C3A1E2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6FA0C-FFB4-48F5-BC53-54205D31A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C65A47-E96D-4568-AEDC-38D60C20B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3B32C0-8AB8-4BDF-91CA-B7F085B54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356D58-3333-42AD-8F85-AEA2545CD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65FF-8635-479E-AB22-9539EE29D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BF4825-BDCD-4D2F-AB1D-88C2EF0F0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063905-6425-41AA-A57A-0D118C0F0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8612BB-F94B-4A7F-AAF0-3E0ED15D4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A6D9A7-D7D3-43CF-BFA3-9A256D8A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5F5DA7-BC1F-4F5E-9104-0B8AF853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E1A322-227A-4ADA-A7D2-5FA16C27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23A020-C6D7-4D0E-A3DA-C0506E443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4C3C44-7E15-4B61-9532-3933EFC95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E0387E-053B-4AD4-A65F-258A09706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F12B59-6CAE-4C2D-906F-CD3D26526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7D2A-7CD4-4020-8CE9-3DF626532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063CE0-76E8-47EA-B933-4F4096537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72435A-4264-4364-BDD9-CAA2BBA57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FBA1F2-DD60-48FF-B78D-7F2860393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E464FD-5EA0-40CB-B035-8EEA9886B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07AB65-3D7D-4223-A8DE-F5D024EC7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B6F374-4E7F-4810-B71C-BC141929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650202-4012-4CC5-9DBD-951C0128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83911E-2C47-4553-AB16-90E8956D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A29EAB-7F34-404F-9A6F-5B2D22F85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05E94A-9C42-4183-B8C1-0F1076BF0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6117-7F2D-405F-812E-00EA41A9D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A9C2AF-9D32-4A07-8122-2EDF95A43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09C8AE-CD42-40AA-8AEF-D659BC993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34C5FE-9719-48E7-A605-4C7C23DE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C75708-AD10-4850-B6E2-BE3C0C8E2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1D8F2B-A7B4-4998-A0DD-ACCD5737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427636-2DF5-469D-AF03-4FB615F51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6F7A7C-2201-49C9-AC26-BDBBCB0FB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B87778-916B-40C9-B78E-C81094A5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267C1D-CF89-4C63-A941-B0E43548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981E3B-BB8D-4B65-892A-33471522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A1BF-B176-45BF-83FE-22F28D67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487EBF-CC81-4EBD-AB7C-F9AA85A84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408C19-0680-4C1E-8FE6-57555FA3E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A92470-8868-4999-A840-7B1215E04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6E1CF-356C-4D44-869D-3B541E888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DD5D6-3C8D-47EE-BC8C-36B36AA59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40D63-B9FC-41ED-882A-D8D905A61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58DAF-FEF3-4D5F-A47A-B08F75AE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CF567-09CC-420E-8260-FC96681E5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BF558A-0F95-4A62-8197-F862C6662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1B6DA-CB39-4B79-92AE-3BD88E2E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2EED-7379-4117-BB1E-BDDE3FEB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EFA040-DA86-4A56-BEDA-B36180A8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B8AFE5-9E5C-4A99-8164-E74D772D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24C49D-4E1F-4FF3-BF1C-EED42E4B5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A5797E-599E-41AF-9483-E649E0B18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DAB233-7ECD-404F-85CE-66FA41A3B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A32ADB-BA42-4967-B7B7-4EF0CCD22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61ADB3-175F-49D4-BAF3-1A6F8AEC0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8D44AF-6C2B-4819-AF11-F5815284D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4D8887-2DC8-43F8-B3D5-53A799985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9D4305-3D2D-48B5-8B1A-70A5331B4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BE5F-2363-416F-B292-E8BCD0B2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432882-4285-4816-80DD-49198E86D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BF675E-E56D-469A-AB29-92379812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354B4F-6512-424B-9422-886A5E8D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BAED53-CF57-4635-9424-7382D521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3FBC04-4F7E-494F-907D-AFE54DE36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338859-FCE4-48F3-990E-F4817F8A1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95FD20-4D1F-4772-8A4B-724326896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02011F-CF0F-48F1-B8F6-B0AAA4511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6BD023-A6A5-4FE1-A2A7-D8A5DFFBD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1F7D66-2179-4C21-9102-7505A461F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69F74-7047-4E65-A126-BE433CEE94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ac66b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de6c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f9b6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559D4-13B5-4809-A1EC-4248B81CE78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ик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угольник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ac66b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de6c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f9b6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4410E-B733-459B-995E-B57E265B194D}" type="slidenum">
              <a:rPr b="1" lang="en-US" sz="14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Прямоугольник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Прямоугольник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ac66b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de6c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f9b6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1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9464A-7234-4588-ABD4-39958D3B0409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ac66b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de6c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f9b6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EB5C9-0335-4469-AF59-734852B2D27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ac66b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de6c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f9b6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sldNum" idx="1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D252-C8EC-4B17-809A-27EE34CC7F0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ftr" idx="1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ac66b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de6c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f9b6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2C378-6F3C-4403-9DC0-FF7682B9002E}" type="slidenum">
              <a:rPr b="1" lang="en-US" sz="14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Прямоугольник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Прямоугольник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Прямоугольник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Прямоугольник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ac66b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de6c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f9b6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22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23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9B792-2BDD-42F3-848F-F618DFAD7324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24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Прямоугольник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Прямоугольник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Прямоугольник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ac66b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de6c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f9b6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25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26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27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F6A39-C49E-492A-94C2-3AB8D28A1BC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96a8"/>
            </a:gs>
            <a:gs pos="100000">
              <a:srgbClr val="f5e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Проблемы экономического равновесия в территориальном развит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феры потребительских услуг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нд. экон. наук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цент кафедры менеджмен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ибирский университет потребительской коопер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г.Новосибирск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лена Александровна РАЗОМАСО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Количество предприятий общественного питания, осуществляющих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реализацию кофе в ассортименте на 1000 жителей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на 01.01.2010 года по районам города Новосибирс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457200" y="1268280"/>
          <a:ext cx="8229600" cy="5562720"/>
        </p:xfrm>
        <a:graphic>
          <a:graphicData uri="http://schemas.openxmlformats.org/drawingml/2006/table">
            <a:tbl>
              <a:tblPr/>
              <a:tblGrid>
                <a:gridCol w="2319480"/>
                <a:gridCol w="2139840"/>
                <a:gridCol w="1923840"/>
                <a:gridCol w="1846440"/>
              </a:tblGrid>
              <a:tr h="1224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райо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енность населения, проживающего в районе, тыс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предприятий в район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е количество предприятий на 1000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8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ельцо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2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ни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22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ет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5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0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лини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41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езнодорож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1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ро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48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зержи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74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май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по Новосибирск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91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13f9a"/>
                </a:solidFill>
                <a:latin typeface="Calibri"/>
              </a:rPr>
              <a:t>Количество человек на одно предприятие общественного питания, осуществляющего реализацию кофе на 01.01.200</a:t>
            </a:r>
            <a:r>
              <a:rPr b="0" lang="en-US" sz="2400" spc="-1" strike="noStrike">
                <a:solidFill>
                  <a:srgbClr val="b13f9a"/>
                </a:solidFill>
                <a:latin typeface="Calibri"/>
              </a:rPr>
              <a:t>8</a:t>
            </a:r>
            <a:r>
              <a:rPr b="0" lang="ru-RU" sz="2400" spc="-1" strike="noStrike">
                <a:solidFill>
                  <a:srgbClr val="b13f9a"/>
                </a:solidFill>
                <a:latin typeface="Calibri"/>
              </a:rPr>
              <a:t> г. </a:t>
            </a:r>
            <a:br>
              <a:rPr sz="2400"/>
            </a:br>
            <a:r>
              <a:rPr b="0" lang="ru-RU" sz="2400" spc="-1" strike="noStrike">
                <a:solidFill>
                  <a:srgbClr val="b13f9a"/>
                </a:solidFill>
                <a:latin typeface="Calibri"/>
              </a:rPr>
              <a:t>в городах России и за рубежом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сточник: ttp://www.pitportal.ru.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"/>
          <p:cNvSpPr/>
          <p:nvPr/>
        </p:nvSpPr>
        <p:spPr>
          <a:xfrm>
            <a:off x="0" y="441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0" y="1413000"/>
          <a:ext cx="9144000" cy="544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13000"/>
                    <a:ext cx="9144000" cy="54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7" name=""/>
          <p:cNvSpPr/>
          <p:nvPr/>
        </p:nvSpPr>
        <p:spPr>
          <a:xfrm>
            <a:off x="0" y="44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13f9a"/>
                </a:solidFill>
                <a:latin typeface="Calibri"/>
              </a:rPr>
              <a:t>Если число действующий  предприятий потребительских услуг на территории города не достигнет необходимого роста по отношению к спросу, то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экономического равновесия между спросом и предложением не произойдет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охраниться  доминирующее положение большинства производителей (особенно, находящихся в центральных частях города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цены на услуги будут высоки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Calibri"/>
              </a:rPr>
              <a:t>Высокие цены на потребительские услуги – </a:t>
            </a:r>
            <a:r>
              <a:rPr b="1" lang="en-US" sz="3200" spc="-1" strike="noStrike">
                <a:solidFill>
                  <a:srgbClr val="b13f9a"/>
                </a:solidFill>
                <a:latin typeface="Calibri"/>
              </a:rPr>
              <a:t>следствие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b13f9a"/>
                </a:solidFill>
                <a:latin typeface="Calibri"/>
              </a:rPr>
              <a:t>Причи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низкий уровень конкуренции в отрасл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"/>
          <p:cNvSpPr/>
          <p:nvPr/>
        </p:nvSpPr>
        <p:spPr>
          <a:xfrm>
            <a:off x="539640" y="2620080"/>
            <a:ext cx="8209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Ценовой интерес потребителей по отношению к чашке кофе среди жителей Новосибирске находится на уровне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0-90 руб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за ед. при фактическом ценовом предложении на рынке (на 01.01.2010 г.)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75-130 руб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оводимые нами опросы посетителей кофеен города сняли для нас вопрос «Готов ли потребитель приобретать более одной чашки в день любимого сорта кофе при более низкой цене?». Все респонденты (175 чел.) дали однозначный ответ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«Да»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Calibri"/>
              </a:rPr>
              <a:t>Каким образом возможно достижение экономического интереса потребителей и производителей услуг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вет: «Возможно, применяя принципы равновесия Курно.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ная полную себестоимость приготовления одной чашки кофе (по данным компани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velers Coffee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, которая составляет 35 руб. и ценовой интерес потребителей, мы определили уровень допустимой рентабельности  в  20%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лее искомым в задаче является число фирм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ри заданных значениях себестоимости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35) и норме рентабельности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0,2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Реше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755640" y="1197000"/>
                <a:ext cx="763272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nc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69" name=""/>
          <p:cNvSpPr/>
          <p:nvPr/>
        </p:nvSpPr>
        <p:spPr>
          <a:xfrm>
            <a:off x="755640" y="3254760"/>
            <a:ext cx="813744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= 0,2 число фирм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равно 3237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равните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фактически в городе всего 434 предприятия, специализирующихся на приготовлении кофе. Расчетное значение обеспеченности пр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n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= 3237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1000 жителей в Новосибирске будет составлять 2,3 (сейчас – 0,3). Тогда средняя расчетная цена чашки кофе будет соответствовать уровню цен, сложившемуся в европейских городах 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1,2€)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Напрашивается вывод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тратегия развития сферы потребительских услуг на территории поселения может строиться только на равновес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"/>
          <p:cNvSpPr/>
          <p:nvPr/>
        </p:nvSpPr>
        <p:spPr>
          <a:xfrm>
            <a:off x="684360" y="3213000"/>
            <a:ext cx="29509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609480" indent="-60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"/>
          <p:cNvSpPr/>
          <p:nvPr/>
        </p:nvSpPr>
        <p:spPr>
          <a:xfrm>
            <a:off x="611280" y="3284640"/>
            <a:ext cx="2665440" cy="165708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609480" indent="-60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Покупательно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способ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"/>
          <p:cNvSpPr/>
          <p:nvPr/>
        </p:nvSpPr>
        <p:spPr>
          <a:xfrm>
            <a:off x="3924360" y="3213000"/>
            <a:ext cx="1942920" cy="16560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609480" indent="-60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Ценам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на услуг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"/>
          <p:cNvSpPr/>
          <p:nvPr/>
        </p:nvSpPr>
        <p:spPr>
          <a:xfrm>
            <a:off x="6516720" y="3284640"/>
            <a:ext cx="2016000" cy="143964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609480" indent="-60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Объемам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предлож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"/>
          <p:cNvSpPr/>
          <p:nvPr/>
        </p:nvSpPr>
        <p:spPr>
          <a:xfrm>
            <a:off x="3203640" y="3789360"/>
            <a:ext cx="718920" cy="576360"/>
          </a:xfrm>
          <a:prstGeom prst="leftRightArrow">
            <a:avLst>
              <a:gd name="adj1" fmla="val 50000"/>
              <a:gd name="adj2" fmla="val 24831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"/>
          <p:cNvSpPr/>
          <p:nvPr/>
        </p:nvSpPr>
        <p:spPr>
          <a:xfrm>
            <a:off x="5796000" y="3789360"/>
            <a:ext cx="792000" cy="503280"/>
          </a:xfrm>
          <a:prstGeom prst="leftRightArrow">
            <a:avLst>
              <a:gd name="adj1" fmla="val 50000"/>
              <a:gd name="adj2" fmla="val 3132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"/>
          <p:cNvSpPr/>
          <p:nvPr/>
        </p:nvSpPr>
        <p:spPr>
          <a:xfrm>
            <a:off x="4470840" y="5661000"/>
            <a:ext cx="48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Благодарю за внимание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42840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180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Сфера потребительских услуг – территор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180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эластичного спроса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18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18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Как любая экономическая система сфера потребительских услуг может формироваться в условиях определенного экономического равновесия, предполагающего баланс межд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18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3f9a"/>
                </a:solidFill>
                <a:latin typeface="Calibri"/>
              </a:rPr>
              <a:t>Покупательной способностью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(соответствующей экономическим возможностям населения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18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3f9a"/>
                </a:solidFill>
                <a:latin typeface="Calibri"/>
              </a:rPr>
              <a:t>Ценами на услуги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18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3f9a"/>
                </a:solidFill>
                <a:latin typeface="Calibri"/>
              </a:rPr>
              <a:t>Объемами предложения услуг на рынке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18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18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Следовательно, РАВНОВЕСИ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1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рассматривается как состояние некой стабильности интересов противоположных сил на рынке (потребителей и производителей услуг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2876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словие экономического равновесия  противоположных рыночных сил заключено в теори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урно – Нэш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гласно которо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личие </a:t>
            </a:r>
            <a:r>
              <a:rPr b="1" lang="en-US" sz="2400" spc="-1" strike="noStrike">
                <a:solidFill>
                  <a:srgbClr val="b83d68"/>
                </a:solidFill>
                <a:latin typeface="Calibri"/>
              </a:rPr>
              <a:t>N-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изводителей на отдельно взятой территор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лучат планируемую </a:t>
            </a:r>
            <a:r>
              <a:rPr b="1" lang="ru-RU" sz="2400" spc="-1" strike="noStrike">
                <a:solidFill>
                  <a:srgbClr val="b83d68"/>
                </a:solidFill>
                <a:latin typeface="Calibri"/>
              </a:rPr>
              <a:t>П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 есл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стижение желаемого экономическое равновесия необходимо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"/>
          <p:cNvSpPr/>
          <p:nvPr/>
        </p:nvSpPr>
        <p:spPr>
          <a:xfrm>
            <a:off x="5796000" y="4076640"/>
            <a:ext cx="2592360" cy="865080"/>
          </a:xfrm>
          <a:prstGeom prst="rect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купательска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пособ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"/>
          <p:cNvSpPr/>
          <p:nvPr/>
        </p:nvSpPr>
        <p:spPr>
          <a:xfrm>
            <a:off x="684360" y="4076640"/>
            <a:ext cx="2305080" cy="574560"/>
          </a:xfrm>
          <a:prstGeom prst="rect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Це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"/>
          <p:cNvSpPr/>
          <p:nvPr/>
        </p:nvSpPr>
        <p:spPr>
          <a:xfrm>
            <a:off x="3851280" y="414972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"/>
          <p:cNvSpPr/>
          <p:nvPr/>
        </p:nvSpPr>
        <p:spPr>
          <a:xfrm>
            <a:off x="2987640" y="4365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4932360" y="4365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68360" y="549000"/>
            <a:ext cx="850104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83d68"/>
                </a:solidFill>
                <a:latin typeface="Calibri"/>
              </a:rPr>
              <a:t>Нарушение экономического равновесия в сфере потребительских услуг связано с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Низкой численностью действующих предприятий, оказывающих услуги по отношению с реальному спрос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Неравномерным территориальным расположение предприятий, оказывающих потребительские услуги  относительно постоянных  мест проживания и работы насел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Неизменно ведет к снижению объемов предложения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росту цен на услуги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1979640" y="3283560"/>
            <a:ext cx="5761080" cy="8636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"/>
          <p:cNvSpPr/>
          <p:nvPr/>
        </p:nvSpPr>
        <p:spPr>
          <a:xfrm>
            <a:off x="4788000" y="4149720"/>
            <a:ext cx="504720" cy="430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"/>
          <p:cNvSpPr/>
          <p:nvPr/>
        </p:nvSpPr>
        <p:spPr>
          <a:xfrm>
            <a:off x="3348000" y="2276640"/>
            <a:ext cx="287280" cy="374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97560 h 3744720"/>
              <a:gd name="textAreaBottom" fmla="*/ 3647160 h 37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"/>
          <p:cNvSpPr/>
          <p:nvPr/>
        </p:nvSpPr>
        <p:spPr>
          <a:xfrm>
            <a:off x="1547640" y="4221000"/>
            <a:ext cx="223920" cy="1800360"/>
          </a:xfrm>
          <a:custGeom>
            <a:avLst/>
            <a:gdLst>
              <a:gd name="textAreaLeft" fmla="*/ 143280 w 223920"/>
              <a:gd name="textAreaRight" fmla="*/ 224280 w 22392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"/>
          <p:cNvSpPr/>
          <p:nvPr/>
        </p:nvSpPr>
        <p:spPr>
          <a:xfrm>
            <a:off x="3780000" y="3789360"/>
            <a:ext cx="2304720" cy="216000"/>
          </a:xfrm>
          <a:prstGeom prst="downArrowCallout">
            <a:avLst>
              <a:gd name="adj1" fmla="val 266775"/>
              <a:gd name="adj2" fmla="val 266750"/>
              <a:gd name="adj3" fmla="val 16667"/>
              <a:gd name="adj4" fmla="val 6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3d68"/>
                </a:solidFill>
                <a:latin typeface="Times New Roman"/>
                <a:ea typeface="Times New Roman"/>
              </a:rPr>
              <a:t>Города России сегодня (на 01.01.2009 г.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b83d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83d68"/>
                </a:solidFill>
                <a:latin typeface="Calibri"/>
              </a:rPr>
              <a:t>11 городов  миллионеров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b83d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83d68"/>
                </a:solidFill>
                <a:latin typeface="Calibri"/>
              </a:rPr>
              <a:t>24 города с численностью от 500 тыс. до 1 мл.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b83d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83d68"/>
                </a:solidFill>
                <a:latin typeface="Calibri"/>
              </a:rPr>
              <a:t>39 городов с численностью от 250 тыс. до 500 ты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b83d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83d68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b83d68"/>
                </a:solidFill>
                <a:latin typeface="Calibri"/>
              </a:rPr>
              <a:t>91 город с численностью от 100 тыс. до 250 тыс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Это более чем 50% от всего населения страны!  Люди, претендующие на доступные территориально и по ценам услуги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83d68"/>
                </a:solidFill>
                <a:latin typeface="Calibri"/>
              </a:rPr>
              <a:t>В России не существует обязательных норм обеспечения предприятиями сферы услуг населения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динственный полулегальный документ  – морально устаревшие СНиП 2.07.01 = 89, согласно которым на  1000 жителей города, одновременно проживающих на  территории пешеходной доступности в радиусе 500 м должно находиться не менее 2-х предприятий, оказывающих потребительские услуг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 таким услугам относят все бытовые (их по ОКУН 16 основных видов, из которых 13  - взяты нами для исследования+1 предприятие общественного питания 1 предприятие розничной торговли прод.товарами=</a:t>
            </a:r>
            <a:r>
              <a:rPr b="0" lang="ru-RU" sz="2800" spc="-1" strike="noStrike">
                <a:solidFill>
                  <a:srgbClr val="b13f9a"/>
                </a:solidFill>
                <a:latin typeface="Calibri"/>
              </a:rPr>
              <a:t>15</a:t>
            </a:r>
            <a:r>
              <a:rPr b="0" lang="ru-RU" sz="1800" spc="-1" strike="noStrike">
                <a:solidFill>
                  <a:srgbClr val="b13f9a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ормула простая = </a:t>
            </a:r>
            <a:r>
              <a:rPr b="0" lang="ru-RU" sz="2400" spc="-1" strike="noStrike">
                <a:solidFill>
                  <a:srgbClr val="b13f9a"/>
                </a:solidFill>
                <a:latin typeface="Calibri"/>
              </a:rPr>
              <a:t>15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* </a:t>
            </a:r>
            <a:r>
              <a:rPr b="0" lang="ru-RU" sz="2400" spc="-1" strike="noStrike">
                <a:solidFill>
                  <a:srgbClr val="b13f9a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ru-RU" sz="2400" spc="-1" strike="noStrike">
                <a:solidFill>
                  <a:srgbClr val="b13f9a"/>
                </a:solidFill>
                <a:latin typeface="Calibri"/>
              </a:rPr>
              <a:t>30 ед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сумма предприятий на 1000 жителей по нормативу СССР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едприятий сферы услуг, в ареалах радиусом 500 м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состоянию  на 01.10. 2010 (случайная выборк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468360" y="1125360"/>
          <a:ext cx="8229600" cy="5715000"/>
        </p:xfrm>
        <a:graphic>
          <a:graphicData uri="http://schemas.openxmlformats.org/drawingml/2006/table">
            <a:tbl>
              <a:tblPr/>
              <a:tblGrid>
                <a:gridCol w="2319120"/>
                <a:gridCol w="2140200"/>
                <a:gridCol w="1923840"/>
                <a:gridCol w="1846440"/>
              </a:tblGrid>
              <a:tr h="1508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енность населения, в ареалах, тыс.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предприятий  сферы услу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е количество предприятий на 1000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траха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4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рнау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,1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ркутс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4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емеро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,8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ярс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,4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кузнец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,6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сибирс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9,6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г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,9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мс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3,6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м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,6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юм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,1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Сопоставление численности потребителей и фактического наличия предприятий сферы потребительских услуг разного вида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в  9-ти районах г.Новосибирска на 01.10.2010 г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3768840" y="2301840"/>
          <a:ext cx="1606320" cy="2254320"/>
        </p:xfrm>
        <a:graphic>
          <a:graphicData uri="http://schemas.openxmlformats.org/drawingml/2006/table">
            <a:tbl>
              <a:tblPr/>
              <a:tblGrid>
                <a:gridCol w="1419120"/>
                <a:gridCol w="187200"/>
              </a:tblGrid>
              <a:tr h="13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1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1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1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1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1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3" name=""/>
          <p:cNvGraphicFramePr/>
          <p:nvPr/>
        </p:nvGraphicFramePr>
        <p:xfrm>
          <a:off x="3633840" y="2301840"/>
          <a:ext cx="1876320" cy="2254320"/>
        </p:xfrm>
        <a:graphic>
          <a:graphicData uri="http://schemas.openxmlformats.org/drawingml/2006/table">
            <a:tbl>
              <a:tblPr/>
              <a:tblGrid>
                <a:gridCol w="1689120"/>
                <a:gridCol w="187200"/>
              </a:tblGrid>
              <a:tr h="13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1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1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1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1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1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3724200" y="2301840"/>
          <a:ext cx="1697040" cy="2254320"/>
        </p:xfrm>
        <a:graphic>
          <a:graphicData uri="http://schemas.openxmlformats.org/drawingml/2006/table">
            <a:tbl>
              <a:tblPr/>
              <a:tblGrid>
                <a:gridCol w="1508040"/>
                <a:gridCol w="189000"/>
              </a:tblGrid>
              <a:tr h="13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1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1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1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1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1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5" name=""/>
          <p:cNvGraphicFramePr/>
          <p:nvPr/>
        </p:nvGraphicFramePr>
        <p:xfrm>
          <a:off x="3724200" y="2301840"/>
          <a:ext cx="1697040" cy="2254320"/>
        </p:xfrm>
        <a:graphic>
          <a:graphicData uri="http://schemas.openxmlformats.org/drawingml/2006/table">
            <a:tbl>
              <a:tblPr/>
              <a:tblGrid>
                <a:gridCol w="1508040"/>
                <a:gridCol w="189000"/>
              </a:tblGrid>
              <a:tr h="13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1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1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1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1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1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6" name=""/>
          <p:cNvGraphicFramePr/>
          <p:nvPr/>
        </p:nvGraphicFramePr>
        <p:xfrm>
          <a:off x="3678120" y="2301840"/>
          <a:ext cx="1787760" cy="2254320"/>
        </p:xfrm>
        <a:graphic>
          <a:graphicData uri="http://schemas.openxmlformats.org/drawingml/2006/table">
            <a:tbl>
              <a:tblPr/>
              <a:tblGrid>
                <a:gridCol w="1598760"/>
                <a:gridCol w="189000"/>
              </a:tblGrid>
              <a:tr h="13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1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1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1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1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1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7" name=""/>
          <p:cNvGraphicFramePr/>
          <p:nvPr/>
        </p:nvGraphicFramePr>
        <p:xfrm>
          <a:off x="3584520" y="2301840"/>
          <a:ext cx="1974960" cy="2254320"/>
        </p:xfrm>
        <a:graphic>
          <a:graphicData uri="http://schemas.openxmlformats.org/drawingml/2006/table">
            <a:tbl>
              <a:tblPr/>
              <a:tblGrid>
                <a:gridCol w="1787760"/>
                <a:gridCol w="187200"/>
              </a:tblGrid>
              <a:tr h="13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1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1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1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1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1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8" name=""/>
          <p:cNvGraphicFramePr/>
          <p:nvPr/>
        </p:nvGraphicFramePr>
        <p:xfrm>
          <a:off x="3633840" y="2301840"/>
          <a:ext cx="1876320" cy="2254320"/>
        </p:xfrm>
        <a:graphic>
          <a:graphicData uri="http://schemas.openxmlformats.org/drawingml/2006/table">
            <a:tbl>
              <a:tblPr/>
              <a:tblGrid>
                <a:gridCol w="1689120"/>
                <a:gridCol w="187200"/>
              </a:tblGrid>
              <a:tr h="13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1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1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1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1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1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9" name=""/>
          <p:cNvGraphicFramePr/>
          <p:nvPr/>
        </p:nvGraphicFramePr>
        <p:xfrm>
          <a:off x="3452760" y="2301840"/>
          <a:ext cx="2236680" cy="2254320"/>
        </p:xfrm>
        <a:graphic>
          <a:graphicData uri="http://schemas.openxmlformats.org/drawingml/2006/table">
            <a:tbl>
              <a:tblPr/>
              <a:tblGrid>
                <a:gridCol w="2049480"/>
                <a:gridCol w="187200"/>
              </a:tblGrid>
              <a:tr h="13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1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1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1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1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1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0" name=""/>
          <p:cNvGraphicFramePr/>
          <p:nvPr/>
        </p:nvGraphicFramePr>
        <p:xfrm>
          <a:off x="3408480" y="2301840"/>
          <a:ext cx="2327040" cy="2254320"/>
        </p:xfrm>
        <a:graphic>
          <a:graphicData uri="http://schemas.openxmlformats.org/drawingml/2006/table">
            <a:tbl>
              <a:tblPr/>
              <a:tblGrid>
                <a:gridCol w="2139840"/>
                <a:gridCol w="187200"/>
              </a:tblGrid>
              <a:tr h="13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1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1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1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1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1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21" name="Рисунок 7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7572600" cy="5429520"/>
          </a:xfrm>
          <a:prstGeom prst="rect">
            <a:avLst/>
          </a:prstGeom>
          <a:ln w="0">
            <a:noFill/>
          </a:ln>
        </p:spPr>
      </p:pic>
      <p:sp>
        <p:nvSpPr>
          <p:cNvPr id="422" name="Oval 2"/>
          <p:cNvSpPr/>
          <p:nvPr/>
        </p:nvSpPr>
        <p:spPr>
          <a:xfrm flipV="1">
            <a:off x="3714840" y="5143680"/>
            <a:ext cx="142920" cy="142560"/>
          </a:xfrm>
          <a:prstGeom prst="ellipse">
            <a:avLst/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Oval 3"/>
          <p:cNvSpPr/>
          <p:nvPr/>
        </p:nvSpPr>
        <p:spPr>
          <a:xfrm>
            <a:off x="3362400" y="4962600"/>
            <a:ext cx="162000" cy="142920"/>
          </a:xfrm>
          <a:prstGeom prst="ellipse">
            <a:avLst/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Oval 4"/>
          <p:cNvSpPr/>
          <p:nvPr/>
        </p:nvSpPr>
        <p:spPr>
          <a:xfrm>
            <a:off x="5105520" y="4886280"/>
            <a:ext cx="152280" cy="152280"/>
          </a:xfrm>
          <a:prstGeom prst="ellipse">
            <a:avLst/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Oval 5"/>
          <p:cNvSpPr/>
          <p:nvPr/>
        </p:nvSpPr>
        <p:spPr>
          <a:xfrm>
            <a:off x="3781440" y="3828960"/>
            <a:ext cx="152280" cy="123840"/>
          </a:xfrm>
          <a:prstGeom prst="ellipse">
            <a:avLst/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Oval 6"/>
          <p:cNvSpPr/>
          <p:nvPr/>
        </p:nvSpPr>
        <p:spPr>
          <a:xfrm>
            <a:off x="3171960" y="3533760"/>
            <a:ext cx="133200" cy="123840"/>
          </a:xfrm>
          <a:prstGeom prst="ellipse">
            <a:avLst/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Oval 7"/>
          <p:cNvSpPr/>
          <p:nvPr/>
        </p:nvSpPr>
        <p:spPr>
          <a:xfrm>
            <a:off x="3476520" y="3333600"/>
            <a:ext cx="133560" cy="123840"/>
          </a:xfrm>
          <a:prstGeom prst="ellipse">
            <a:avLst/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Oval 8"/>
          <p:cNvSpPr/>
          <p:nvPr/>
        </p:nvSpPr>
        <p:spPr>
          <a:xfrm>
            <a:off x="3124080" y="2933640"/>
            <a:ext cx="133560" cy="123840"/>
          </a:xfrm>
          <a:prstGeom prst="ellipse">
            <a:avLst/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Oval 9"/>
          <p:cNvSpPr/>
          <p:nvPr/>
        </p:nvSpPr>
        <p:spPr>
          <a:xfrm>
            <a:off x="3524400" y="2419200"/>
            <a:ext cx="152280" cy="152640"/>
          </a:xfrm>
          <a:prstGeom prst="ellipse">
            <a:avLst/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Oval 10"/>
          <p:cNvSpPr/>
          <p:nvPr/>
        </p:nvSpPr>
        <p:spPr>
          <a:xfrm>
            <a:off x="2962440" y="4448160"/>
            <a:ext cx="161640" cy="123840"/>
          </a:xfrm>
          <a:prstGeom prst="ellipse">
            <a:avLst/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AutoShape 15"/>
          <p:cNvSpPr/>
          <p:nvPr/>
        </p:nvSpPr>
        <p:spPr>
          <a:xfrm>
            <a:off x="4429080" y="3500280"/>
            <a:ext cx="2303640" cy="785880"/>
          </a:xfrm>
          <a:prstGeom prst="wedgeRectCallout">
            <a:avLst>
              <a:gd name="adj1" fmla="val -72537"/>
              <a:gd name="adj2" fmla="val 454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исленность нас.  - 14947 чел, предприятий – 8 ед</a:t>
            </a:r>
            <a:r>
              <a:rPr b="0" lang="en-US" sz="1600" spc="-1" strike="noStrike">
                <a:solidFill>
                  <a:srgbClr val="004e82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AutoShape 19"/>
          <p:cNvSpPr/>
          <p:nvPr/>
        </p:nvSpPr>
        <p:spPr>
          <a:xfrm>
            <a:off x="5364000" y="2276640"/>
            <a:ext cx="2238480" cy="1082520"/>
          </a:xfrm>
          <a:prstGeom prst="wedgeRectCallout">
            <a:avLst>
              <a:gd name="adj1" fmla="val -130069"/>
              <a:gd name="adj2" fmla="val 521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исленность нас.  - 22254 чел, предприятий – 28 е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AutoShape 16"/>
          <p:cNvSpPr/>
          <p:nvPr/>
        </p:nvSpPr>
        <p:spPr>
          <a:xfrm>
            <a:off x="3643200" y="1341360"/>
            <a:ext cx="2224080" cy="719280"/>
          </a:xfrm>
          <a:prstGeom prst="wedgeRectCallout">
            <a:avLst>
              <a:gd name="adj1" fmla="val -52212"/>
              <a:gd name="adj2" fmla="val 1137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исленность нас.  - 25606 чел, предприятий – 7 ед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AutoShape 14"/>
          <p:cNvSpPr/>
          <p:nvPr/>
        </p:nvSpPr>
        <p:spPr>
          <a:xfrm>
            <a:off x="1332000" y="1197000"/>
            <a:ext cx="2087640" cy="863640"/>
          </a:xfrm>
          <a:prstGeom prst="wedgeRectCallout">
            <a:avLst>
              <a:gd name="adj1" fmla="val 40569"/>
              <a:gd name="adj2" fmla="val 16488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исленность нас.  - 517 чел, предприяти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ед</a:t>
            </a:r>
            <a:r>
              <a:rPr b="0" lang="en-US" sz="1200" spc="-1" strike="noStrike">
                <a:solidFill>
                  <a:srgbClr val="004e82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AutoShape 18"/>
          <p:cNvSpPr/>
          <p:nvPr/>
        </p:nvSpPr>
        <p:spPr>
          <a:xfrm>
            <a:off x="179280" y="3500280"/>
            <a:ext cx="1944720" cy="1081080"/>
          </a:xfrm>
          <a:prstGeom prst="wedgeRectCallout">
            <a:avLst>
              <a:gd name="adj1" fmla="val 92777"/>
              <a:gd name="adj2" fmla="val 4412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исленность нас.  - 13999 чел, предприятий – 5 ед</a:t>
            </a:r>
            <a:r>
              <a:rPr b="0" lang="en-US" sz="1600" spc="-1" strike="noStrike">
                <a:solidFill>
                  <a:srgbClr val="004e82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AutoShape 17"/>
          <p:cNvSpPr/>
          <p:nvPr/>
        </p:nvSpPr>
        <p:spPr>
          <a:xfrm>
            <a:off x="179280" y="2133720"/>
            <a:ext cx="2089080" cy="1224000"/>
          </a:xfrm>
          <a:prstGeom prst="wedgeRectCallout">
            <a:avLst>
              <a:gd name="adj1" fmla="val 96578"/>
              <a:gd name="adj2" fmla="val 680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исленность нас.  - 23663 чел, предприятий – 51 ед</a:t>
            </a:r>
            <a:r>
              <a:rPr b="0" lang="en-US" sz="1600" spc="-1" strike="noStrike">
                <a:solidFill>
                  <a:srgbClr val="004e82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AutoShape 13"/>
          <p:cNvSpPr/>
          <p:nvPr/>
        </p:nvSpPr>
        <p:spPr>
          <a:xfrm>
            <a:off x="179280" y="4724280"/>
            <a:ext cx="2063880" cy="1009800"/>
          </a:xfrm>
          <a:prstGeom prst="wedgeRectCallout">
            <a:avLst>
              <a:gd name="adj1" fmla="val 110078"/>
              <a:gd name="adj2" fmla="val -165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исленность нас.  - 20019 чел, предприятий – 9 ед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AutoShape 11"/>
          <p:cNvSpPr/>
          <p:nvPr/>
        </p:nvSpPr>
        <p:spPr>
          <a:xfrm>
            <a:off x="5000760" y="5572080"/>
            <a:ext cx="2019240" cy="881280"/>
          </a:xfrm>
          <a:prstGeom prst="wedgeRectCallout">
            <a:avLst>
              <a:gd name="adj1" fmla="val -39620"/>
              <a:gd name="adj2" fmla="val -11792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исленность нас.  - 11243 чел, предприятий – 6 ед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AutoShape 12"/>
          <p:cNvSpPr/>
          <p:nvPr/>
        </p:nvSpPr>
        <p:spPr>
          <a:xfrm>
            <a:off x="2268360" y="5734080"/>
            <a:ext cx="2217960" cy="863640"/>
          </a:xfrm>
          <a:prstGeom prst="wedgeRectCallout">
            <a:avLst>
              <a:gd name="adj1" fmla="val 17787"/>
              <a:gd name="adj2" fmla="val -1080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исленность нас.  -</a:t>
            </a:r>
            <a:r>
              <a:rPr b="0" lang="en-US" sz="1600" spc="-1" strike="noStrike">
                <a:solidFill>
                  <a:srgbClr val="004e82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393 чел, предприятий – 8 ед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Rectangle 30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Первая проблем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слабая численная насыщенность территорий городских поселений  необходимыми предприятия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Ни в одном из ареалов не обеспечивается норма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Например, в Новосибирске в ареале с наибольшей численностью – 25,606 чел. – должно быть 768,2 предприятий потребительских услу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Фактическое количество– 7ед.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что меньше даже Советской нормы  в 100 раз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 Вторая проблем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асимметрия  предприятий потребительских услуг между центром и перифери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12:16:17Z</dcterms:created>
  <dc:creator>Лена</dc:creator>
  <dc:description/>
  <dc:language>en-US</dc:language>
  <cp:lastModifiedBy>Елена Александровна</cp:lastModifiedBy>
  <dcterms:modified xsi:type="dcterms:W3CDTF">2011-07-25T13:45:34Z</dcterms:modified>
  <cp:revision>81</cp:revision>
  <dc:subject/>
  <dc:title>Слайд 1</dc:title>
</cp:coreProperties>
</file>