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8.jpeg" ContentType="image/jpeg"/>
  <Override PartName="/ppt/media/image27.png" ContentType="image/png"/>
  <Override PartName="/ppt/media/image26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19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AA71-093A-44B1-8963-531BF45170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1C9A-DB97-47C7-AFC4-78FB2C7E21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BEFF-4FDC-47CC-B041-0B1D032BCE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AF6C-3039-468F-8218-B8DAC6688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C58F-BF7B-42A2-8BB5-A6C61835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78CA-2BBB-4449-9E29-24F560038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E4D2-0E91-44B6-B94A-95A6CAC6D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825A-86C3-4724-8E10-7B311DA0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322D-872C-4589-BD79-EC956498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61ED-DAED-47AC-8E54-068BB023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10F1-EAA7-4B67-90A3-3E6E7CBE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8B10-4658-45BA-8019-5161E96A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A72C-7BE5-4ADB-B6E0-811F6ED9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B98F-99C3-4311-9475-A47F723D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FE2F-EDB0-4186-8A17-6E3A5579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27AA-FBCD-4AF2-B9AE-83B8903A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88F7-B21E-42D6-B80D-8A913D25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38A2-6977-44CB-9EFE-E260ADC6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F3FC-899B-4B2A-9CB9-26666734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6242-06A5-4C28-A21D-577CC77B9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AC39E-710F-46FE-A52E-C6CE348A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E7542-517D-4D5A-B0E3-6300734C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824F4-8919-4AB9-AFD0-040C4033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19018-2AF2-4350-8973-7D837FC3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13BA5-3C54-4A42-B55B-E0732C31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0721-6DFC-4C9B-BAED-E8A597BC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3CD90-C968-4A6E-9EEA-ABD23992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C57A8-D6B6-4A53-A8C9-6E79434F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E0459-12F2-4A37-B513-65976FCD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1CE47-19F9-4FB4-A64D-243FAD7F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71E7A-73A5-4F21-8F57-77A98A2E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C5579-234F-48D3-98FA-84ABE049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40DE1-6838-463C-A79A-948A1666B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EFD63-AF83-44D3-839F-C86B79E85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3CFFB-D12D-456B-A606-A4BAB229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B67CA-6FD4-46D9-A352-DC36E1E5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F4F9-1F34-4E18-8EC7-C9996BBA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9B123-E7C5-430A-8071-8FDEF534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2CF01-126E-47CE-B629-59D1AA20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6564D-414F-4B0F-A033-E7F5B4A9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3F7A5-C09B-4076-985E-027A476D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FCC1D-4C15-41EF-A447-4AA49C2A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6B721-1102-4FA4-B66A-41BF3F95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31C97-276C-44E6-A31F-53A2FCD9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2D6A9-B665-496A-9510-9C111FAA2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BCB3B-9B28-48E0-AB7B-EEB7AF71D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3459F-78F6-468C-97AF-C42895BFA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EAB7-A224-40D5-8B60-8406A551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ED9E8-5C07-4986-897F-72B9B9C9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3F622-5F68-4D6D-9E77-517E5077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976DD-8CA4-4A16-A354-60729E95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95001-DB41-4EF4-B363-BC3503EF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37E76-40D1-44E7-B5FA-19677FE6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F74CA-49C4-46D4-87B1-56AD8B9A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F616C-E80B-4206-8DE1-F39FE50E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09830-5DF7-401D-99E7-0C6BB692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CAAED-DCC8-4218-B2C4-FBC9C28C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CE101-5ADB-4273-8E2A-3428FAB53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99BD-7E97-4A3B-A27A-7B54F0D3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46F7C-FAF3-44AF-B065-82ECC3BA0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6AF9-3292-45BF-9DD2-466C13F4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C12F-40AA-4682-BA22-E09E9C95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3D5D-CF00-4572-8952-2260D331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D5E6-4593-4C02-9054-F66C2878A55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EC57-5B36-4088-A7C2-8A65BE70360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7920-29D2-4F71-8EE7-E27AEA46C77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A521-9FE6-48D8-B698-883EE86C57D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01E3-729C-4DE0-86A8-60893557CD0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706320" y="2852640"/>
            <a:ext cx="8126640" cy="127476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428840" y="4500360"/>
            <a:ext cx="6400800" cy="1042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материалам Межрегионального конкурса «Лучшие товары и услуги Сибири - Гемма»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2002 – 2010 годы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254" name="Object 4"/>
          <p:cNvGraphicFramePr/>
          <p:nvPr/>
        </p:nvGraphicFramePr>
        <p:xfrm>
          <a:off x="3214800" y="142920"/>
          <a:ext cx="2382840" cy="240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14800" y="142920"/>
                    <a:ext cx="2382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ДИНАМИКА ИЗМЕНЕНИЯ КАЧЕСТВА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7" name="Содержимое 3" descr=""/>
          <p:cNvPicPr/>
          <p:nvPr/>
        </p:nvPicPr>
        <p:blipFill>
          <a:blip r:embed="rId1"/>
          <a:stretch/>
        </p:blipFill>
        <p:spPr>
          <a:xfrm>
            <a:off x="214200" y="1214280"/>
            <a:ext cx="87156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ДАННЫЕ О СОСТАВЕ ОСНОВНЫХ НАРУШЕНИЙ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 rot="10800000">
            <a:off x="2499480" y="1167480"/>
            <a:ext cx="6186600" cy="4572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0" name="Picture 4" descr="C:\Users\Сергей\Desktop\0050.jpg"/>
          <p:cNvPicPr/>
          <p:nvPr/>
        </p:nvPicPr>
        <p:blipFill>
          <a:blip r:embed="rId1"/>
          <a:stretch/>
        </p:blipFill>
        <p:spPr>
          <a:xfrm>
            <a:off x="96840" y="1525680"/>
            <a:ext cx="2189160" cy="218916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4"/>
          <p:cNvSpPr/>
          <p:nvPr/>
        </p:nvSpPr>
        <p:spPr>
          <a:xfrm>
            <a:off x="2428920" y="1500120"/>
            <a:ext cx="657216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Введение в заблуждение потребителя некорректным позиционированием продукции в рекламных целях стимулирования ее сбы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нижение себестоимости  готовой продукции за счет  злоупотребления заменой основных ингредиентов  совместимы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нижение себестоимости основного сырья за счет злоупотребления стимуляторами роста и биологическими стимуляторами в животноводств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нижение себестоимости  готовой продукции за счет увеличения срока реализации путем злоупотребления консервантами и антибиотик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Компенсация вкусовых характеристик готовой (получившейся) продукции за счет злоупотребления в использовании усилителей вкуса, ароматизаторов, стабилизаторов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Злоупотребление в использовании биологических модификаций популяций основных ингредиентов рецептуры готовой продукц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7" descr="C:\все со стола апрель 11\0034.jpg"/>
          <p:cNvPicPr/>
          <p:nvPr/>
        </p:nvPicPr>
        <p:blipFill>
          <a:blip r:embed="rId2"/>
          <a:stretch/>
        </p:blipFill>
        <p:spPr>
          <a:xfrm>
            <a:off x="54000" y="3786120"/>
            <a:ext cx="22320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ИЧИНЫ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4" name="Схема 3" descr=""/>
          <p:cNvPicPr/>
          <p:nvPr/>
        </p:nvPicPr>
        <p:blipFill>
          <a:blip r:embed="rId1"/>
          <a:stretch/>
        </p:blipFill>
        <p:spPr>
          <a:xfrm>
            <a:off x="92160" y="1639800"/>
            <a:ext cx="8570880" cy="5085000"/>
          </a:xfrm>
          <a:prstGeom prst="rect">
            <a:avLst/>
          </a:prstGeom>
          <a:ln w="0">
            <a:noFill/>
          </a:ln>
        </p:spPr>
      </p:pic>
      <p:sp>
        <p:nvSpPr>
          <p:cNvPr id="295" name="Прямоугольник 4"/>
          <p:cNvSpPr/>
          <p:nvPr/>
        </p:nvSpPr>
        <p:spPr>
          <a:xfrm>
            <a:off x="142920" y="1214280"/>
            <a:ext cx="86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причины конфликтных ситуаций на потребительских рын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АНАЛИЗ ПРИЧИН И ВЫВОДЫ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0717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Проводя предварительный анализ совместно с аккредитованными  органами по сертификации в Новосибирской области можно выделить несколько причин сложившейся ситуации: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Желание производителей использовать в своих технологиях дешевое и низкокачественное сырье. Производство натурального и высококачественного сырья становится менее конкурентоспособным из за высокой стоимости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Противоречивые тенденции в производственных сферах и снижение требований по соответствию. В последнее время происходит с одной стороны - существенное сокращение списка продукции и услуг, подлежащих обязательной сертификации. С другой стороны резкий рост нездоровой конкуренции в сертификационной сфере. (В СФО открываются органы по сертификации, дающие возможность получения «быстрых» сертификатов соответствия используя столичные схемы)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Значительное падение требовательности соответствующих структур при аккредитации органов по сертификации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Конкурентное вытеснение качественной продукции и услуг с рынка  путем демпинга цен и информационными технологиями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Несоответствие условий транспортировки и хранения готовой продукции в розничных сетях реализации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8" name="Picture 4" descr="C:\все со стола апрель 11\Food_Drinks_Milk_glass_028219_.jpg"/>
          <p:cNvPicPr/>
          <p:nvPr/>
        </p:nvPicPr>
        <p:blipFill>
          <a:blip r:embed="rId1"/>
          <a:stretch/>
        </p:blipFill>
        <p:spPr>
          <a:xfrm>
            <a:off x="285840" y="5000760"/>
            <a:ext cx="2822400" cy="17636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C:\все со стола апрель 11\Food_Meat_and_barbecue_Assorted_meat_012322_.jpg"/>
          <p:cNvPicPr/>
          <p:nvPr/>
        </p:nvPicPr>
        <p:blipFill>
          <a:blip r:embed="rId2"/>
          <a:stretch/>
        </p:blipFill>
        <p:spPr>
          <a:xfrm>
            <a:off x="6072120" y="4995720"/>
            <a:ext cx="2357640" cy="17686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6" descr="C:\все со стола апрель 11\559056ba4674.png"/>
          <p:cNvPicPr/>
          <p:nvPr/>
        </p:nvPicPr>
        <p:blipFill>
          <a:blip r:embed="rId3"/>
          <a:stretch/>
        </p:blipFill>
        <p:spPr>
          <a:xfrm>
            <a:off x="3143160" y="4886280"/>
            <a:ext cx="28576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ЛАНЫ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214440" y="1142640"/>
            <a:ext cx="5715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 ближайших планах Межрегионального конкурса «Лучшие товары и услуги Сибири - ГЕММА» стоят несколько приоритетных вопросов: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1. Проведение мониторинга качества и исследования пищевой продукции, ввозимой из регионов Центральной России, Кавказа, стран СНГ и Дальнего зарубежья.  Проведение общественных рейдов с привлечением региональных управлений Роспотребнадзора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2. Налаживание продуктивной работы с сертификационными органами и аккредитованными лабораториями , а так же с общественными организациями с целью объединения интересов в развитии качества товаров и услуг Сибири.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3. Межрегиональный конкурс «Лучшие товары и услуги Сибири - ГЕММА» является составной частью Международного Проекта «Лучшие товары и услуги Евразии - ГЕММА» и в этой связи Организационный комитет ведет работу по развитию торгово-экономических отношений со многими странами. Сейчас ведутся переговоры с представителями Народного Правительства КНР по сотрудничеству в области сохранения качества и производству натуральных продуктов питания, где опыт Сибирских производителей является показательным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ализация целей и задач Международного конкурса «Лучшие товары и услуги Евразии - ГЕММА» позволит существенно укрепить торгово-экономические отношения, инвестиционную деятельность и активизировать товарную интеграцию качественной продукции и услуг стран участников Проекта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3" name="Picture 4" descr="_MG_3574"/>
          <p:cNvPicPr/>
          <p:nvPr/>
        </p:nvPicPr>
        <p:blipFill>
          <a:blip r:embed="rId1"/>
          <a:stretch/>
        </p:blipFill>
        <p:spPr>
          <a:xfrm>
            <a:off x="284040" y="1428840"/>
            <a:ext cx="3002040" cy="2000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C:\Users\Сергей\Desktop\IMG_5213.jpg"/>
          <p:cNvPicPr/>
          <p:nvPr/>
        </p:nvPicPr>
        <p:blipFill>
          <a:blip r:embed="rId2"/>
          <a:stretch/>
        </p:blipFill>
        <p:spPr>
          <a:xfrm>
            <a:off x="285840" y="3610080"/>
            <a:ext cx="300024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ЕДЛОЖЕНИЯ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21392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нять во внимание положительный опыт Организационного комитета в проведении мониторинга качества товаров и услуг с целью совершенствования подходов в вопросах регулирования потребительских рынков на территориях Сибири. Рекомендовать органам государственной власти субъектов РФ, входящих в состав МА «Сибирское соглашение» оказывать поддержку в организационных мероприятиях настоящего Конкурса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рганам государственной власти оказать содействие в создании объединения (союза) органов по сертификации и аккредитованных лабораторий в субъектах Сибирского федерального округа с целью регулирования рынка сертификационных услуг, а так же для  предотвращения мошеннический действий в этой области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рганам государственной власти оказать содействие в создании объединения интересов общественных организаций работающих в сфере защиты прав потребителей и создание партнерских отношений с надзорными органами с целью проведения общественных рейдов и регулирования взаимоотношений на потребительских рынках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работать государственную программу по развитию качества и конкурентоспособности товаров и услуг в регионах РФ, регулирующую все аспекты сохранения потребительской безопасности и качества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вести анализ условий и взаимоотношений представителей розничной торговли с производителями готовой продукции и разработать региональные программы содействия в расширении рынков сбыта качественной продукции и обеспечения безопасности потребителей на основе Федерального закона Российской Федерации от 28 декабря 2009 г. N 381-ФЗ "Об основах государственного регулирования торговой деятельности в Российской Федерации" 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работать государственную программу финансирования деятельности по осуществлению широкомасштабного мониторинга качества товаров и услуг реализуемых потребителям в регионах СФО. Провести в регионах Сибири открытый тендер на проведение лабораторных испытаний продукции и экспертизы соответствия услуг среди аккредитованных лабораторий и органов по сертификации СФО для осущ ествления масштабного мониторинга качества товаров и услуг в рамках проводимого нами Проекта «ГЕММА».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СПАСИБО ЗА ВНИМАНИЕ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08" name="Object 4"/>
          <p:cNvGraphicFramePr/>
          <p:nvPr/>
        </p:nvGraphicFramePr>
        <p:xfrm>
          <a:off x="2071800" y="1643040"/>
          <a:ext cx="4811760" cy="48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1800" y="1643040"/>
                    <a:ext cx="4811760" cy="48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БЩИЕ СВЕДЕНИЯ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Защита прав потребителей  - это проблемы качества и конкурентоспособности товаров и услуг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Вопросы повышения качества и конкурентоспособности являются основополагающими в развитии экономики любой отрасли и государства в целом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Во всех сферах экономики качество и конкурентоспособность играют определяющую роль развития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Регионы Сибири – это объединение уникальных территорий, позволяющее иметь несравнимо высокий потенциал экономического развития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слабление требований по обязательной сертификации продукции и услуг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Федеральный закон от 26.12.08 № 294-ФЗ «О защите прав юридических лиц и индивидуальных предпринимателей при осуществлении государственного контроля (надзора) и муниципального контроля»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ФЗ N 315-Ф3 "О саморегулируемых организациях»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Закон РФ «О защите прав потребителей» 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НФОРМАЦИЯ О КОНКУРСЕ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356920" y="2214360"/>
            <a:ext cx="66438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В настоящее время в рамках Конкурса взаимодействуют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рганы государственной власти;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рганы местного самоуправления;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едеральная служба по надзору в сфере защиты прав потребителей и благополучия человека;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едеральное агентство по техническому регулированию и метрологии;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едеральное государственное учреждение здравоохранения «Центр гигиены и эпидемиологии»;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едеральная  служба по экологическому, технологическому и атомному надзору;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ккредитованные сертификационные органы;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ккредитованные лаборатории и исследовательские центры;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оргово - промышленные палаты;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учно-исследовательские институты Сибирского отделения Российской Академии наук, Российской Академии сельскохозяйственных наук, и Российской Академии медицинских наук;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егиональные отделения Российской Академии проблем качества;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Государственные и негосударственные образовательные учреждения высшего профессионального образования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80000"/>
              </a:lnSpc>
              <a:spcBef>
                <a:spcPts val="2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Picture 4" descr="статуэтка"/>
          <p:cNvPicPr/>
          <p:nvPr/>
        </p:nvPicPr>
        <p:blipFill>
          <a:blip r:embed="rId1"/>
          <a:srcRect l="8978" t="3367" r="10513" b="4364"/>
          <a:stretch/>
        </p:blipFill>
        <p:spPr>
          <a:xfrm>
            <a:off x="142920" y="2606760"/>
            <a:ext cx="2473200" cy="396540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4"/>
          <p:cNvSpPr/>
          <p:nvPr/>
        </p:nvSpPr>
        <p:spPr>
          <a:xfrm>
            <a:off x="142920" y="1428840"/>
            <a:ext cx="857232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ддержка полномочного представителя Президента России в Сибирском    федеральном округ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Организационная работа проводится совместно с Исполнительным комитетом Межрегиональной ассоциации экономического взаимодействия субъектов Российской Федерации «Сибирское соглашение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imes New Roman"/>
              </a:rPr>
              <a:t>ОСНОВНЫЕ ЦЕЛИ КОНКУРС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Прямоугольник 4"/>
          <p:cNvSpPr/>
          <p:nvPr/>
        </p:nvSpPr>
        <p:spPr>
          <a:xfrm>
            <a:off x="2357280" y="1714680"/>
            <a:ext cx="6572520" cy="54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8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здание условий, необходимых для стимулирования бизнеса в повышении качества и конкурентоспособности выпускаемой продукции и оказываемых услу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действие товарной интеграции и продвижению качественной продукции и услуг предприятий и организаций регион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витие и укрепление торгово-экономического взаимодействия регионов участвующих в настоящем Проек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здание условий для взаимообмена передовыми технологиями, распространения опыта в помощи и развитии малого и среднего предпринимательства, накопленных в субъектах Феде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ониторинг качества и конкурентоспособности товаров и услу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бъективная экспертная оценка качества продукции и услуг, проводимая ведущими специалистами органов по сертификации, государственных и иных служб надзора, контроля качест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родная оценка качества продукции и услуг, проводимая их конечными потребителями в рамках мероприятий Проек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6" descr="IMG_8736"/>
          <p:cNvPicPr/>
          <p:nvPr/>
        </p:nvPicPr>
        <p:blipFill>
          <a:blip r:embed="rId1"/>
          <a:stretch/>
        </p:blipFill>
        <p:spPr>
          <a:xfrm>
            <a:off x="214200" y="1657440"/>
            <a:ext cx="2357640" cy="15714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IMG_8664"/>
          <p:cNvPicPr/>
          <p:nvPr/>
        </p:nvPicPr>
        <p:blipFill>
          <a:blip r:embed="rId2"/>
          <a:stretch/>
        </p:blipFill>
        <p:spPr>
          <a:xfrm>
            <a:off x="214200" y="3325680"/>
            <a:ext cx="2357640" cy="15732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IMG_8890"/>
          <p:cNvPicPr/>
          <p:nvPr/>
        </p:nvPicPr>
        <p:blipFill>
          <a:blip r:embed="rId3"/>
          <a:stretch/>
        </p:blipFill>
        <p:spPr>
          <a:xfrm>
            <a:off x="214200" y="5000760"/>
            <a:ext cx="235764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СНОВНЫЕ РАЗДЕЛЫ КОНКУРСА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9" name="Диаграмма 3" descr=""/>
          <p:cNvPicPr/>
          <p:nvPr/>
        </p:nvPicPr>
        <p:blipFill>
          <a:blip r:embed="rId1"/>
          <a:stretch/>
        </p:blipFill>
        <p:spPr>
          <a:xfrm>
            <a:off x="-142920" y="1928880"/>
            <a:ext cx="88581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МЕЖРЕГИОНАЛЬНЫЙ СОСТАВ КОНКУРСА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500040" y="1143000"/>
          <a:ext cx="8501040" cy="3673440"/>
        </p:xfrm>
        <a:graphic>
          <a:graphicData uri="http://schemas.openxmlformats.org/drawingml/2006/table">
            <a:tbl>
              <a:tblPr/>
              <a:tblGrid>
                <a:gridCol w="5237280"/>
                <a:gridCol w="1639800"/>
                <a:gridCol w="16239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СИБИРСКАЯ ОБЛ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МСКАЯ ОБЛ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ТАЙСКИЙ КРА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МЕРОВСКАЯ ОБЛ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ЯРСКИЙ КРА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МСКАЯ ОБЛ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КУТСКАЯ ОБЛ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ХАКАСС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ТЫ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БУРЯ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АЛТА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АЙКАЛЬСКИЙ КРА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ИБИРСКИЙ ФЕДЕРАЛЬНЫЙ ОКРУ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72" name="Диаграмма 3" descr=""/>
          <p:cNvPicPr/>
          <p:nvPr/>
        </p:nvPicPr>
        <p:blipFill>
          <a:blip r:embed="rId1"/>
          <a:stretch/>
        </p:blipFill>
        <p:spPr>
          <a:xfrm>
            <a:off x="-142920" y="4929120"/>
            <a:ext cx="4572000" cy="1785960"/>
          </a:xfrm>
          <a:prstGeom prst="rect">
            <a:avLst/>
          </a:prstGeom>
          <a:ln w="0">
            <a:noFill/>
          </a:ln>
        </p:spPr>
      </p:pic>
      <p:pic>
        <p:nvPicPr>
          <p:cNvPr id="273" name="Object 3" descr=""/>
          <p:cNvPicPr/>
          <p:nvPr/>
        </p:nvPicPr>
        <p:blipFill>
          <a:blip r:embed="rId2"/>
          <a:stretch/>
        </p:blipFill>
        <p:spPr>
          <a:xfrm>
            <a:off x="4786200" y="4929120"/>
            <a:ext cx="414360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МОНИТОРИНГ КАЧЕСТВА ТОВАРОВ И УСЛУГ</a:t>
            </a:r>
            <a:br>
              <a:rPr sz="2000"/>
            </a:br>
            <a:r>
              <a:rPr b="0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ПРОИЗВОДИМЫХ В СИБИРИ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500200" y="1213920"/>
            <a:ext cx="65008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 2002 года Организационный комитет проводит ежегодный мониторинг качества товаров и услуг в СФО, в рамках которого осуществляются контрольные закупки пищевой продукции и товаров народного потребления в сетях розничной торговли, а так же исследования услуг по системе «Тайный покупатель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мимо плановых исследований качества, Организационный комитет проводит борьбу с контрафактной продукцией, выявленной в результате контрольных закупок. В этом направлении Межрегиональный конкурс «Лучшие товары и услуги Сибири - ГЕММА» сотрудничает с региональными управлениями внутренних дел СФО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езультаты проводимого мониторинга формируют объективное представление о ситуации в основных отраслях. За 9 лет в Конкурсе исследовано более 22700 единиц товаров и услуг, из них более 9800 образцов продовольственной группы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6" name="Picture 4" descr="C:\Users\Сергей\Desktop\clip.dn.ua-64683_66.jpg"/>
          <p:cNvPicPr/>
          <p:nvPr/>
        </p:nvPicPr>
        <p:blipFill>
          <a:blip r:embed="rId1"/>
          <a:stretch/>
        </p:blipFill>
        <p:spPr>
          <a:xfrm>
            <a:off x="214200" y="1460520"/>
            <a:ext cx="2428920" cy="17733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http://clip.dn.ua/clip-crop/6/65388/s1_65388_37.jpg"/>
          <p:cNvPicPr/>
          <p:nvPr/>
        </p:nvPicPr>
        <p:blipFill>
          <a:blip r:embed="rId2"/>
          <a:stretch/>
        </p:blipFill>
        <p:spPr>
          <a:xfrm>
            <a:off x="214200" y="3357720"/>
            <a:ext cx="2428920" cy="1547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http://clip.dn.ua/clip-crop/6/65843/s1_65843_18.jpg"/>
          <p:cNvPicPr/>
          <p:nvPr/>
        </p:nvPicPr>
        <p:blipFill>
          <a:blip r:embed="rId3"/>
          <a:stretch/>
        </p:blipFill>
        <p:spPr>
          <a:xfrm>
            <a:off x="214200" y="5000760"/>
            <a:ext cx="242892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64296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ОДНЫЙ КОНКУР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3642840"/>
            <a:ext cx="8229600" cy="24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2002 года в рамках Межрегионального конкурса «Лучшие товары и услуги Сибири – ГЕММА» проводится первый в России «Народный конкурс», где оценка качества продукции и услуг осуществляется конечными потребителям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учено мнение более чем 100 000 потребителей, воспользовавшихся уникальной возможностью сравнить продукцию разных производителей и оценить ее качество, руководствуясь не навязчивыми рекламными утверждениями, а своими собственными ощущениями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Picture 4" descr="DSCN1525"/>
          <p:cNvPicPr/>
          <p:nvPr/>
        </p:nvPicPr>
        <p:blipFill>
          <a:blip r:embed="rId1"/>
          <a:stretch/>
        </p:blipFill>
        <p:spPr>
          <a:xfrm>
            <a:off x="395280" y="1181160"/>
            <a:ext cx="2592360" cy="2017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DSCN1536"/>
          <p:cNvPicPr/>
          <p:nvPr/>
        </p:nvPicPr>
        <p:blipFill>
          <a:blip r:embed="rId2"/>
          <a:stretch/>
        </p:blipFill>
        <p:spPr>
          <a:xfrm>
            <a:off x="3203640" y="1214280"/>
            <a:ext cx="2663640" cy="19987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IMG_0555"/>
          <p:cNvPicPr/>
          <p:nvPr/>
        </p:nvPicPr>
        <p:blipFill>
          <a:blip r:embed="rId3"/>
          <a:stretch/>
        </p:blipFill>
        <p:spPr>
          <a:xfrm>
            <a:off x="6048360" y="1204920"/>
            <a:ext cx="270036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ИТЕТ ПОТРЕБИТЕЛЬСКОГО КОНТРОЛ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декабре 2003 года в экспериментальном режиме был запущен один из проектов Организационного комитета – Общественный комитет потребительского контроля. Его учредителями выступили, с одной стороны, организаторы и партнеры Межрегионального конкурса «Лучшие товары и услуги Сибири - ГЕММА», с другой – аккредитованные Средства массовой информации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ятельность ОКПК заключалась в проведении «горячей линии», принимающей обращения недовольных потребителей, и оперативном реагировании на них дежурной группы, в состав которой входили представители надзорных органов и СМИ. При возникновении прецедента осуществлялся выезд на место происшествия, где журналисты готовили материалы для публикаций, а эксперты фиксировали факт нарушения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 4 месяца работы ОКПК было зафиксировано 72 обращения потребителей, осуществлено 33 выезда. Правдивая информация о нарушениях, озвученная в новостях, могла бы стать серьезной антирекламой для предприятий, поэтому основная часть проблем была урегулирована нарушителями менее чем через сутки с момента обращения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нализ проделанной в экспериментальном режиме работы показал высокую эффективность и актуальность разработанной модели Комитета. Основным преимуществом предложенной системы являлось партнерство со СМИ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09:09:12Z</dcterms:created>
  <dc:creator>Сергей</dc:creator>
  <dc:description/>
  <dc:language>en-US</dc:language>
  <cp:lastModifiedBy>Сергей</cp:lastModifiedBy>
  <dcterms:modified xsi:type="dcterms:W3CDTF">2011-07-20T13:57:29Z</dcterms:modified>
  <cp:revision>158</cp:revision>
  <dc:subject/>
  <dc:title>Об оценке качества и конкурентоспособности товаров и услуг, производимых на территории Сибири</dc:title>
</cp:coreProperties>
</file>