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B27-2F7C-490A-92C2-AA13BD7F7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7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954B594-B7C7-40F9-BC13-18111047AB2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AA3F008-4BD8-40E6-A6E3-DE04BF2CB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Header Placeholder 5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D39F-DA2B-412A-85FB-B881D56FF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3E8D-EFDD-4803-994B-2890A1810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0240"/>
            <a:ext cx="54388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4A420B5B-2D9B-4995-BBF6-3759EA94C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Header Placeholder 4"/>
          <p:cNvSpPr/>
          <p:nvPr/>
        </p:nvSpPr>
        <p:spPr>
          <a:xfrm>
            <a:off x="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87E-19F2-42AA-BF5C-32CB6D9B0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13EB-4E64-4EAA-955D-36BC2DD18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B7E9-76D2-498E-A11D-0D4E8829D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согласования полного перечня объектов АО-энерго долж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здать филиалы на базе имущественного комплекса ЕНЭ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вести расширенную инвентаризацию передаваемого имущества и проведение его рыночной 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еспечить сохранность передаваемого в ММСК электросетевого комплекса ЕНЭ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существить необходимые организационные действия по внесению объектов ЕНЭС в ММС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BDE8-6686-478E-8729-A848B50D4B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C4A-5A3F-4619-BEA4-773C7B8C2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528-842B-4EF9-900E-718F09DE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BA9-E9E9-4185-AA04-B3C1899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A4D-3D73-414F-BD39-B7E3E8E3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7E5-A027-487A-A1B6-9291E7C0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6FB-AEE1-4795-81FA-D418AD56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D0A-70A3-44BC-BAA3-C8F3510A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110-07F4-422E-9F27-199DAFA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A7F-A64A-40A3-A213-0A236E8F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772-75EB-4BAB-B589-FCDE69BE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E34-145A-4806-BAF4-50698B85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9CE-DD10-41CC-BAF5-4F87DB2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8C9-2C6F-40B8-A749-F7D4EA8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D444-8E53-4FE1-BFD8-B94145E44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Фон для презентации c вр"/>
          <p:cNvPicPr/>
          <p:nvPr/>
        </p:nvPicPr>
        <p:blipFill>
          <a:blip r:embed="rId1"/>
          <a:srcRect l="0" t="0" r="0" b="85199"/>
          <a:stretch/>
        </p:blipFill>
        <p:spPr>
          <a:xfrm>
            <a:off x="0" y="1773360"/>
            <a:ext cx="9144000" cy="352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01"/>
          <p:cNvPicPr/>
          <p:nvPr/>
        </p:nvPicPr>
        <p:blipFill>
          <a:blip r:embed="rId2"/>
          <a:srcRect l="4056" t="3212" r="3636" b="76591"/>
          <a:stretch/>
        </p:blipFill>
        <p:spPr>
          <a:xfrm>
            <a:off x="960480" y="333360"/>
            <a:ext cx="7205760" cy="1166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9144000" cy="222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тоги прохождения МЭС Сибири осенне-зимнего периода 2009/2010 годов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 задачи по подготовке к прохождению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енне-зимнего максимума нагрузки в период 2010-2011 годо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894480" y="5986440"/>
            <a:ext cx="11361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Мероприятия по подготовке к ОЗП 2010/2011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8358120" y="6494400"/>
            <a:ext cx="471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0036-1161-4924-A367-12E8E242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13840" y="1544760"/>
            <a:ext cx="8643960" cy="48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извести проверку состояния маслонаполненного оборудования (маслоуказателей, маслоприемных устройств силовых трансформаторов, многообъемных масляных выключателей, соответствия уровня масла в расширительных баках трансформаторов и шунтирующих реакторов объемам сезонных температурных изменений масл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извести обследование технического состояния трансформаторов, длительно работавших в ОЗП 2009/2010 года с нагрузкой выше номинальной мощ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извести анализ отказов выключателей, разъединителей, отделителей и короткозамыкателей при низких температурах, а также выборочную (при ремонтах - полную) ревизию состояния и соответствия заводским требованиям резиновых и других уплот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вести специализированные противоаварийные тренировки по действиям персонала при вводе графиков ограничения электропотребления и отключения потреб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 целью сокращения времени оперативного реагирования и ликвидации технологических нарушений при проведение АВР актуализировать, с учётом схемно – режимного состояния сети, разработанные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етевые графики выполнения АВР на В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еративные карточки реагирования при повреждении оборудования П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F7A2-368F-4505-9DA8-3F635A2D5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ые характеристики  и особенности энергоснабжения Сибирского реги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карта2проба"/>
          <p:cNvPicPr/>
          <p:nvPr/>
        </p:nvPicPr>
        <p:blipFill>
          <a:blip r:embed="rId2"/>
          <a:stretch/>
        </p:blipFill>
        <p:spPr>
          <a:xfrm>
            <a:off x="395280" y="1484280"/>
            <a:ext cx="840096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468360" y="587700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ксимум нагрузки  в ОЭС Сибири в ОЗП 2009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2010 г. г. составил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31 115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Вт при суммарной генерации 29 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379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МВт. Дефицит мощности покрывался за счет перетока мощности из ОЭС Урала и Казахст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93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Высоковольтные сети региона Сибири, входящие в единую национальную электрическую сеть РФ, включают в себя линии электропередачи напряжением 35 – 1150 кВ общей протяженностью более 25 000 км и 115 подстан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C3F6-0F5B-428B-89FD-CA44AC148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подготовки и прохождения ОЗП 2009/2010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13840" y="1413000"/>
            <a:ext cx="853452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собенности подготовки и прохождения ОЗП 2009/2010 г.г. были связаны 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терей генерации на Саяно-Шушенской ГЭ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зменением перетоков мощности по сети 500 кВ в сторону ставшей дефицитной Хакасской энергосистемы (узел СаАЗ, ХаАЗ), Красноярской  (узел КрАЗ) и Кузбасской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энергосистемы (южная ча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терей источников реактивной мощности, приведшей к снижению напряжения ниже нормативного значения в сети 500 кВ, прилегающей к СаАЗ, Ха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ксимальной загрузкой ВЛ 500 кВ, обеспечивающих электроснабжение указанных регион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еобходимостью ограничения электроснабжения потребителей, при возникновении технологических нарушений на электросетевых объектах МЭС Сибири, в связи с дефицитом генерации в ОЭ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лиматическими особенностями зимнего периода – это повышенная норма осадков, продолжительные морозы с температурой ниже  - 40 граду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8358120" y="6494400"/>
            <a:ext cx="471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2E93-0670-4422-9886-581C0A30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подготовки и прохождения ОЗП 2009/2010 г.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5345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Своевременное принятие и реализация организационно – технических мероприятий по «Программе мер повышения уровня надежности работы магистральных электрических сетей Сибири после выбытия мощности СШГЭС» , направлено 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. предотвращение технологических нару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. сокращение времени устранения технологических нару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3. ускоренное развитие сетевой структуры ОЭС Сиби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Это позволи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ройти осенне-зимний период без существенных ограничений электроснабжения потреб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нормализовать уровни напряжения в сети 220-500 кВ Хакасской энергосистемы и снизить объем ограничений потребителей, необходимый в случае аварийного отключения ВЛ 220-500 кВ, за счет установки источников реактивной мощности на ПС 500кВ Означенное и ПС 500 кВ Алюминие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снизить загрузку транзитных линий 220 кВ Хакасской энергосистемы и объем ограничений нагрузки, необходимый в случае аварийного отключения ВЛ 220-500 кВ, за счет ввода в работу в декабре 2009 года ВЛ 220 кВ Бея – Аск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8358120" y="6494400"/>
            <a:ext cx="471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16C8-F351-41D1-B0D8-41A362D6E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" y="0"/>
            <a:ext cx="868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34920" y="1231920"/>
            <a:ext cx="490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Показатели аварийности на объектах МЭС Сиби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в период ОЗ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42920" y="2142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подготовки и прохождения ОЗП 2009/2010 г.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250920" y="4365720"/>
            <a:ext cx="8470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Принятые меры при подготовке и прохождении ОЗП 2009/2010 позволили обеспечить необходимую надежность электроснабжения потребителей, и не допустить роста числа технологических нарушений.</a:t>
            </a:r>
            <a:r>
              <a:rPr b="1" i="1" lang="en-US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При этом аварийность на объектах контролируемого транзита была снижена более чем в 2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8705880" y="64911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A880-F7C1-463A-B695-E8DB8AF48C0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иаграмма 15" descr=""/>
          <p:cNvPicPr/>
          <p:nvPr/>
        </p:nvPicPr>
        <p:blipFill>
          <a:blip r:embed="rId2"/>
          <a:stretch/>
        </p:blipFill>
        <p:spPr>
          <a:xfrm>
            <a:off x="279360" y="1724040"/>
            <a:ext cx="4187880" cy="2378160"/>
          </a:xfrm>
          <a:prstGeom prst="rect">
            <a:avLst/>
          </a:prstGeom>
          <a:ln w="0">
            <a:noFill/>
          </a:ln>
        </p:spPr>
      </p:pic>
      <p:pic>
        <p:nvPicPr>
          <p:cNvPr id="70" name="Object 3" descr=""/>
          <p:cNvPicPr/>
          <p:nvPr/>
        </p:nvPicPr>
        <p:blipFill>
          <a:blip r:embed="rId3"/>
          <a:stretch/>
        </p:blipFill>
        <p:spPr>
          <a:xfrm>
            <a:off x="4786200" y="1806480"/>
            <a:ext cx="4187880" cy="2378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"/>
          <p:cNvSpPr/>
          <p:nvPr/>
        </p:nvSpPr>
        <p:spPr>
          <a:xfrm>
            <a:off x="4924440" y="1219320"/>
            <a:ext cx="421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Показатели аварийности на объектах контролируемого транзита МЭС Сибири в период ОЗ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492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ры по предупреждению технологических нару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24000" y="1700280"/>
            <a:ext cx="842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179280" indent="182520"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вместно с ОАО «СО ЕЭС» определен перечень из 25 ВЛ общей протяженностью 3 970 км и приоритет транзита 500 кВ ПС Новокузнецкая-ПС Абаканская-ПС Итатская, обеспечивающие системную надежность энергоснабжения Сибирского региона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роведение дополнительного ТОиР приоритетного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ыполнен план ремонтных работ 2009 года с учетом дополнительных объемов работ, направленных на повышение надежности транзита, в том числе часть работ на ВЛ выполнена «под напряж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ля увеличения объемов работ «под напряжением» обучены дополнительно две бригады Западно-Сибирского и Красноярского ПМЭ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рамках договора аренды повышенаена надёжность работы ОРУ 500 кВ СШГЭС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Font typeface="Arial"/>
              <a:buChar char="-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монтированы и подключены два дизель-генератора, обеспечивающие резервирование собственных нужд. Подано напряжение на блочный трансформатор Саяно-Шушенской ГЭС Т-3, через который запитан трансформатор собственных нужд Т-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Font typeface="Arial"/>
              <a:buChar char="-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сстановлена система пожаротушения и другие технологические системы ОРУ, вышедшие из строя после ава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E9F8-1B13-4CC4-A17A-3CF45C33A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-3492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ры по предупреждению технологических нару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24000" y="1268280"/>
            <a:ext cx="84247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Усиление контроля за состоянием приоритетного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ведены 2 внеочередных инженерных осмотра и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4 вертолётных облётов всех ВЛ, обеспечивающих системную надежность и оперативно устранены все выявленные недостатки. Дополнительно выполнен облет транзита Иркутск – Красноярск – Кузбасс – Алтай, обход ВЛ 220 кВ ж/д тяга Красноярская ГРЭС 2 – Абакан – Новокузнецк и объезд ВЛ для определения доступности участков трас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 целью постоянного мониторинга технического состояния установлена ежемесячная периодичность проведения вертолетных облетов всего транз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 результатам объезда организованны работы по ремонту и восстановлению подъездных дорог, проездов через труднодоступные участки, контролируемого транз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ыполнены дополнительные мероприятия по диагностике оборудования, в том числе тепловизионная диагностика ВЛ с применением вертолетов. В марте 2010 г. проведено повторное тепловизионное обследования В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еспечение сохранности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82520" algn="just">
              <a:lnSpc>
                <a:spcPct val="100000"/>
              </a:lnSpc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вместно с органами власти и местного самоуправления реализуются мероприятия по дополнительной охране ВЛ. Заключены соглашения с ГУП «Вневедомственная охрана» и реализуется периодическое патрулирование линий электропере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065C-DBD7-4BF2-9F01-59E3065C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подготовки и прохождения ОЗП 2009/2010 г.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14200" y="1500120"/>
            <a:ext cx="8715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вод в работу 6-го (21.02.2010) и 5-го (20.03.2010) энергоблоков СШГЭС с суммарной установленной мощностью 1200 МВт позвол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величить предел по статической устойчивости  в контролируемых сечениях на связях энергосистемы Хакассии и Кузб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кратить  дефицит мощности в Хакасской энергосистеме и в ОЭС Сиби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низить потери активной мощности и электроэнергии в ОЭС Сиби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высить надежность электроснабжения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то позволяет МЭС Сибири при подготовке к ОЗП 2010/2011 г.г., выполнить ремонтную программу и целевые программы 2010 года без возможных ограничений электропотре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8358120" y="6494400"/>
            <a:ext cx="471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9D39-2AEE-4C1E-BD8D-4178CB41B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Мероприятия по подготовке к ОЗП 2010/2011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5"/>
          <p:cNvSpPr/>
          <p:nvPr/>
        </p:nvSpPr>
        <p:spPr>
          <a:xfrm>
            <a:off x="8358120" y="6494400"/>
            <a:ext cx="471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219D-40BA-47ED-8680-5570C22DC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643960" cy="501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еспечить  выполнение сводной производственной программы 2010 года, направленной на поддержание нормативного состояния электросетевых активов и развитие ЕНЭ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еспечить выполнение мероприятий, предписаний надзорных органов, замечаний, отмеченных в актах предыдущих проверок комиссиями по проверке готовности ПМЭС к ОЗ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извести внеочередные выборочные осмотры опор, узлов крепления гирлянд изоляторов, линейной арматуры, соединителей и ремонтных бандажей проводов и грозотросов, проверку и регулировку стрел их провеса на всех ВЛ, подвергшихся механическим (гололедно - ветровым) и токовым дополнительным нагрузкам, обратив особое внимание на ВЛ со сроком эксплуатации свыше 20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еспечить поддержание проектной ширины просек ВЛ, проводить регулярную вырубку деревьев, угрожающих падением на провода ВЛ, и содержание трасс в соответствии с требованиями ПУЭ, ПТЭ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извести тепловизионный контроль болтовых и прессуемых соединений на ВЛ и ПС. По результатам тепловизионного обследования составить графики устранения выявленных дефектов до начала ОЗП 2010/2011 г.г. (предаварийные дефекты устранять немедле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07:52:12Z</dcterms:created>
  <dc:creator>Devochka</dc:creator>
  <dc:description/>
  <dc:language>en-US</dc:language>
  <cp:lastModifiedBy>private</cp:lastModifiedBy>
  <dcterms:modified xsi:type="dcterms:W3CDTF">2010-05-20T05:34:53Z</dcterms:modified>
  <cp:revision>750</cp:revision>
  <dc:subject/>
  <dc:title>Слайд 1</dc:title>
</cp:coreProperties>
</file>