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5ADD-A93D-44D7-9BEF-B9E390E5F8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49B3-F43A-4800-A6AC-14A94F0B44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A716-7322-4390-928D-9A66CBABBF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EA9-8679-4359-AAAF-661CF7B651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6187-F1C8-48E5-84F3-4E6C74E693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6207-7B32-456E-B12A-094B957152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B720-0DDD-41BA-9C08-826196492C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C97F-4C3F-488D-9E93-CCA30CCD01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0C0-6B44-49D3-9F53-1CDC8640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1494000"/>
            <a:ext cx="822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BAB-398F-41AA-A5B4-A6F85B4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149400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1440" y="149400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76F-55F7-4BE4-B1AC-D74D982B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149400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6840" y="149400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9280" y="149400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E28-1243-4984-B77D-8770C3A2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B6D0-4EA1-4828-AA69-B959ACB3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624A-AF72-419F-A9FB-2ED8BEC5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4086-0134-45FD-A4DF-124850B6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FB63-4319-4383-8869-9DBA7361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6A6B-04FC-44E4-9E64-36C23DE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63280" y="765000"/>
            <a:ext cx="73803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6517-DFEB-4EF9-A3E4-0B613880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149400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FEA4-9B34-4EBA-A3C5-3B3B53B4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268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0D4-C902-4189-9C31-BFB5BC2F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1440" y="149400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09BA-E4F8-41B6-B840-1AD1020B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1494000"/>
            <a:ext cx="822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AD5C-8A18-427C-9EDC-12818AA7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1494000"/>
            <a:ext cx="822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6177-349C-45E9-BC63-3796B500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149400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1440" y="149400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BBBD-F89A-40B4-A7A9-B64639E1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6840" y="126828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9280" y="126828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149400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6840" y="149400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9280" y="1494000"/>
            <a:ext cx="264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8D64-1F6C-417A-94F7-A1433432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4E2-CB64-46AA-9160-4F89EEB1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49B-362D-4778-929B-169C1AAF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7C0-F8A6-459D-9DC9-B0181A7E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280" y="765000"/>
            <a:ext cx="73803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C1B-CA02-448F-95F4-39D097C8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149400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82E-3FA9-4CBC-B376-E02C0E54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1440" y="149400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64B-0285-44E3-8630-489EE77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1440" y="1268280"/>
            <a:ext cx="40158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1494000"/>
            <a:ext cx="8229600" cy="2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8EC-6565-4A43-8384-31A2523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2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3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5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6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16360" y="6399360"/>
            <a:ext cx="2133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23D4-739D-4DFA-94D8-1591E5BE050D}" type="slidenum"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268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2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3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5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6" marL="65160" indent="-6516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7C4F-81FE-473F-9994-44FA48A60FA4}" type="slidenum"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121-E3B8-4124-8E24-A22628685722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4071960"/>
            <a:ext cx="8317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776"/>
                </a:solidFill>
                <a:latin typeface="Arial"/>
              </a:rPr>
              <a:t>Итоги работы ОАО «Иркутскэнерго» в ОЗП 2009-2010 годов, задачи на 2010 – 2011 год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1"/>
          <p:cNvSpPr/>
          <p:nvPr/>
        </p:nvSpPr>
        <p:spPr>
          <a:xfrm>
            <a:off x="6516720" y="639936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FFDB-8609-4D52-8C5C-9FDC4C22F862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500120" y="85716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Задачи по подготовке к прохождению осенне-зимнего максимума нагрузок в период 2010 – 2011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286080" y="15717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пасы топлива (млн. т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00080" y="2000160"/>
          <a:ext cx="7858080" cy="1260720"/>
        </p:xfrm>
        <a:graphic>
          <a:graphicData uri="http://schemas.openxmlformats.org/drawingml/2006/table">
            <a:tbl>
              <a:tblPr/>
              <a:tblGrid>
                <a:gridCol w="1947960"/>
                <a:gridCol w="3052800"/>
                <a:gridCol w="2857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тивный запас топлива  МинЭнерго РФ на 1 октябр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ас топлива по бизнес – плану  на 1 октябр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ОЗП 2009 – 2010 г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.6/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ОЗП 2010 – 2011 г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6"/>
          <p:cNvSpPr/>
          <p:nvPr/>
        </p:nvSpPr>
        <p:spPr>
          <a:xfrm>
            <a:off x="3929040" y="52862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идро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928800" y="571500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Ожидаемые запасы на ГЭС Ангарского каскада на начало ОЗП 2010 – 2011 гг. превышают прошлогодние  на 3.4 млрд. кВт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1285920" y="350028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емонтная программа и инвестиции в надежность (млрд. руб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85960" y="4000680"/>
          <a:ext cx="6095880" cy="1112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Ремо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.0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.2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2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Инвести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.0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.4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1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</a:tbl>
          </a:graphicData>
        </a:graphic>
      </p:graphicFrame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348C-DB19-476A-A744-F5B768338632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6"/>
          <p:cNvGraphicFramePr/>
          <p:nvPr/>
        </p:nvGraphicFramePr>
        <p:xfrm>
          <a:off x="0" y="907920"/>
          <a:ext cx="9972720" cy="547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07920"/>
                    <a:ext cx="997272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ыработка электроэнергии в осенне-зимний период 2009/2010 в сравнении с ОЗП 2007/2008 и 2008/2009 годов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F1F3-3274-4A60-8BF2-A9CFF6EA7A18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565200" y="549360"/>
          <a:ext cx="8542440" cy="67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200" y="549360"/>
                    <a:ext cx="8542440" cy="67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ыработка тепловой энергии в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вартале 2010 года в сравнении с тем же периодом 2008 и 2009 годов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A8CD-E511-4D5A-AF89-6111BD35B635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826920" y="692280"/>
          <a:ext cx="8317080" cy="576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692280"/>
                    <a:ext cx="8317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Среднемесячные температуры в осенне-зимний период 2009/2010 в сравнении с ОЗП 2007/2008 и 2008/2009 годов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F440-4EAA-4372-9D74-D334FFD8E9D1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 условиях выбывших  мощностей Саяно-Шушенской ГЭС,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 ОАО «Иркутскэнерго»: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826920" y="1413000"/>
            <a:ext cx="831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1. Была увеличена поставка топлива для прохождения осенне-зимнего периода 2009/2010  дополнительно на 1264 тыс. тонн уг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26920" y="2205000"/>
            <a:ext cx="831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2. Было выделено дополнительное финансирование в размере 150 млн.руб. для ряда целевых програм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826920" y="2997360"/>
            <a:ext cx="8317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4d40"/>
                </a:solidFill>
                <a:latin typeface="Symbol"/>
                <a:ea typeface="Symbol"/>
              </a:rPr>
              <a:t></a:t>
            </a:r>
            <a:r>
              <a:rPr b="1" lang="ru-RU" sz="1600" spc="-1" strike="noStrike">
                <a:solidFill>
                  <a:srgbClr val="fa4d4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a4d40"/>
                </a:solidFill>
                <a:latin typeface="Arial"/>
              </a:rPr>
              <a:t>дополнительные мероприятия по обеспечению надежности сооружений и оборудования ГЭС обусловленные выходом каскада из маловодного цикла и предполагаемого комплекса работ по результатам расследования аварии на Саяно-Шушенской ГЭС – на сумму 18,4 млн.руб.</a:t>
            </a: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fa4d40"/>
                </a:solidFill>
                <a:latin typeface="Symbol"/>
                <a:ea typeface="Symbol"/>
              </a:rPr>
              <a:t></a:t>
            </a:r>
            <a:r>
              <a:rPr b="1" lang="ru-RU" sz="1600" spc="-1" strike="noStrike">
                <a:solidFill>
                  <a:srgbClr val="fa4d40"/>
                </a:solidFill>
                <a:latin typeface="Arial"/>
              </a:rPr>
              <a:t> интенсивная загрузка тепловых станций (прогнозировалась на уровне 1-го кв. 2008г.) с учетом дефицита эл.энергии из-за останова СШ ГЭС, потребовала выполнения в ремонтную компанию 2009 года ряда ранее отложенных работ, в том чис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826920" y="5300640"/>
            <a:ext cx="831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68a4b"/>
                </a:solidFill>
                <a:latin typeface="Arial"/>
              </a:rPr>
              <a:t>оборудование топливоподачи – 21,5 млн.руб.;</a:t>
            </a:r>
            <a:br>
              <a:rPr sz="1600"/>
            </a:br>
            <a:r>
              <a:rPr b="1" i="1" lang="ru-RU" sz="1600" spc="-1" strike="noStrike">
                <a:solidFill>
                  <a:srgbClr val="468a4b"/>
                </a:solidFill>
                <a:latin typeface="Arial"/>
              </a:rPr>
              <a:t>     котельное оборудование – 84,2 млн.руб.;</a:t>
            </a:r>
            <a:br>
              <a:rPr sz="1600"/>
            </a:br>
            <a:r>
              <a:rPr b="1" i="1" lang="ru-RU" sz="1600" spc="-1" strike="noStrike">
                <a:solidFill>
                  <a:srgbClr val="468a4b"/>
                </a:solidFill>
                <a:latin typeface="Arial"/>
              </a:rPr>
              <a:t>           турбоагрегаты – 8,2 млн.руб.;</a:t>
            </a:r>
            <a:br>
              <a:rPr sz="1600"/>
            </a:br>
            <a:r>
              <a:rPr b="1" i="1" lang="ru-RU" sz="1600" spc="-1" strike="noStrike">
                <a:solidFill>
                  <a:srgbClr val="468a4b"/>
                </a:solidFill>
                <a:latin typeface="Arial"/>
              </a:rPr>
              <a:t>               оборудование электроцехов и тепловой автоматики – 7,1 млн.руб.;</a:t>
            </a:r>
            <a:br>
              <a:rPr sz="1600"/>
            </a:br>
            <a:r>
              <a:rPr b="1" i="1" lang="ru-RU" sz="1600" spc="-1" strike="noStrike">
                <a:solidFill>
                  <a:srgbClr val="468a4b"/>
                </a:solidFill>
                <a:latin typeface="Arial"/>
              </a:rPr>
              <a:t>                      гидротехническое оборудование – 10,6 млн.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B172-32E0-4775-944F-0A8FF2B37CC3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лан поставок угля на осенне-зимний период 2009-2010 годов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755640" y="1413000"/>
          <a:ext cx="8388360" cy="49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413000"/>
                    <a:ext cx="8388360" cy="49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D614-2684-427B-9436-13D53A748B2D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Запасы угля по ОАО «Иркутскэнерго» в сравнении с нормативами утвержденными Министерством Энергетики РФ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(на начало месяца, тыс. тонн)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755640" y="1413000"/>
          <a:ext cx="8388360" cy="49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413000"/>
                    <a:ext cx="8388360" cy="49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D92-53A0-44CC-B3C0-D780E55D5D4F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Запасы мазута по ОАО «Иркутскэнерго» в сравнении с нормативами утвержденными Министерством Энергетики РФ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(на начало месяца, тонн)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885960" y="1400040"/>
          <a:ext cx="7934040" cy="496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5960" y="1400040"/>
                    <a:ext cx="793404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516720" y="639936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A74E-A5B7-4645-9DEB-F42B72895611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16720" y="639936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8DC6-E9A1-4A24-997C-C62551F3B1EC}" type="slidenum">
              <a:rPr b="0" lang="ru-RU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76500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монтные компании 2008, 2009 и 2010 годов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16000" y="1557360"/>
          <a:ext cx="7859880" cy="4694040"/>
        </p:xfrm>
        <a:graphic>
          <a:graphicData uri="http://schemas.openxmlformats.org/drawingml/2006/table">
            <a:tbl>
              <a:tblPr/>
              <a:tblGrid>
                <a:gridCol w="2236680"/>
                <a:gridCol w="787680"/>
                <a:gridCol w="792000"/>
                <a:gridCol w="1008000"/>
                <a:gridCol w="1008000"/>
                <a:gridCol w="1008360"/>
                <a:gridCol w="101916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>
                      <a:noFill/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ак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ак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ак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планированное кол-во ремонтов котлоагрегатов (КР), шт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планированное кол-во ремонтов котлоагрегатов (СР), шт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планированное кол-во ремонтов турбоагрегатов (КР), шт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планированное кол-во ремонтов турбоагрегатов (СР), шт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планированное кол-во ремонтов гидроагрега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КР), шт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ыделяемые на ремонтную программу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Млн. рублей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2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3:20:22Z</dcterms:created>
  <dc:creator>volovikov</dc:creator>
  <dc:description/>
  <dc:language>en-US</dc:language>
  <cp:lastModifiedBy>korneev</cp:lastModifiedBy>
  <dcterms:modified xsi:type="dcterms:W3CDTF">2010-05-18T09:18:49Z</dcterms:modified>
  <cp:revision>143</cp:revision>
  <dc:subject/>
  <dc:title>Слайд 1</dc:title>
</cp:coreProperties>
</file>