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259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1419FA-5A78-40DA-AE90-8F0F13B56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47D563-D330-431E-A30C-773A1CFDAF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40120" y="942984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59E7-DE88-4603-B65E-43614F8FB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40120" y="942984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99D0-6D04-4A1D-9D37-FF6A8A23D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09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6080" y="4714920"/>
            <a:ext cx="54291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410132-1C69-4436-B0AE-F7537CB7C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58AF-4F24-494F-BC6C-6B61C43F8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119320" y="754200"/>
            <a:ext cx="25430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644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2EDC08-8FB4-4FC8-83B7-9C3385995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0359-4C2F-49FE-B6DD-C68F8F4CF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119320" y="755640"/>
            <a:ext cx="2543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7644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B4F182-D5B6-4B4E-8DA0-BFB7F79E9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40120" y="942984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63BE-B20F-4821-AF75-F1FF81FFF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40120" y="942984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E6C5-0B5D-4905-AE2C-D67BC378B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44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30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AF10C3-ED53-443C-B7F3-D09135B52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7663-0C53-447D-B93C-9345DCBE01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119320" y="754200"/>
            <a:ext cx="25430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644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35EB86-ADAF-4C84-A0A0-5E9B03AB4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92B0-F7F1-4E32-B49F-CD64A4563D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2119320" y="754200"/>
            <a:ext cx="25430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6BBF-57AC-48DF-867F-AAEC8190F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650C-C108-4DAD-A214-D7745C161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94FB-32C1-4BB9-9EAF-5F71DAFA1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C2D1-04C1-4548-AB51-78A5F8070F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951C-FA43-452D-A074-7BD000A6F5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756F-CBF3-47B0-B44B-4EB56A865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4DE8-7856-44B0-9E42-70CC44477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028B-9C9B-4E4A-9515-F753246F7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5AC1-E836-49A9-80E6-AA28A41FC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76CF-D1C2-4A0A-ACF2-5C2623A08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0773-52A7-4932-A664-CBADC11DC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7A8B-A734-47B7-BA31-440EE71FC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403280" y="0"/>
            <a:ext cx="7740720" cy="1125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rcRect l="6813" t="8918" r="9478" b="10640"/>
          <a:stretch/>
        </p:blipFill>
        <p:spPr>
          <a:xfrm>
            <a:off x="0" y="0"/>
            <a:ext cx="1403280" cy="112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028000" y="6524280"/>
            <a:ext cx="6588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A6D0-A522-43DC-A9F9-EC1DDC6EDF54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B7EE-5A42-4168-96BA-BA549767F37E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омер слайда 1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374B-1C29-4E0D-A1BA-808758C167DC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428840" y="264312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Итоги прохождения ОЗП 2009/2010 год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403280" y="0"/>
            <a:ext cx="7740720" cy="1125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АО «Территориальная генерирующ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компания №11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403280" y="1125360"/>
            <a:ext cx="7740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rcRect l="6813" t="8918" r="9478" b="10640"/>
          <a:stretch/>
        </p:blipFill>
        <p:spPr>
          <a:xfrm>
            <a:off x="0" y="0"/>
            <a:ext cx="1403280" cy="1125360"/>
          </a:xfrm>
          <a:prstGeom prst="rect">
            <a:avLst/>
          </a:prstGeom>
          <a:ln w="0">
            <a:noFill/>
          </a:ln>
        </p:spPr>
      </p:pic>
      <p:sp>
        <p:nvSpPr>
          <p:cNvPr id="54" name="Line 7"/>
          <p:cNvSpPr/>
          <p:nvPr/>
        </p:nvSpPr>
        <p:spPr>
          <a:xfrm>
            <a:off x="1403280" y="0"/>
            <a:ext cx="0" cy="6597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6d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938320" y="5286240"/>
            <a:ext cx="359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Генеральный директор С. И. Кожемя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CC12-7FC2-43CF-BF99-43DAF78B8B4E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омер слайда 1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EE73-EC3E-4A66-B1E2-989EF9C58EC8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14400" y="-171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сновные задачи на 2010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вышение надежности работы оборудован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357120" y="1214280"/>
            <a:ext cx="842976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Омский филиал ОАО «ТГК-11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1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Выполнение Спецпроекта по повышению надежности теплосетевого комплекса позволит заменить дополнительно более 4 км теплосетей на 8 участках, в том числе с применением трубопроводов в ППУ-изоляц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Реконструкция циркнасосной № 1 на Омской ТЭЦ-5 – улучшение ТЭП, снижение ограничений, уменьшение штраф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Реконструкция градирни № 1 на Омской ТЭЦ-3 – улучшение ТЭП, снижение ограничений, уменьшение штраф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Реконструкция электрофильтра котла № 6 на Омской ТЭЦ-5 -  повышение экономичности и надеж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Установление приоритета на повышение надежности работы поверхностей нагрева - Выполнение программы капитальных ремонтов с заменой поверхностей нагрева с общим объемом  -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1тонна\год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Реконструкция и модернизация турбин ст. № 9 и 11 на ТЭЦ-3 с увеличением мощности на 10 МВт – повышение надежности работы турбинного обору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Томский филиал ОАО «ТГК-11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Выполнение капитальных ремонтов, технического диагностирования оборудования, зданий и сооружений  в структурных подразделениях филиала силами созданных филиалов ДЗ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Ремонт и усиление оборудования тракта топливоподачи, системы пылеприготовления котлоагрегатов ГРЭС-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Впервые в программу ремонтов включены дополнительные сверхтиповые объемы по замене поверхностей нагрева. Общий объем поверхностей нагрева – 82 тонны/го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4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Окончание работ по вводу в эксплуатацию с проведением балансовых испытаний новой турбины Т-50\60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641-DC74-40D4-B132-E2ACA9D98BFD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омер слайда 1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477B-C4F3-4A0F-83F7-B2666286FA2E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42960" y="1643040"/>
            <a:ext cx="792000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Формирование и утверждение в Минэнерго РФ и ОАО «Интер РАО ЕЭС» Инвестиционной программы ОАО «ТГК-11» на период 2011-2015 года. Разработка обосновывающих материалов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Работа с Минэнерго в части инвестиционной деятельности компании (утверждение и корректировка краткосрочных и среднесрочных программ, формирование и представление ежеквартальной и годовой отчётност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Утверждение в Думе г.Томска корректировки Инвестиционной программы по развитию систем теплоснабжения Томского филиала ОАО «ТГК-11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Разработка Концепции развития энергетических мощностей Омского и Томского филиалов компании на период до 2020 го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Разработка схемы теплоснабжения г.Омска на период до 2020 го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полнение проектных работ по ПГУ-90 и ГТУ-1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Заключение договоров на технологическое присоединение по заявкам МРСК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одготовка материалов для перехода Омского и Томского филиалов на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RAB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-регулирова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914400" y="-171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сновные задачи на 2010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ерспективное разви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Успешное прохождение ОЗП 2009-2010 гг. стало результатом эффективного взаимодействия участников энергетического рынка Сибири: поставщиков топлива, генерирующих, сетевых, сервисных компаний между собой и с органами государственной власти СФО и субъектов 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ОАО «ТГК-11» выражает благодарность региональным властям и всем партнерам, совместно с которыми было обеспечено надежное и бесперебойное энергоснабжение потребителей в Омской и Томской област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9187-E408-4A80-8BEF-AD75B2D71526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3B49-5FEC-4A7D-BC7A-CF01BD1D58A6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3284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3826-B183-4205-B5BE-9C409DD44DC1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омер слайда 1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7785-2E73-452D-84E4-C3F6F24BFEEC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2476440"/>
            <a:ext cx="91440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76360" y="1052640"/>
          <a:ext cx="6121440" cy="1933560"/>
        </p:xfrm>
        <a:graphic>
          <a:graphicData uri="http://schemas.openxmlformats.org/drawingml/2006/table">
            <a:tbl>
              <a:tblPr/>
              <a:tblGrid>
                <a:gridCol w="1944720"/>
                <a:gridCol w="2152800"/>
                <a:gridCol w="2023920"/>
              </a:tblGrid>
              <a:tr h="158040">
                <a:tc gridSpan="3"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становленная электрическая мощ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становленная тепловая мощ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мская ТЭЦ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0 МВ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30 Гкал/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436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мская ТЭЦ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35 МВ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00 Гкал/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36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мская ТЭЦ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95 МВ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35 Гкал/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36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мская ТЭЦ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16,7 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кал/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36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Р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85 Гкал/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36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епловые с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20 км в однотрубном исчислен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258920" y="3068640"/>
          <a:ext cx="6264360" cy="2862360"/>
        </p:xfrm>
        <a:graphic>
          <a:graphicData uri="http://schemas.openxmlformats.org/drawingml/2006/table">
            <a:tbl>
              <a:tblPr/>
              <a:tblGrid>
                <a:gridCol w="2087640"/>
                <a:gridCol w="2363760"/>
                <a:gridCol w="1812960"/>
              </a:tblGrid>
              <a:tr h="23436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омская ГРЭС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1 МВ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15 Гкал/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омская ТЭЦ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0 МВ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80 Гкал/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36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53496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епловые с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86 км в однотрубном исчислен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72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53496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епловые 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496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вартальные 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ети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62.4 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м в однотрубном исчислен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53496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496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окальные ко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496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9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Гкал/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Гкал/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72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051 МВт             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 181,79 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кал/ч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епловые с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км в однотрубном исчислении (без аренды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4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65"/>
          <p:cNvSpPr/>
          <p:nvPr/>
        </p:nvSpPr>
        <p:spPr>
          <a:xfrm rot="16200000">
            <a:off x="707400" y="18925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Arial"/>
              </a:rPr>
              <a:t>Омская генера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6"/>
          <p:cNvSpPr/>
          <p:nvPr/>
        </p:nvSpPr>
        <p:spPr>
          <a:xfrm rot="16200000">
            <a:off x="563760" y="32601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Arial"/>
              </a:rPr>
              <a:t>Томская генера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7"/>
          <p:cNvSpPr/>
          <p:nvPr/>
        </p:nvSpPr>
        <p:spPr>
          <a:xfrm rot="16200000">
            <a:off x="394920" y="5300640"/>
            <a:ext cx="13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Arial"/>
              </a:rPr>
              <a:t>ОАО «ТГК-11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2484000" y="115920"/>
            <a:ext cx="51397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изводственные мощности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характеристика электроста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3"/>
          <p:cNvSpPr/>
          <p:nvPr/>
        </p:nvSpPr>
        <p:spPr>
          <a:xfrm>
            <a:off x="468360" y="5950080"/>
            <a:ext cx="813744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6 октября 2009 года запущена в работу турбина ст.№2 типа Т-50 на Томской ГРЭС-2, установленная электрическая мощность станции увеличена на 50 МВт.</a:t>
            </a: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101F-E34D-4BF6-9885-F1FEE804E901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омер слайда 1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5C45-6AC7-44D3-A428-142C28F0E5F8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омер слайда 1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E4F8-8E2A-45A2-82CF-2858BE2EA238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619280" y="2852640"/>
            <a:ext cx="504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227640" y="6381720"/>
            <a:ext cx="289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1187280" y="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тоги прохождения ОЗП 2009-2010 г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собенности отопительного пери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468360" y="1273320"/>
            <a:ext cx="813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Температура в декабре 2009г., январе, феврале 2010 года была ниже среднегодовой на на 4 С и достигала -46 С). В связи с этим в ОЗП 2009-2010 гг. увеличился отпуск тепловой энергии с коллекторов структурных подразделений филиалов ОАО «ТГК-11», фактический отпуск на 1099 тыс.Гкал выше чем в ОЗП 2008-09 г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С 17 августа, после аварии на Саяно-Шушенской ГЭС значительные мощности ТЭС компании были выведены из холодного резерва и до начала отопительного сезона работали в конденсационном режиме.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При этом вынужденая продажа энергии на оптовом рынке ниже себестоимости привела к убыткам в размере около 100 миллионов рублей. Механизма возврата этих средств сегодня н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Большую часть всего ОЗП (Томские ГРЭС-2 и ТЭЦ-3, Омская ТЭЦ-5) несли нагрузку равную установленной мощности электростанций, без возможности вывода котлов и турбин в резерв. На Омской ТЭЦ-5 впервые за последние 5 лет в работе одновременно находились 9 котолоагрега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Для повышения  системной надежности в Омском и Томском регионах электростанциям ТЭЦ-3(Омский филиал) и ТЭЦ-3 (Томский филиал)  - присвоены статусы «Системного генератор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8EE8-56A3-48EF-B7E8-888060053364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2798-A7D5-43A9-92FF-B39A3FFAD739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езультаты прохождения ОЗП 2009 -2010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09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Акт готовности ОАО «ТГК-11» к работе в ОЗП 2009/2010г.г. получен 30.10.2009 без замечаний. Все выявленные замечания устранены в ходе работы комиссии, назначенной приказом Минэнерг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В период ОЗП обеспечены в полном объеме теплом и электроэнергией потребители в Омском и Томском регион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Нарушения температурных графиков и команд диспетчеров РДУ не зарегистрирова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Количество технологических нарушений в структурных подразделениях ОАО «ТГК-11» осталось на уровне прошлого года. При этом, штрафные санкции за готовность к несению нагрузки снижен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В ОЗП 2009-2010 гг. по сравнению с ОЗП 2008-2009 гг. значительно снизились штрафные санкции за мощность, на 25,7 млн. руб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Инцидентов по вине оперативного персонала электростанций  не допуще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6D6F-12C3-4730-8BD5-30E3BCB65C79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5C80-94FD-4950-AD88-3D664FB25009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казатели работы ОАО "ТГК-11" в ОЗП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09-2010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611280" y="3946320"/>
            <a:ext cx="814392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Выработка электроэнергии составила 5 716,4 млн.кВтч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Отпуск теплоэнергии – 12 987,4 тыс.Гкал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Расход угля 2 933,8 тыс.тонн натурального топлива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Расход природного газа 1 487,4 млн.м3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Расход мазута 7,5 тыс. тонн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Коэффициент использования установленной мощности за отопительный период  составил 65,4% по электрической энергии и 32,9% по тепловой энергии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32000" y="1341360"/>
          <a:ext cx="6624720" cy="2365200"/>
        </p:xfrm>
        <a:graphic>
          <a:graphicData uri="http://schemas.openxmlformats.org/drawingml/2006/table">
            <a:tbl>
              <a:tblPr/>
              <a:tblGrid>
                <a:gridCol w="2841480"/>
                <a:gridCol w="955800"/>
                <a:gridCol w="942840"/>
                <a:gridCol w="941400"/>
                <a:gridCol w="943200"/>
              </a:tblGrid>
              <a:tr h="508680"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Ед. из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мский фил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омский фил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ГК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ыработка электроэнер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лн.кВт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89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62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71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пуск электроэнергии с ш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лн.кВт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53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9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92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пуск теплоэнер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ыс.Гк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91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7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298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асход топли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20"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г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ыс.т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62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93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лн.м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4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4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48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аз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ыс. т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56A3-71A5-4EC1-9831-69A1E5C81040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7ECC-0C46-4776-85EB-0B76DE9D1C0D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88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тоги выполнения ремонтной программы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09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71800" y="1428840"/>
          <a:ext cx="5073480" cy="1501560"/>
        </p:xfrm>
        <a:graphic>
          <a:graphicData uri="http://schemas.openxmlformats.org/drawingml/2006/table">
            <a:tbl>
              <a:tblPr/>
              <a:tblGrid>
                <a:gridCol w="1560240"/>
                <a:gridCol w="1202040"/>
                <a:gridCol w="1199880"/>
                <a:gridCol w="1111320"/>
              </a:tblGrid>
              <a:tr h="21564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 на 2010 год,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акт , млн. 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ыполнение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мский фил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5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омский фил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АО "ТГК-1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8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2"/>
          <p:cNvSpPr/>
          <p:nvPr/>
        </p:nvSpPr>
        <p:spPr>
          <a:xfrm>
            <a:off x="714240" y="3435120"/>
            <a:ext cx="785844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ctr">
            <a:spAutoFit/>
          </a:bodyPr>
          <a:p>
            <a:pPr algn="just"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гласно годовому графику ремонтов основного оборудования в 2009 выведено в капитальные и средние ремонты 14 агрегатов, закончены ремонты 13 агрегата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о Омскому филиалу закончены ремонты 8-ми агрегатов, в том числе 3 энергетических котла, 2 турбоагрегата , 1 паровой котел и 2 водогрейных котла, (окончание капитального ремонта турбоагрегата Т-100-130 ст. № 6 СП «ТЭЦ-4» запланировано с переходом на 2010 год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о Томскому филиалу закончены ремонты 5-и агрегатам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 котла, 1 турбин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1D5B-1A7F-4798-BAAC-6C364E991B41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04FB-D84C-4973-9761-C1439F839C71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88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тоги выполнения инвестиционной программы в 2009 год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0040" y="1357200"/>
          <a:ext cx="8215200" cy="1825560"/>
        </p:xfrm>
        <a:graphic>
          <a:graphicData uri="http://schemas.openxmlformats.org/drawingml/2006/table">
            <a:tbl>
              <a:tblPr/>
              <a:tblGrid>
                <a:gridCol w="1071720"/>
                <a:gridCol w="1541160"/>
                <a:gridCol w="1530360"/>
                <a:gridCol w="1532160"/>
                <a:gridCol w="1319040"/>
                <a:gridCol w="1220760"/>
              </a:tblGrid>
              <a:tr h="91296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илиал ОАО «ТГК-11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ЛОК </a:t>
                      </a: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роприятия технически необходимые, млн.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ЛОК </a:t>
                      </a: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роприятия экономически эффективные, млн.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ЛОК </a:t>
                      </a: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а снижения производственных издержек, млн.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словно- постоянные затраты, кредиты, 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сего, 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омский фили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2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9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7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мский фили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4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9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42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4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2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0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642960" y="3375360"/>
            <a:ext cx="802332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полнены работы на основных объектах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Wingdings" charset="2"/>
              <a:buChar char="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стройство турбоустановки мощностью 50 МВт на месте демонтируемой турбины №2 Томской ГРЭС-2. Турбоустановка введена в эксплуатацию 06.10.2009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Wingdings" charset="2"/>
              <a:buChar char="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одернизация обшивки, устройств орошения, водораспределения  и воздухорегулирования градирен Омских ТЭЦ-3,4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Wingdings" charset="2"/>
              <a:buChar char="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на главных паропроводов секции № 1 II очереди котла ст. № 11 Омской ТЭЦ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Wingdings" charset="2"/>
              <a:buChar char="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роительство установки сбора сухой золы от котлов № 8-12  Омской ТЭЦ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Wingdings" charset="2"/>
              <a:buChar char="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на активной механической части и электрической части электрофильтра на котлоагрегате БКЗ-420-140-5 ст. № 3 Омской ТЭЦ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Wingdings" charset="2"/>
              <a:buChar char="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роительство секции 4 основного золоотвала Омской ТЭЦ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Wingdings" charset="2"/>
              <a:buChar char="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на действующего трубопровода Ду720 тепловых сетей от тепловой камеры V-В-89/1 до V-B-87 по ул. Съездовская (ПИР) на сумму 75,5 млн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BA47-6A2C-48F1-BC01-C38D46D5791C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омер слайда 1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C4D4-C88D-4300-B79B-4FFECA3DE1DE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755640" y="148428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Организация своевременного выполнения работ по ремонтам, диагностированию, экспертизе оборудования, зданий и сооруж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Внедрение методики оценки рисков при повреждении трубопроводов тепловых сетей, для определения приоритетных участков при формировании капитальных ремо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Разработка и внедрение методики оценки надежности поверхностей нагрева котлоагрега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100% учет повреждений поверхностей нагрева котлоагрегатов с обязательным включением в программу ремонтов будущих перио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914400" y="-171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сновные задачи на 2010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вышение надежности работы оборудован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826920" y="5300640"/>
            <a:ext cx="7602840" cy="1067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2010 году на электростанциях ОАО «ТГК-11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планировано выполнить  капитальные и средние ремонты 13-ти агрегатам, в том числ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по Омскому филиалу 9-ти агрегатам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по Томскому филиалу 4-м агрегата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0E09-72F9-4EF8-BD63-BBAA867C62FA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1"/>
          <p:cNvSpPr/>
          <p:nvPr/>
        </p:nvSpPr>
        <p:spPr>
          <a:xfrm>
            <a:off x="8028000" y="6524640"/>
            <a:ext cx="658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9E96-9505-45D4-9F09-D541E3B05EC7}" type="slidenum">
              <a:rPr b="0" lang="ru-RU" sz="1000" spc="-1" strike="noStrike">
                <a:solidFill>
                  <a:srgbClr val="cc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914400" y="-1429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сновные задачи на 2010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лан  по ТП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87280" y="1197000"/>
          <a:ext cx="6858000" cy="1366920"/>
        </p:xfrm>
        <a:graphic>
          <a:graphicData uri="http://schemas.openxmlformats.org/drawingml/2006/table">
            <a:tbl>
              <a:tblPr/>
              <a:tblGrid>
                <a:gridCol w="1327320"/>
                <a:gridCol w="1519200"/>
                <a:gridCol w="1352520"/>
                <a:gridCol w="1343160"/>
                <a:gridCol w="1315800"/>
              </a:tblGrid>
              <a:tr h="54792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илиал ОАО «ТГК-11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ехперевооружение и реконструкция, млн.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овое строительство, млн.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словно-постоянные затраты, млн.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сего, млн.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омский фили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мский фили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2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7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А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27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8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7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250920" y="2640960"/>
            <a:ext cx="8497800" cy="37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" tIns="10800" bIns="10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вестиционной программой по Томскому филиалу </a:t>
            </a: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АО «ТГК-11» на 2010 год планируется освоить капитальных вложений в размере  306,2 млн. руб., ввести в эксплуатацию основных фондов на 221,1 млн.руб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объекты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Реконструкция ЗУУ котла ст. №5 Томской ГРЭС-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Реконструкция участка тепломагистрали №4 Тепловых сетей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вестиционной программой по Омскому филиалу </a:t>
            </a: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АО «ТГК-11» 2010г. предусмотрено освоение капитальных вложений в размере 1 378, 884 млн. руб., В том числе по блокам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екты по технической необходимости – на сумму 742,816 млн. руб., в том числе по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Модернизация градирни №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Реконструкция системы циркуляционного водоснабжения 1 очереди ТЭЦ-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энергетических мощностей – на сумму 27,118 млн.руб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Реконструкция ПНС-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ие – на сумму 119,549 млн.руб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Модернизация системы телекоммуникаций и связи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задачи и спецпроекты на сумму 45,675 млн.руб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екты по ДПМ на сумму 438,402 млн.руб., из них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Строительство ПГУ-90 (2 х ГТД-30 + Т-30) ПИР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ru-RU" sz="1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Замена трансформатора турбоагрегата ПТ-60-90 ст. № 9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9:04:31Z</dcterms:created>
  <dc:creator>Д</dc:creator>
  <dc:description/>
  <dc:language>en-US</dc:language>
  <cp:lastModifiedBy>Володин</cp:lastModifiedBy>
  <dcterms:modified xsi:type="dcterms:W3CDTF">2010-05-19T06:26:37Z</dcterms:modified>
  <cp:revision>508</cp:revision>
  <dc:subject/>
  <dc:title>Слайд 1</dc:title>
</cp:coreProperties>
</file>