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9151-3BC3-4D66-AE33-988B7F982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64F4-0F34-4A3F-B56C-4043C4E3D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89A27-68AE-4F67-B1B6-CC4C314C4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67A0FF-B6B6-4CBA-B4C7-5FF33C8C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757-021B-420F-A3E7-6BBE6E23E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3E21D-1A69-4D38-AF55-219DB6A8F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697E9-A169-4BE4-AF50-13C864880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8521-0E4F-4BF1-A286-BFB3CD3D6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6613-1C95-4F7A-ABE8-6C19A2DB4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7BFC-F3EA-4BA1-917D-7E336051F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B25D-5C79-4DE8-9A9E-B1A3D3642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404F-CFF9-44FF-BFDF-66EBEB1DE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7C44-52F4-45C5-918F-1DBAB9DBE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1523-B384-40C4-8E46-1F69EB50E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351A-57AA-49C5-92C0-2BB7FDFA8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0B2D-84E6-40EA-8CA1-F08A15FD8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69CB-0358-4A88-8B74-DBC21B0E0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64C1-1C54-439B-8DEE-96A8FAD6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606A-19A3-40FF-B773-3A2A47ECB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403280" y="0"/>
            <a:ext cx="7740720" cy="11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3"/>
          <a:srcRect l="6813" t="8918" r="9478" b="10640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028000" y="6524280"/>
            <a:ext cx="6588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7C9-5659-402B-96C0-148BB1E21376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883-8F2A-496D-BD3F-BFB48EE4666E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8CA-F426-4F77-A127-5D7D42F0D729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900000" y="220500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«О подходах к формированию программ обеспечения энергетической эффективности  тепловых электростанций энергосистемы Сибир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28840" y="0"/>
            <a:ext cx="7715160" cy="11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АО «Территориальная генерирующая компания № 11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403280" y="1125360"/>
            <a:ext cx="7740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6813" t="8918" r="9478" b="10640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sp>
        <p:nvSpPr>
          <p:cNvPr id="52" name="Line 8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6d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667240" y="5373720"/>
            <a:ext cx="530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Докладчик – Председатель Совета СЭ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Генеральный директор ОАО «ТГК-11»  С.И. Кожемя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028-0262-4FAE-A92B-B9C7857EA458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357200" y="260280"/>
            <a:ext cx="7786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8"/>
          <p:cNvSpPr/>
          <p:nvPr/>
        </p:nvSpPr>
        <p:spPr>
          <a:xfrm>
            <a:off x="0" y="1125360"/>
            <a:ext cx="8748720" cy="62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38088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Arial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ывод из эксплуатации низкоэффективного оборудования (90 ата ) и замещение его высокоэффективными энергоблоками ПГУ -90 (ТЭЦ-3 Омский филиал, ГТУ-16 Томский филиал) – ввод 2012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Arial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еконструкция турбин ТЭЦ-3 и ТЭЦ-5 Омский филиал- (повышение мощности и кпд проточной част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Arial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зработка и реализация  быстроокупаемых проектов по экономии ТЭР (топливно-энергетических ресурс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Arial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зработка и включение в инвестиционную программу мероприятий направленных на энергосбережение и повышение энергетической эффектив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Wingdings" charset="2"/>
              <a:buChar char="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еконструкция градирен с установкой высокоэффективных оросителей(ТЭЦ-3, ТЭЦ-5 Омский филиал, ГРЭС-2 Томский фили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Wingdings" charset="2"/>
              <a:buChar char="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недрение ЧРП(частотных приводов) на ПНС (Тепловые сети) и механизмах собственных нужд электростанц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Wingdings" charset="2"/>
              <a:buChar char="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становка гидромуфты (ПЭН ГРЭС-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 algn="just">
              <a:lnSpc>
                <a:spcPct val="100000"/>
              </a:lnSpc>
              <a:spcBef>
                <a:spcPts val="601"/>
              </a:spcBef>
              <a:buClr>
                <a:srgbClr val="a3b2c1"/>
              </a:buClr>
              <a:buFont typeface="Wingdings" charset="2"/>
              <a:buChar char="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Модернизация сети освещения с установкой энергосберегающих светиль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5. Развитие теплосетевого комплекса с целью перераспределения  и увеличения тепловых нагрузок и теплофикационной загрузки оборудования электростанций (Тепловые сети Омский и Томский филиал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90000"/>
              </a:lnSpc>
              <a:spcBef>
                <a:spcPts val="601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90000"/>
              </a:lnSpc>
              <a:spcBef>
                <a:spcPts val="67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476360" y="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сновные мероприятия  программы, направленные на повышение энергоэффективности  работы оборудова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АО «ТГК-11» на 2011 – 2015 г.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221-EBAD-4771-B391-4C3A52E7D6CB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357200" y="260280"/>
            <a:ext cx="7786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0" y="1125360"/>
            <a:ext cx="914400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380880" algn="just">
              <a:lnSpc>
                <a:spcPct val="90000"/>
              </a:lnSpc>
              <a:spcBef>
                <a:spcPts val="67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90000"/>
              </a:lnSpc>
              <a:spcBef>
                <a:spcPts val="67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557360"/>
            <a:ext cx="712944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 мая 2010 года Президент РФ Дмитрий Медведев подписал указ «Об оценке эффективности деятельности органов исполнительной власти субъектов Российской Федерации и органов местного самоуправления городских округов и муниципальных районов в области энергосбережения и повышения энергетической эффективности». Данный указ является дополнительным стимулом к объединению усилий власти и бизнеса для реализации проектов в области снижения энергоемкости ВРП в СФ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EB8-3619-414B-BDFB-8D21D5E60FF6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B23-7C94-49F8-816F-A03E05C88CFF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900000" y="328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428840" y="0"/>
            <a:ext cx="7715160" cy="11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АО «Территориальная генерирующая компания № 1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403280" y="1125360"/>
            <a:ext cx="7740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rcRect l="6813" t="8918" r="9478" b="10640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sp>
        <p:nvSpPr>
          <p:cNvPr id="172" name="Line 8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6d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CB1-88E0-4953-B142-8EE51CE15B95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03280" y="260280"/>
            <a:ext cx="7740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я для разработки Программы энергосбережения и повышения энергоэффектив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285840" y="1357200"/>
            <a:ext cx="831852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380880" algn="just">
              <a:lnSpc>
                <a:spcPct val="120000"/>
              </a:lnSpc>
              <a:spcBef>
                <a:spcPts val="82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  <a:ea typeface="Calibri"/>
              </a:rPr>
              <a:t>Федеральный закон Российской Федерации от 23 ноября 2009 года «Об энергосбережении и о повышении энергетической эффективности и о внесении изменений в отдельные законодательные акты Российской Федерации»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20000"/>
              </a:lnSpc>
              <a:spcBef>
                <a:spcPts val="82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  <a:ea typeface="Calibri"/>
              </a:rPr>
              <a:t>Энергетическая стратегия России до 2030 г., утвержденная Правительством РФ 26 ноября 2009 г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380880" algn="just">
              <a:lnSpc>
                <a:spcPct val="120000"/>
              </a:lnSpc>
              <a:spcBef>
                <a:spcPts val="825"/>
              </a:spcBef>
              <a:buClr>
                <a:srgbClr val="a3b2c1"/>
              </a:buClr>
              <a:buFont typeface="Wingdings" charset="2"/>
              <a:buChar char="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  <a:ea typeface="Calibri"/>
              </a:rPr>
              <a:t>Поручение Правительства Российской Федерации от 30.12.2009 г. «Реализация организациями с государственным участием мероприятий по разработке программ энергосбережения и повышения энергоэффективности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3AF-AAA9-4181-AEC5-41668615F190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142560"/>
            <a:ext cx="7740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екущая ситуация в области энерго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50920" y="6021360"/>
            <a:ext cx="8640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61000"/>
            <a:ext cx="82087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настоящее время решение проблемы энергоэффективности – один из приоритетов национальной политики России. На каждую тысячу евро ВВП  в России потребляется 1,39 т условного топлива – в три раза больше, чем в Канаде, стране со схожим климатом, и в шесть раз больше в сравнении с Финлянди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7020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3E86-1762-409F-B29E-75D5615E1582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42560"/>
            <a:ext cx="7740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тенциал энергосбережения в ТЭК Росс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50920" y="6021360"/>
            <a:ext cx="8640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9"/>
          <p:cNvGrpSpPr/>
          <p:nvPr/>
        </p:nvGrpSpPr>
        <p:grpSpPr>
          <a:xfrm>
            <a:off x="-1044720" y="1484280"/>
            <a:ext cx="6480360" cy="3851280"/>
            <a:chOff x="-1044720" y="1484280"/>
            <a:chExt cx="6480360" cy="3851280"/>
          </a:xfrm>
        </p:grpSpPr>
        <p:sp>
          <p:nvSpPr>
            <p:cNvPr id="67" name="Line 70"/>
            <p:cNvSpPr/>
            <p:nvPr/>
          </p:nvSpPr>
          <p:spPr>
            <a:xfrm>
              <a:off x="903600" y="3979440"/>
              <a:ext cx="0" cy="13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4146480" y="3979440"/>
              <a:ext cx="0" cy="13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72"/>
            <p:cNvGrpSpPr/>
            <p:nvPr/>
          </p:nvGrpSpPr>
          <p:grpSpPr>
            <a:xfrm>
              <a:off x="-1044720" y="1484280"/>
              <a:ext cx="6480360" cy="3851280"/>
              <a:chOff x="-1044720" y="1484280"/>
              <a:chExt cx="6480360" cy="3851280"/>
            </a:xfrm>
          </p:grpSpPr>
          <p:grpSp>
            <p:nvGrpSpPr>
              <p:cNvPr id="70" name="Group 73"/>
              <p:cNvGrpSpPr/>
              <p:nvPr/>
            </p:nvGrpSpPr>
            <p:grpSpPr>
              <a:xfrm>
                <a:off x="-1044720" y="1484280"/>
                <a:ext cx="6480360" cy="3851280"/>
                <a:chOff x="-1044720" y="1484280"/>
                <a:chExt cx="6480360" cy="3851280"/>
              </a:xfrm>
            </p:grpSpPr>
            <p:sp>
              <p:nvSpPr>
                <p:cNvPr id="71" name="Line 74"/>
                <p:cNvSpPr/>
                <p:nvPr/>
              </p:nvSpPr>
              <p:spPr>
                <a:xfrm flipH="1">
                  <a:off x="918360" y="5303880"/>
                  <a:ext cx="324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Object 19"/>
                <p:cNvGraphicFramePr/>
                <p:nvPr/>
              </p:nvGraphicFramePr>
              <p:xfrm>
                <a:off x="-1044720" y="1484280"/>
                <a:ext cx="6480360" cy="3585240"/>
              </p:xfrm>
              <a:graphic>
                <a:graphicData uri="http://schemas.openxmlformats.org/presentationml/2006/ole">
                  <p:oleObj progId="Excel.Sheet.12" r:id="rId2" spid="">
                    <p:embed/>
                    <p:pic>
                      <p:nvPicPr>
                        <p:cNvPr id="73" name="Object 19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-1044720" y="1484280"/>
                          <a:ext cx="6480360" cy="358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4" name="Text Box 76"/>
                <p:cNvSpPr/>
                <p:nvPr/>
              </p:nvSpPr>
              <p:spPr>
                <a:xfrm>
                  <a:off x="1987200" y="4998240"/>
                  <a:ext cx="1149840" cy="33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ТЭК – 3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Text Box 77"/>
              <p:cNvSpPr/>
              <p:nvPr/>
            </p:nvSpPr>
            <p:spPr>
              <a:xfrm>
                <a:off x="1840680" y="3019680"/>
                <a:ext cx="1343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Times New Roman"/>
                  </a:rPr>
                  <a:t>Потенциал всег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Times New Roman"/>
                  </a:rPr>
                  <a:t>420 млн. ту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Rectangle 62"/>
          <p:cNvSpPr/>
          <p:nvPr/>
        </p:nvSpPr>
        <p:spPr>
          <a:xfrm>
            <a:off x="4788000" y="2227320"/>
            <a:ext cx="374328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 оценке АПБЭ и ЦЭНЭФ потенциал энергосбережения в ТЭК России (с учетом использования попутного газа) составляет  более 420 млн. т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1AE4-5A03-44AA-B5EB-1B97FC1F8E5E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76360" y="260280"/>
            <a:ext cx="7667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оэффективность в энергетике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684360" y="206064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нергоэффективност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в энергетической отрасли определяется удельной величиной расхода условного топлива на единицу продукции, т.е. степенью использования потенциала топлива при производстве электрической и тепл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B4E-0BBC-435C-97B5-9481CAC4995B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476360" y="189000"/>
            <a:ext cx="7667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иции ОАО «ТГК-11» в области энергоэффективности</a:t>
            </a:r>
            <a:br>
              <a:rPr sz="18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268280"/>
          <a:ext cx="8209080" cy="5097600"/>
        </p:xfrm>
        <a:graphic>
          <a:graphicData uri="http://schemas.openxmlformats.org/drawingml/2006/table">
            <a:tbl>
              <a:tblPr/>
              <a:tblGrid>
                <a:gridCol w="1440000"/>
                <a:gridCol w="1203120"/>
                <a:gridCol w="800280"/>
                <a:gridCol w="1028520"/>
                <a:gridCol w="640080"/>
                <a:gridCol w="641160"/>
                <a:gridCol w="1268640"/>
                <a:gridCol w="1187280"/>
              </a:tblGrid>
              <a:tr h="453240">
                <a:tc rowSpan="3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Энеpгетическое объеди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становленная электpическая    мощность                на конец года,        тыс. кВ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Выpаботка электpоэнеpгии, млн кВт·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дельный pасход условного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асход электpоэнеpгии на собственные нуж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 отпущенную электроэнергию, г/(кВт·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 отпущенное тепло, кг/Гк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 собственные нуж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Э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 выpаботку электpоэнеpгии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 отпуск теплоэнергии, кВтч/Гк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 gridSpan="8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ЭС Сиби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ГК-12 Алтайэнеp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Бийскэнер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ркутскэнер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ГК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ГК-12 Кузбассэнер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Новосибиpскэнеp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03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8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1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4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36000" rIns="10800" tIns="10800" bIns="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ГК-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2E7-9AF8-4D7F-9C11-FAE7E3A7275D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357200" y="260280"/>
            <a:ext cx="7786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403280" y="260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ия для разработки программы повышения энергоэффективности для энергетических комп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9"/>
          <p:cNvSpPr/>
          <p:nvPr/>
        </p:nvSpPr>
        <p:spPr>
          <a:xfrm>
            <a:off x="174600" y="1844640"/>
            <a:ext cx="1677960" cy="4176720"/>
          </a:xfrm>
          <a:prstGeom prst="rightArrowCallout">
            <a:avLst>
              <a:gd name="adj1" fmla="val 22059"/>
              <a:gd name="adj2" fmla="val 32970"/>
              <a:gd name="adj3" fmla="val 18421"/>
              <a:gd name="adj4" fmla="val 74431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9"/>
          <p:cNvSpPr/>
          <p:nvPr/>
        </p:nvSpPr>
        <p:spPr>
          <a:xfrm rot="5400000">
            <a:off x="3714840" y="-285840"/>
            <a:ext cx="1643040" cy="4500720"/>
          </a:xfrm>
          <a:prstGeom prst="rightArrowCallout">
            <a:avLst>
              <a:gd name="adj1" fmla="val 17401"/>
              <a:gd name="adj2" fmla="val 25985"/>
              <a:gd name="adj3" fmla="val 18421"/>
              <a:gd name="adj4" fmla="val 74431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9"/>
          <p:cNvSpPr/>
          <p:nvPr/>
        </p:nvSpPr>
        <p:spPr>
          <a:xfrm flipV="1" rot="10800000">
            <a:off x="7092720" y="2133720"/>
            <a:ext cx="1871640" cy="3357360"/>
          </a:xfrm>
          <a:prstGeom prst="rightArrowCallout">
            <a:avLst>
              <a:gd name="adj1" fmla="val 19916"/>
              <a:gd name="adj2" fmla="val 29747"/>
              <a:gd name="adj3" fmla="val 18421"/>
              <a:gd name="adj4" fmla="val 74431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9"/>
          <p:cNvSpPr/>
          <p:nvPr/>
        </p:nvSpPr>
        <p:spPr>
          <a:xfrm flipH="1" rot="5400000">
            <a:off x="3809880" y="3476160"/>
            <a:ext cx="1524240" cy="4429440"/>
          </a:xfrm>
          <a:prstGeom prst="rightArrowCallout">
            <a:avLst>
              <a:gd name="adj1" fmla="val 22012"/>
              <a:gd name="adj2" fmla="val 32881"/>
              <a:gd name="adj3" fmla="val 18421"/>
              <a:gd name="adj4" fmla="val 74431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7"/>
          <p:cNvSpPr/>
          <p:nvPr/>
        </p:nvSpPr>
        <p:spPr>
          <a:xfrm>
            <a:off x="1857240" y="2786040"/>
            <a:ext cx="5200920" cy="2171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214720" y="3000240"/>
            <a:ext cx="4727520" cy="1585800"/>
          </a:xfrm>
          <a:prstGeom prst="rect">
            <a:avLst/>
          </a:prstGeom>
          <a:solidFill>
            <a:srgbClr val="0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Улучшение показателя энергоэффективности  до уровня передовых российских энергетических компаний за счет широкомасштабного внедрения наиболее энергоэффективного оборудования и технологий, а также использования наилучших практик по управлению оборудованием, при условии получения положительного экономического эффек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428920" y="1071720"/>
            <a:ext cx="428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ероприятия организационного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(мероприятия направлены на создание в компании системы управления энергоэффективностью, которая будет обеспечивать реализацию мероприятий в области повышения энергоэффективности и энергосбережения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65240" y="1989000"/>
            <a:ext cx="13572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Мероприятия по мобилизации существующих на предприятиях внутренних техн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мероприятия эксплуатационного и ремонтно-сервисного характера, которые направлены на повышение энергоэффективности и энергосбережение действующего оборудования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7429680" y="2133720"/>
            <a:ext cx="17143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ероприя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 модерниз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еконструкц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новому строительству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(мероприятия направл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повышение энергоэффективности за с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внед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новационных, наи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энергоэффектив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хнологий и технически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реш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549160" y="5500800"/>
            <a:ext cx="412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Специальные мероприятия (спецпроекты и спецзадачи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направленные на повышение энергоэффектив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и надежности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7D67-FC0F-4FFE-AD3F-0670038462DD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357200" y="260280"/>
            <a:ext cx="7786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85840" y="1357200"/>
            <a:ext cx="8640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285840" y="1357200"/>
            <a:ext cx="88581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380880" algn="just">
              <a:lnSpc>
                <a:spcPct val="90000"/>
              </a:lnSpc>
              <a:spcBef>
                <a:spcPts val="901"/>
              </a:spcBef>
              <a:buClr>
                <a:srgbClr val="a3b2c1"/>
              </a:buClr>
              <a:buFont typeface="Wingdings" charset="2"/>
              <a:buChar char="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1403280" y="260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Целевые индикаторы и показатели ОАО «ТГК-11» на перспективу до 2015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847880" y="1571760"/>
            <a:ext cx="352440" cy="1780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800440" y="1924200"/>
            <a:ext cx="352440" cy="14284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5"/>
          <p:cNvSpPr/>
          <p:nvPr/>
        </p:nvSpPr>
        <p:spPr>
          <a:xfrm>
            <a:off x="2314440" y="2495520"/>
            <a:ext cx="409680" cy="190440"/>
          </a:xfrm>
          <a:prstGeom prst="rightArrow">
            <a:avLst>
              <a:gd name="adj1" fmla="val 50000"/>
              <a:gd name="adj2" fmla="val 53781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6248520" y="1619280"/>
            <a:ext cx="352440" cy="1781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7201080" y="1971720"/>
            <a:ext cx="352080" cy="14288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6724800" y="2457360"/>
            <a:ext cx="409320" cy="190440"/>
          </a:xfrm>
          <a:prstGeom prst="rightArrow">
            <a:avLst>
              <a:gd name="adj1" fmla="val 50000"/>
              <a:gd name="adj2" fmla="val 53733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632600" y="340524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31440" y="3500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614320" y="33955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7036920" y="35244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755640" y="3789360"/>
            <a:ext cx="37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Снижение удельной величины расхода условного топлива при производстве электрической энергии (гут/кВт*ч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5219640" y="3860640"/>
            <a:ext cx="36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нижение удельной величины расхода условного топлива при производстве тепловой энергии (кгут/Гка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9"/>
          <p:cNvSpPr/>
          <p:nvPr/>
        </p:nvSpPr>
        <p:spPr>
          <a:xfrm>
            <a:off x="468360" y="537372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нижение величины расхода условного топлива при производстве электроэнергии и тепла по результатам реализации мероприятий Программы позволит получать в период с 2010 по 20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г.г. экономию в объеме   около 85 тыс.т.у.т. в год, что в денежном выражении составит 150 млн. руб. (до 20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д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708920" y="11970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4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701080" y="1571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058800" y="12859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7072200" y="1500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4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EA3-FB41-46B3-B8ED-C5F2D3BC433B}" type="slidenum">
              <a:rPr b="0" lang="en-US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5724360" y="1762200"/>
            <a:ext cx="1482840" cy="6984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1"/>
          <p:cNvSpPr/>
          <p:nvPr/>
        </p:nvSpPr>
        <p:spPr>
          <a:xfrm>
            <a:off x="5338800" y="1760400"/>
            <a:ext cx="1122480" cy="698760"/>
          </a:xfrm>
          <a:custGeom>
            <a:avLst/>
            <a:gdLst>
              <a:gd name="textAreaLeft" fmla="*/ 0 w 1122480"/>
              <a:gd name="textAreaRight" fmla="*/ 1122480 w 11224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4680000" y="1758960"/>
            <a:ext cx="858960" cy="698400"/>
          </a:xfrm>
          <a:custGeom>
            <a:avLst/>
            <a:gdLst>
              <a:gd name="textAreaLeft" fmla="*/ 0 w 858960"/>
              <a:gd name="textAreaRight" fmla="*/ 859320 w 8589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784600" y="1758960"/>
            <a:ext cx="2071440" cy="698400"/>
          </a:xfrm>
          <a:custGeom>
            <a:avLst/>
            <a:gdLst>
              <a:gd name="textAreaLeft" fmla="*/ 0 w 2071440"/>
              <a:gd name="textAreaRight" fmla="*/ 2071440 w 20714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73280" y="1758960"/>
            <a:ext cx="2309760" cy="698400"/>
          </a:xfrm>
          <a:custGeom>
            <a:avLst/>
            <a:gdLst>
              <a:gd name="textAreaLeft" fmla="*/ 0 w 2309760"/>
              <a:gd name="textAreaRight" fmla="*/ 2309760 w 2309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3581280" y="2552760"/>
            <a:ext cx="304920" cy="431640"/>
          </a:xfrm>
          <a:prstGeom prst="downArrow">
            <a:avLst>
              <a:gd name="adj1" fmla="val 50000"/>
              <a:gd name="adj2" fmla="val 326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5022720" y="2558880"/>
            <a:ext cx="282600" cy="419400"/>
          </a:xfrm>
          <a:prstGeom prst="downArrow">
            <a:avLst>
              <a:gd name="adj1" fmla="val 50000"/>
              <a:gd name="adj2" fmla="val 34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7748640" y="1876320"/>
            <a:ext cx="1066680" cy="676440"/>
          </a:xfrm>
          <a:prstGeom prst="flowChart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реднесроч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лан-прогно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8118360" y="2587680"/>
            <a:ext cx="304920" cy="431640"/>
          </a:xfrm>
          <a:prstGeom prst="downArrow">
            <a:avLst>
              <a:gd name="adj1" fmla="val 50000"/>
              <a:gd name="adj2" fmla="val 326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706320" y="176112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981160" y="1773720"/>
            <a:ext cx="83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4815000" y="17485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4835520" y="3066120"/>
            <a:ext cx="7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8"/>
          <p:cNvSpPr/>
          <p:nvPr/>
        </p:nvSpPr>
        <p:spPr>
          <a:xfrm rot="5400000">
            <a:off x="1904400" y="2784240"/>
            <a:ext cx="1028880" cy="628920"/>
          </a:xfrm>
          <a:custGeom>
            <a:avLst/>
            <a:gdLst>
              <a:gd name="textAreaLeft" fmla="*/ 0 w 1028880"/>
              <a:gd name="textAreaRight" fmla="*/ 925560 w 1028880"/>
              <a:gd name="textAreaTop" fmla="*/ 459720 h 628920"/>
              <a:gd name="textAreaBottom" fmla="*/ 629280 h 628920"/>
            </a:gdLst>
            <a:ahLst/>
            <a:rect l="textAreaLeft" t="textAreaTop" r="textAreaRight" b="textAreaBottom"/>
            <a:pathLst>
              <a:path w="21600" h="21600">
                <a:moveTo>
                  <a:pt x="16811" y="0"/>
                </a:moveTo>
                <a:lnTo>
                  <a:pt x="12021" y="10448"/>
                </a:lnTo>
                <a:lnTo>
                  <a:pt x="14196" y="10448"/>
                </a:lnTo>
                <a:lnTo>
                  <a:pt x="14196" y="15786"/>
                </a:lnTo>
                <a:lnTo>
                  <a:pt x="0" y="15786"/>
                </a:lnTo>
                <a:lnTo>
                  <a:pt x="0" y="21600"/>
                </a:lnTo>
                <a:lnTo>
                  <a:pt x="19425" y="21600"/>
                </a:lnTo>
                <a:lnTo>
                  <a:pt x="19425" y="10448"/>
                </a:lnTo>
                <a:lnTo>
                  <a:pt x="21600" y="1044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ханизм планирования и  реализации программы повышения энергоэффективности ОАО «ТГК-1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494680" y="19573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5492880" y="17485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372360" y="184536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6"/>
          <p:cNvSpPr/>
          <p:nvPr/>
        </p:nvSpPr>
        <p:spPr>
          <a:xfrm>
            <a:off x="7640640" y="3060720"/>
            <a:ext cx="1482840" cy="6984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7"/>
          <p:cNvSpPr/>
          <p:nvPr/>
        </p:nvSpPr>
        <p:spPr>
          <a:xfrm>
            <a:off x="7305840" y="3060720"/>
            <a:ext cx="1123920" cy="69840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8"/>
          <p:cNvSpPr/>
          <p:nvPr/>
        </p:nvSpPr>
        <p:spPr>
          <a:xfrm>
            <a:off x="6910560" y="3060720"/>
            <a:ext cx="858600" cy="698400"/>
          </a:xfrm>
          <a:custGeom>
            <a:avLst/>
            <a:gdLst>
              <a:gd name="textAreaLeft" fmla="*/ 0 w 858600"/>
              <a:gd name="textAreaRight" fmla="*/ 858960 w 8586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045200" y="3050280"/>
            <a:ext cx="7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724880" y="32590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723080" y="305028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8372520" y="3050280"/>
            <a:ext cx="7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4718160" y="3063960"/>
            <a:ext cx="2309760" cy="698400"/>
          </a:xfrm>
          <a:custGeom>
            <a:avLst/>
            <a:gdLst>
              <a:gd name="textAreaLeft" fmla="*/ 0 w 2309760"/>
              <a:gd name="textAreaRight" fmla="*/ 2309760 w 2309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4772160" y="30628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5"/>
          <p:cNvSpPr/>
          <p:nvPr/>
        </p:nvSpPr>
        <p:spPr>
          <a:xfrm>
            <a:off x="2992320" y="4276800"/>
            <a:ext cx="1489320" cy="771480"/>
          </a:xfrm>
          <a:prstGeom prst="flowChart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Годовой бизнес-план, Инвестиционная программа, Программа сокращения издерже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6"/>
          <p:cNvSpPr/>
          <p:nvPr/>
        </p:nvSpPr>
        <p:spPr>
          <a:xfrm rot="10800000">
            <a:off x="3595320" y="3797280"/>
            <a:ext cx="304920" cy="432000"/>
          </a:xfrm>
          <a:prstGeom prst="downArrow">
            <a:avLst>
              <a:gd name="adj1" fmla="val 50000"/>
              <a:gd name="adj2" fmla="val 3269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41120" y="2614680"/>
            <a:ext cx="1873440" cy="268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Ежегодная актуализация Программы с учетом, итогов за истекший год, изменившихся сценарных условий, результатов энергетических обследований активов, появившихся на рынке новых технических решения и инновационных технологий, показателей деятельности станций с аналогичным оборудованием (отраслевой бенчмаркинг), изменившихся возможностей по привлечению финансирования для реализации Программы и т.д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2770200" y="3063960"/>
            <a:ext cx="2089080" cy="6984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3" y="0"/>
                </a:lnTo>
                <a:lnTo>
                  <a:pt x="21600" y="10800"/>
                </a:lnTo>
                <a:lnTo>
                  <a:pt x="202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2749680" y="30726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0"/>
          <p:cNvSpPr/>
          <p:nvPr/>
        </p:nvSpPr>
        <p:spPr>
          <a:xfrm>
            <a:off x="539640" y="5373720"/>
            <a:ext cx="8385120" cy="119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лючевым фактором успешной реализации Программы являются активные и целенаправленные действия персонала станций и исполнительного аппарата ОАО «ТГК-11» по разработке и реализации мероприятий Программы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 целью решения данного вопроса в Программе предусмотрено мероприятие по созданию системы мотивации персонала компании  на разработку и реализацию мероприятий по повышению энергоэффективности и энергосбережению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1"/>
          <p:cNvSpPr/>
          <p:nvPr/>
        </p:nvSpPr>
        <p:spPr>
          <a:xfrm>
            <a:off x="5081760" y="4303800"/>
            <a:ext cx="3647880" cy="550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роприятия Программы реализуются за счет собственных и заемных средств, а также средств исполнителя проекта (используя «классическую» схему энергосервисного договор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2"/>
          <p:cNvSpPr/>
          <p:nvPr/>
        </p:nvSpPr>
        <p:spPr>
          <a:xfrm rot="10800000">
            <a:off x="6770160" y="3806640"/>
            <a:ext cx="304920" cy="431640"/>
          </a:xfrm>
          <a:prstGeom prst="downArrow">
            <a:avLst>
              <a:gd name="adj1" fmla="val 50000"/>
              <a:gd name="adj2" fmla="val 326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9:04:31Z</dcterms:created>
  <dc:creator>Д</dc:creator>
  <dc:description/>
  <dc:language>en-US</dc:language>
  <cp:lastModifiedBy>invest</cp:lastModifiedBy>
  <dcterms:modified xsi:type="dcterms:W3CDTF">2010-05-17T09:33:57Z</dcterms:modified>
  <cp:revision>542</cp:revision>
  <dc:subject/>
  <dc:title>Слайд 1</dc:title>
</cp:coreProperties>
</file>