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F4F9-F120-4963-8BF4-4FB57767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E95B-ABFC-43DA-A0D5-937C7023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C166-2826-42F0-AAAF-16047C8F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1D3-3724-4C0D-BAA3-44722DE1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06F-6990-43B5-980F-F6FF3DC9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41C-63EC-41A7-BD55-5FA62539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7040-4DC8-4C28-96D7-9C86B1F5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162-6AE9-4165-AD7D-0EAC5425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EA1-A663-40E5-B159-958CC804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B5B-FE4B-4ECB-9D1C-651FB034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7C81-838B-43A8-94FB-AB2A510A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1ED0-810E-4128-A255-0B7D65AB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6F52-BE4B-4960-8F34-96265F151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189000"/>
            <a:ext cx="8713800" cy="914400"/>
          </a:xfrm>
          <a:prstGeom prst="rect">
            <a:avLst/>
          </a:prstGeom>
          <a:gradFill rotWithShape="0">
            <a:gsLst>
              <a:gs pos="0">
                <a:srgbClr val="fcf97b"/>
              </a:gs>
              <a:gs pos="100000">
                <a:srgbClr val="f2f8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Направления использования золошлаков ТЭС в хозяй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49000" y="1338120"/>
            <a:ext cx="7319160" cy="5168520"/>
            <a:chOff x="549000" y="1338120"/>
            <a:chExt cx="7319160" cy="5168520"/>
          </a:xfrm>
        </p:grpSpPr>
        <p:sp>
          <p:nvSpPr>
            <p:cNvPr id="44" name=""/>
            <p:cNvSpPr/>
            <p:nvPr/>
          </p:nvSpPr>
          <p:spPr>
            <a:xfrm>
              <a:off x="2192400" y="1338120"/>
              <a:ext cx="4779360" cy="32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ЗОЛОШЛАКОВЫЕ МАТЕРИАЛ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48880" y="2091960"/>
              <a:ext cx="1991160" cy="7531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ямая замена природных строитель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материал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48880" y="3061080"/>
              <a:ext cx="1990080" cy="4302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 строительств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оро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48880" y="3706920"/>
              <a:ext cx="1990080" cy="40932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 обратной засыпк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37360" y="2091960"/>
              <a:ext cx="1940400" cy="753120"/>
            </a:xfrm>
            <a:prstGeom prst="rect">
              <a:avLst/>
            </a:prstGeom>
            <a:solidFill>
              <a:srgbClr val="ffff99">
                <a:alpha val="97000"/>
              </a:srgbClr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ырьев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компонент для строитель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материал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4433760" y="1661040"/>
              <a:ext cx="720" cy="43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76800" y="2091960"/>
              <a:ext cx="1791360" cy="763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Исходны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ресурс дл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олуч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ценного сырь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48880" y="4245480"/>
              <a:ext cx="1990080" cy="44496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 исправлении рельеф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48880" y="4891320"/>
              <a:ext cx="1990080" cy="7934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 промежуточной рекультивации полигонов и свалок ТБ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8880" y="5860080"/>
              <a:ext cx="1990080" cy="64584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 промышленном и гражданском строительств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92400" y="1876680"/>
              <a:ext cx="478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192400" y="1876680"/>
              <a:ext cx="720" cy="21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973200" y="1876680"/>
              <a:ext cx="720" cy="21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237840" y="2630520"/>
              <a:ext cx="720" cy="344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77280" y="2522160"/>
              <a:ext cx="720" cy="344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49000" y="2522520"/>
              <a:ext cx="29916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5776920" y="2522160"/>
              <a:ext cx="298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76800" y="3061080"/>
              <a:ext cx="1643040" cy="494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дел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микросф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76800" y="3706920"/>
              <a:ext cx="1643040" cy="449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дел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ксидов желез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76800" y="4352760"/>
              <a:ext cx="1672920" cy="430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деление оксидов алюми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76800" y="4998600"/>
              <a:ext cx="1704600" cy="43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деление кремнезем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76800" y="5644440"/>
              <a:ext cx="1643040" cy="8211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деление редких и редкоземельных элемен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77280" y="3276360"/>
              <a:ext cx="29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77280" y="3922200"/>
              <a:ext cx="299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77280" y="4568400"/>
              <a:ext cx="29916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77280" y="5214240"/>
              <a:ext cx="29916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77280" y="5968080"/>
              <a:ext cx="28044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237480" y="2630520"/>
              <a:ext cx="29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37360" y="3061080"/>
              <a:ext cx="1941480" cy="6447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 производстве стеновых материал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37360" y="3814200"/>
              <a:ext cx="1941480" cy="646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 производств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железобетон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здел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37360" y="4568400"/>
              <a:ext cx="1990080" cy="5374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 производств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товарного бето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37360" y="5321520"/>
              <a:ext cx="1991160" cy="430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 производств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цем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37360" y="5860080"/>
              <a:ext cx="1991160" cy="646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 производстве  сухих строительных смес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549360" y="2522520"/>
              <a:ext cx="720" cy="366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49360" y="3276000"/>
              <a:ext cx="299160" cy="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549360" y="3814200"/>
              <a:ext cx="299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49360" y="4460400"/>
              <a:ext cx="29916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9360" y="5321520"/>
              <a:ext cx="299160" cy="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9360" y="6183000"/>
              <a:ext cx="299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37840" y="3384000"/>
              <a:ext cx="29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237840" y="4137480"/>
              <a:ext cx="29916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37840" y="4783680"/>
              <a:ext cx="299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37840" y="5537160"/>
              <a:ext cx="302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37840" y="6075720"/>
              <a:ext cx="2980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59440" y="1338120"/>
            <a:ext cx="7570080" cy="5168520"/>
            <a:chOff x="559440" y="1338120"/>
            <a:chExt cx="7570080" cy="5168520"/>
          </a:xfrm>
        </p:grpSpPr>
        <p:sp>
          <p:nvSpPr>
            <p:cNvPr id="89" name=""/>
            <p:cNvSpPr/>
            <p:nvPr/>
          </p:nvSpPr>
          <p:spPr>
            <a:xfrm>
              <a:off x="2259000" y="1338120"/>
              <a:ext cx="4943520" cy="32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ОЛОШЛАКОВЫЕ МАТЕРИАЛ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69400" y="2091960"/>
              <a:ext cx="2059560" cy="7531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  <a:effectLst>
              <a:outerShdw dist="153753" dir="2700000" blurRad="0" rotWithShape="0">
                <a:srgbClr val="17cf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ямая замена природных строитель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материал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9400" y="3061080"/>
              <a:ext cx="2058120" cy="4302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 строительств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оро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9400" y="3706920"/>
              <a:ext cx="2058120" cy="40932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 обратной засыпк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50040" y="2091960"/>
              <a:ext cx="2007000" cy="753120"/>
            </a:xfrm>
            <a:prstGeom prst="rect">
              <a:avLst/>
            </a:prstGeom>
            <a:solidFill>
              <a:srgbClr val="ffff99">
                <a:alpha val="97000"/>
              </a:srgbClr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ырьев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компонент для строитель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материал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577040" y="1661040"/>
              <a:ext cx="720" cy="43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76600" y="2091960"/>
              <a:ext cx="1852920" cy="763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153753" dir="2700000" blurRad="0" rotWithShape="0">
                <a:srgbClr val="917c6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Исходны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ресурс дл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олуч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ценного сырь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9400" y="4245480"/>
              <a:ext cx="2058120" cy="44496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 исправлении рельеф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00" y="4891320"/>
              <a:ext cx="2058120" cy="7934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 промежуточной рекультивации полигонов и свалок ТБ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00" y="5860080"/>
              <a:ext cx="2058120" cy="64584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 промышленном и гражданском строительств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59000" y="1876680"/>
              <a:ext cx="494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259000" y="1876680"/>
              <a:ext cx="720" cy="21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03600" y="1876680"/>
              <a:ext cx="720" cy="21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340440" y="2630520"/>
              <a:ext cx="720" cy="344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5967000" y="2522160"/>
              <a:ext cx="720" cy="344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59440" y="2522520"/>
              <a:ext cx="30960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5966640" y="2522160"/>
              <a:ext cx="30852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76600" y="3061080"/>
              <a:ext cx="1699560" cy="494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ыдел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микросф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76600" y="3706920"/>
              <a:ext cx="1699560" cy="449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ыдел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оксидов желез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76600" y="4352760"/>
              <a:ext cx="1730160" cy="430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ыделение оксидов алюми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76600" y="4998600"/>
              <a:ext cx="1762920" cy="43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ыделение кремнезем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76600" y="5644440"/>
              <a:ext cx="1699560" cy="8211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ыделение редких и редкоземельных элемен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67000" y="3276360"/>
              <a:ext cx="30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67000" y="3922200"/>
              <a:ext cx="30960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67000" y="4568400"/>
              <a:ext cx="30960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67000" y="5214240"/>
              <a:ext cx="30960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67000" y="5968080"/>
              <a:ext cx="28980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340440" y="2630520"/>
              <a:ext cx="30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50040" y="3061080"/>
              <a:ext cx="2008080" cy="6447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 производстве стеновых материал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0040" y="3814200"/>
              <a:ext cx="2008080" cy="646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 производств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железобетон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издел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50040" y="4568400"/>
              <a:ext cx="2058120" cy="5374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 производств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товарного бето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50040" y="5321520"/>
              <a:ext cx="2059560" cy="430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 производств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цем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50040" y="5860080"/>
              <a:ext cx="2059560" cy="646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 производстве  сухих строительных смес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59440" y="2522520"/>
              <a:ext cx="720" cy="366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59440" y="3276000"/>
              <a:ext cx="309600" cy="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59440" y="3814200"/>
              <a:ext cx="30960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59440" y="4460400"/>
              <a:ext cx="30960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9440" y="5321520"/>
              <a:ext cx="309600" cy="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9440" y="6183000"/>
              <a:ext cx="30960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40440" y="3384000"/>
              <a:ext cx="30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340440" y="4137480"/>
              <a:ext cx="30960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40440" y="4783680"/>
              <a:ext cx="30960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40440" y="5537160"/>
              <a:ext cx="312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40440" y="6075720"/>
              <a:ext cx="308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418680"/>
            <a:ext cx="21956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72080" y="102240"/>
            <a:ext cx="8856720" cy="6620760"/>
            <a:chOff x="172080" y="102240"/>
            <a:chExt cx="8856720" cy="6620760"/>
          </a:xfrm>
        </p:grpSpPr>
        <p:sp>
          <p:nvSpPr>
            <p:cNvPr id="135" name=""/>
            <p:cNvSpPr/>
            <p:nvPr/>
          </p:nvSpPr>
          <p:spPr>
            <a:xfrm>
              <a:off x="172080" y="818640"/>
              <a:ext cx="2414520" cy="716400"/>
            </a:xfrm>
            <a:prstGeom prst="rect">
              <a:avLst/>
            </a:prstGeom>
            <a:gradFill rotWithShape="0">
              <a:gsLst>
                <a:gs pos="0">
                  <a:srgbClr val="66ff66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Эффект рационального использования инвестиционных ресурсо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32560" y="818640"/>
              <a:ext cx="2932560" cy="716400"/>
            </a:xfrm>
            <a:prstGeom prst="rect">
              <a:avLst/>
            </a:prstGeom>
            <a:gradFill rotWithShape="0">
              <a:gsLst>
                <a:gs pos="0">
                  <a:srgbClr val="66ff66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Эффект качественной подготовки и рационального управления кадровыми ресурса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38640" y="818640"/>
              <a:ext cx="2929320" cy="716400"/>
            </a:xfrm>
            <a:prstGeom prst="rect">
              <a:avLst/>
            </a:prstGeom>
            <a:gradFill rotWithShape="0">
              <a:gsLst>
                <a:gs pos="0">
                  <a:srgbClr val="66ff66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Эффект рационального использования природных  и повторно возобновляемых ресурсо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2560" y="1739880"/>
              <a:ext cx="6555600" cy="2790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50000">
                  <a:srgbClr val="ffff99"/>
                </a:gs>
                <a:gs pos="100000">
                  <a:srgbClr val="00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Эффект освоения инноваций в хозяйственной деятельнос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080" y="2354040"/>
              <a:ext cx="1553040" cy="10234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cffff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Снижение ресурсной емкости производимой продукц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97560" y="2354040"/>
              <a:ext cx="1726560" cy="1033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cffff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Улучшение качества и повышение надежности производимой продукц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95120" y="2354040"/>
              <a:ext cx="1380600" cy="1033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cffff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Увеличение чистого дисконтного доход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48160" y="2354040"/>
              <a:ext cx="1379520" cy="1033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cffff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Освоение малоотходного и безотходного производств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01560" y="2354040"/>
              <a:ext cx="2068560" cy="1033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cffff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Замена природных ресурсов на повторно возобновляемое сырьё и источники энерг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7680" y="3992040"/>
              <a:ext cx="2071080" cy="7092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ccff99"/>
                </a:gs>
                <a:gs pos="100000">
                  <a:srgbClr val="ffcc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Рациональное использование отходов текущего выход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74000" y="3992040"/>
              <a:ext cx="1954800" cy="709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ccff99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Рациональное использование накопленных отходо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2080" y="5015520"/>
              <a:ext cx="1379520" cy="614160"/>
            </a:xfrm>
            <a:prstGeom prst="rect">
              <a:avLst/>
            </a:prstGeom>
            <a:gradFill rotWithShape="0">
              <a:gsLst>
                <a:gs pos="0">
                  <a:srgbClr val="66ff99"/>
                </a:gs>
                <a:gs pos="50000">
                  <a:srgbClr val="ffff99"/>
                </a:gs>
                <a:gs pos="100000">
                  <a:srgbClr val="66ff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Снижение объемов выбросо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32560" y="5015520"/>
              <a:ext cx="1381680" cy="621360"/>
            </a:xfrm>
            <a:prstGeom prst="rect">
              <a:avLst/>
            </a:prstGeom>
            <a:gradFill rotWithShape="0">
              <a:gsLst>
                <a:gs pos="0">
                  <a:srgbClr val="99ff99"/>
                </a:gs>
                <a:gs pos="50000">
                  <a:srgbClr val="ffff99"/>
                </a:gs>
                <a:gs pos="100000">
                  <a:srgbClr val="99ff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Снижение объемов сбросо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57680" y="5015520"/>
              <a:ext cx="1724400" cy="614160"/>
            </a:xfrm>
            <a:prstGeom prst="rect">
              <a:avLst/>
            </a:prstGeom>
            <a:gradFill rotWithShape="0">
              <a:gsLst>
                <a:gs pos="0">
                  <a:srgbClr val="99ff99"/>
                </a:gs>
                <a:gs pos="50000">
                  <a:srgbClr val="ffff99"/>
                </a:gs>
                <a:gs pos="100000">
                  <a:srgbClr val="99ff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Снижение выхода твердых отходо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01560" y="5015520"/>
              <a:ext cx="2068560" cy="614160"/>
            </a:xfrm>
            <a:prstGeom prst="rect">
              <a:avLst/>
            </a:prstGeom>
            <a:gradFill rotWithShape="0">
              <a:gsLst>
                <a:gs pos="0">
                  <a:srgbClr val="99ff99"/>
                </a:gs>
                <a:gs pos="50000">
                  <a:srgbClr val="ffff99"/>
                </a:gs>
                <a:gs pos="100000">
                  <a:srgbClr val="99ff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Уменьшение объемов накопленных  отходо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78160" y="6039000"/>
              <a:ext cx="2642760" cy="3070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50000">
                  <a:srgbClr val="ffffcc"/>
                </a:gs>
                <a:gs pos="100000">
                  <a:srgbClr val="00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Экологический эффек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15600" y="6448680"/>
              <a:ext cx="4312080" cy="27432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50000">
                  <a:srgbClr val="ffff99"/>
                </a:gs>
                <a:gs pos="100000">
                  <a:srgbClr val="00ff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овокупный экономический эффек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80600" y="614160"/>
              <a:ext cx="6036480" cy="72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80600" y="614160"/>
              <a:ext cx="1080" cy="2044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60120" y="614160"/>
              <a:ext cx="1080" cy="112572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485240" y="511560"/>
              <a:ext cx="1080" cy="3070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18160" y="614160"/>
              <a:ext cx="1080" cy="2044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2560" y="1637640"/>
              <a:ext cx="2591640" cy="72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80600" y="1535400"/>
              <a:ext cx="1080" cy="2044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0120" y="1535400"/>
              <a:ext cx="1080" cy="61416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5002200" y="1535400"/>
              <a:ext cx="1080" cy="10224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85600" y="1535400"/>
              <a:ext cx="1080" cy="2044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28040" y="1535400"/>
              <a:ext cx="1080" cy="2044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90600" y="1637640"/>
              <a:ext cx="3600" cy="51156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09000" y="1535400"/>
              <a:ext cx="1080" cy="61416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89760" y="2149560"/>
              <a:ext cx="7418520" cy="72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2560" y="2149560"/>
              <a:ext cx="0" cy="2044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60120" y="2149560"/>
              <a:ext cx="0" cy="2044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13160" y="2149560"/>
              <a:ext cx="0" cy="2044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65120" y="2149560"/>
              <a:ext cx="0" cy="2044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63040" y="2149560"/>
              <a:ext cx="1080" cy="2044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17320" y="3377880"/>
              <a:ext cx="1080" cy="143280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7680" y="4810680"/>
              <a:ext cx="5346000" cy="72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65120" y="4708440"/>
              <a:ext cx="1080" cy="10224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05000" y="3377880"/>
              <a:ext cx="1080" cy="143280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80600" y="3684960"/>
              <a:ext cx="2413080" cy="72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80600" y="3377880"/>
              <a:ext cx="0" cy="3070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87680" y="3377880"/>
              <a:ext cx="0" cy="3070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95120" y="3582360"/>
              <a:ext cx="1725480" cy="72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95120" y="3582360"/>
              <a:ext cx="0" cy="10224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13160" y="3377880"/>
              <a:ext cx="1080" cy="143280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20600" y="3377880"/>
              <a:ext cx="1080" cy="2044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57680" y="3377880"/>
              <a:ext cx="1080" cy="3070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57680" y="3684960"/>
              <a:ext cx="3278520" cy="72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2560" y="5834520"/>
              <a:ext cx="7074000" cy="72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85600" y="3787200"/>
              <a:ext cx="1379160" cy="72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36560" y="3684960"/>
              <a:ext cx="1080" cy="3070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65120" y="3377880"/>
              <a:ext cx="0" cy="40932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11080" y="3377880"/>
              <a:ext cx="0" cy="3070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90600" y="3377880"/>
              <a:ext cx="1080" cy="3070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85600" y="3787200"/>
              <a:ext cx="1080" cy="10234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36560" y="4708440"/>
              <a:ext cx="1080" cy="3070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2560" y="4810680"/>
              <a:ext cx="1080" cy="2044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42080" y="102240"/>
              <a:ext cx="4663080" cy="407880"/>
            </a:xfrm>
            <a:prstGeom prst="rect">
              <a:avLst/>
            </a:prstGeom>
            <a:gradFill rotWithShape="0">
              <a:gsLst>
                <a:gs pos="0">
                  <a:srgbClr val="66ff66"/>
                </a:gs>
                <a:gs pos="50000">
                  <a:srgbClr val="66ff99"/>
                </a:gs>
                <a:gs pos="100000">
                  <a:srgbClr val="66ff66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Комплексный эффект ресурсных факторов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ри использовании золошлаков ТЭ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50600" y="4810680"/>
              <a:ext cx="1080" cy="2044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20600" y="4810680"/>
              <a:ext cx="1080" cy="2044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62560" y="5629680"/>
              <a:ext cx="1080" cy="2044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22680" y="5629680"/>
              <a:ext cx="2160" cy="40932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20600" y="5629680"/>
              <a:ext cx="1080" cy="40932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36560" y="5629680"/>
              <a:ext cx="1080" cy="2044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83160" y="5834520"/>
              <a:ext cx="1080" cy="61416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85600" y="6346080"/>
              <a:ext cx="1080" cy="10224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85600" y="5834520"/>
              <a:ext cx="1080" cy="2044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60120" y="3684960"/>
              <a:ext cx="1080" cy="276372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93040" y="3787200"/>
              <a:ext cx="0" cy="2044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056720" cy="777960"/>
          </a:xfrm>
          <a:prstGeom prst="rect">
            <a:avLst/>
          </a:prstGeom>
          <a:gradFill rotWithShape="0">
            <a:gsLst>
              <a:gs pos="0">
                <a:srgbClr val="f0f0ae"/>
              </a:gs>
              <a:gs pos="100000">
                <a:srgbClr val="fdfba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плекс экономических эффектов от использования ПВР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основные формы их проя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187280" y="1367640"/>
            <a:ext cx="6956280" cy="5367600"/>
            <a:chOff x="1187280" y="1367640"/>
            <a:chExt cx="6956280" cy="5367600"/>
          </a:xfrm>
        </p:grpSpPr>
        <p:sp>
          <p:nvSpPr>
            <p:cNvPr id="208" name=""/>
            <p:cNvSpPr/>
            <p:nvPr/>
          </p:nvSpPr>
          <p:spPr>
            <a:xfrm flipV="1">
              <a:off x="5845680" y="4784400"/>
              <a:ext cx="211680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5845680" y="3686400"/>
              <a:ext cx="211680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28520" y="4906800"/>
              <a:ext cx="197424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51760" y="4541040"/>
              <a:ext cx="18345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51760" y="3320640"/>
              <a:ext cx="18345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10280" y="2344680"/>
              <a:ext cx="197640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92520" y="3930840"/>
              <a:ext cx="1412280" cy="1218600"/>
            </a:xfrm>
            <a:prstGeom prst="rect">
              <a:avLst/>
            </a:prstGeom>
            <a:gradFill rotWithShape="0">
              <a:gsLst>
                <a:gs pos="0">
                  <a:srgbClr val="5e755e"/>
                </a:gs>
                <a:gs pos="5000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нижение негативного воздействия на окружающую сред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39000" y="5760360"/>
              <a:ext cx="2963880" cy="365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Эффект у потребителя ПВ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586680" y="2344320"/>
              <a:ext cx="720" cy="304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845680" y="2710080"/>
              <a:ext cx="720" cy="268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5845680" y="2710440"/>
              <a:ext cx="211680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92520" y="2832840"/>
              <a:ext cx="1410480" cy="975960"/>
            </a:xfrm>
            <a:prstGeom prst="rect">
              <a:avLst/>
            </a:prstGeom>
            <a:gradFill rotWithShape="0">
              <a:gsLst>
                <a:gs pos="0">
                  <a:srgbClr val="5e755e"/>
                </a:gs>
                <a:gs pos="5000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кращение издержек на размещение ЗШ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27920" y="4175280"/>
              <a:ext cx="1693800" cy="10972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менение более эффективных технико-экономических ре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27920" y="3320640"/>
              <a:ext cx="1695960" cy="732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нижение себестоимости продук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92520" y="1857240"/>
              <a:ext cx="1412280" cy="853200"/>
            </a:xfrm>
            <a:prstGeom prst="rect">
              <a:avLst/>
            </a:prstGeom>
            <a:gradFill rotWithShape="0">
              <a:gsLst>
                <a:gs pos="0">
                  <a:srgbClr val="379d85"/>
                </a:gs>
                <a:gs pos="50000">
                  <a:srgbClr val="ccffcc"/>
                </a:gs>
                <a:gs pos="100000">
                  <a:srgbClr val="379d85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вышение доходов от реализации ПВ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28520" y="2588760"/>
              <a:ext cx="720" cy="292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28520" y="5515920"/>
              <a:ext cx="112824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1609920" y="1612800"/>
              <a:ext cx="1080" cy="243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7962120" y="1491120"/>
              <a:ext cx="1080" cy="329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10760" y="4418280"/>
              <a:ext cx="1407600" cy="975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нижение объёмов изъятия природных ресур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703840" y="2222640"/>
              <a:ext cx="720" cy="268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728520" y="2588760"/>
              <a:ext cx="19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728520" y="3930840"/>
              <a:ext cx="197532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586680" y="1612800"/>
              <a:ext cx="720" cy="12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3586320" y="1734480"/>
              <a:ext cx="197604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87280" y="1368720"/>
              <a:ext cx="3293280" cy="2844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ставщики ПВ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10760" y="1978920"/>
              <a:ext cx="1408320" cy="12189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осстановление положительного баланса качества окружающей сред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10760" y="3320640"/>
              <a:ext cx="1407600" cy="974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осполнение дефицита природных ресур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69520" y="6369480"/>
              <a:ext cx="6633360" cy="36576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ffcc99"/>
                </a:gs>
                <a:gs pos="100000">
                  <a:srgbClr val="339966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Эффект от использования ПВР в масштабах региональной экономи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27920" y="1857240"/>
              <a:ext cx="1693080" cy="13417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велич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до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одов при улучшении качества и повышении надежности продук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45680" y="1612800"/>
              <a:ext cx="720" cy="61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63080" y="1735560"/>
              <a:ext cx="720" cy="48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63080" y="2223000"/>
              <a:ext cx="28224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021840" y="6126120"/>
              <a:ext cx="720" cy="24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56760" y="5515920"/>
              <a:ext cx="720" cy="85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692400" y="6125760"/>
              <a:ext cx="720" cy="24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2739240" y="5394240"/>
              <a:ext cx="8470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10280" y="5760360"/>
              <a:ext cx="2822400" cy="365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Эффект у поставщика ПВ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39600" y="5394240"/>
              <a:ext cx="1800" cy="24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45680" y="5394240"/>
              <a:ext cx="9874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33160" y="5394240"/>
              <a:ext cx="1800" cy="24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51760" y="3320640"/>
              <a:ext cx="0" cy="122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10280" y="4052520"/>
              <a:ext cx="1414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50640" y="1367640"/>
              <a:ext cx="3292920" cy="300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требители ПВ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0" y="611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af4a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лекс путей решения стратегических задач по вовлечению в оборот ЗШ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289480"/>
          </a:xfrm>
          <a:prstGeom prst="rect">
            <a:avLst/>
          </a:prstGeom>
          <a:gradFill rotWithShape="0">
            <a:gsLst>
              <a:gs pos="0">
                <a:srgbClr val="f0f0a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45720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68360" y="1816920"/>
            <a:ext cx="8103960" cy="4246920"/>
            <a:chOff x="468360" y="1816920"/>
            <a:chExt cx="8103960" cy="4246920"/>
          </a:xfrm>
        </p:grpSpPr>
        <p:sp>
          <p:nvSpPr>
            <p:cNvPr id="257" name=""/>
            <p:cNvSpPr/>
            <p:nvPr/>
          </p:nvSpPr>
          <p:spPr>
            <a:xfrm>
              <a:off x="2776320" y="4242960"/>
              <a:ext cx="1743120" cy="18183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50000">
                  <a:srgbClr val="ffcc99"/>
                </a:gs>
                <a:gs pos="100000">
                  <a:srgbClr val="cc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ординация и содействие технической подготовке предприят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93160" y="3638160"/>
              <a:ext cx="1080" cy="60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85880" y="4242960"/>
              <a:ext cx="1486440" cy="182088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50000">
                  <a:srgbClr val="ffff99"/>
                </a:gs>
                <a:gs pos="100000">
                  <a:srgbClr val="99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своение передового опыта и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нновац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8360" y="4242960"/>
              <a:ext cx="2155680" cy="18183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здание структуры, организующей повторное возобновление ресурсов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их переработку и использ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3853440" y="3638160"/>
              <a:ext cx="1080" cy="60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6680" y="3638160"/>
              <a:ext cx="720" cy="60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52560" y="1816920"/>
              <a:ext cx="5440320" cy="121392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cc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лавные стратегические направления формирова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истемы переработки и использования ЗШМ ТЭС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545120" y="3638160"/>
              <a:ext cx="1080" cy="60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45480" y="3638160"/>
              <a:ext cx="600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69400" y="3031200"/>
              <a:ext cx="1080" cy="60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77560" y="4242960"/>
              <a:ext cx="1999800" cy="182088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ff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ормирование конкурентных преимуществ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169200" y="286920"/>
            <a:ext cx="8804880" cy="6472440"/>
            <a:chOff x="169200" y="286920"/>
            <a:chExt cx="8804880" cy="6472440"/>
          </a:xfrm>
        </p:grpSpPr>
        <p:sp>
          <p:nvSpPr>
            <p:cNvPr id="269" name=""/>
            <p:cNvSpPr/>
            <p:nvPr/>
          </p:nvSpPr>
          <p:spPr>
            <a:xfrm>
              <a:off x="846360" y="2640600"/>
              <a:ext cx="2709000" cy="35928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50000">
                  <a:srgbClr val="ffffff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03840" y="5092560"/>
              <a:ext cx="2370240" cy="490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7600" y="6269400"/>
              <a:ext cx="2370960" cy="4899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49160" y="2542680"/>
              <a:ext cx="1523880" cy="39240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63680" y="3621600"/>
              <a:ext cx="1523880" cy="392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ccffff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15560" y="5092560"/>
              <a:ext cx="3217320" cy="490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23880" y="286920"/>
              <a:ext cx="6095520" cy="4903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9bffff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60460"/>
                  </a:solidFill>
                  <a:latin typeface="Arial Black"/>
                </a:rPr>
                <a:t>КООРДИНАЦИОННЫЙ СОВЕТ ПО ЭНЕРГЕТИКЕ СИБИР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60460"/>
                  </a:solidFill>
                  <a:latin typeface="Arial Black"/>
                </a:rPr>
                <a:t>МЕЖРЕГИОНАЛЬНАЯ АССОЦИ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60460"/>
                  </a:solidFill>
                  <a:latin typeface="Arial Black"/>
                </a:rPr>
                <a:t>«СИБИРСКОЕ СОГЛАШЕНИЕ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10400" y="973440"/>
              <a:ext cx="2709000" cy="29412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50000">
                  <a:srgbClr val="ffff99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60460"/>
                  </a:solidFill>
                  <a:latin typeface="Arial Black"/>
                </a:rPr>
                <a:t>Председатель Совета СЭ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42600" y="1463760"/>
              <a:ext cx="1862280" cy="39204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60460"/>
                  </a:solidFill>
                  <a:latin typeface="Arial"/>
                </a:rPr>
                <a:t>Исполнительный директор СЭ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94480" y="1463760"/>
              <a:ext cx="2539800" cy="48996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60460"/>
                  </a:solidFill>
                  <a:latin typeface="Arial"/>
                </a:rPr>
                <a:t>Помощник председателя Совета СЭ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60460"/>
                  </a:solidFill>
                  <a:latin typeface="Arial"/>
                </a:rPr>
                <a:t>по управлению ПВ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6360" y="1463760"/>
              <a:ext cx="2709000" cy="489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50000">
                  <a:srgbClr val="ccffff"/>
                </a:gs>
                <a:gs pos="100000">
                  <a:srgbClr val="cc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160460"/>
                  </a:solidFill>
                  <a:latin typeface="Arial"/>
                </a:rPr>
                <a:t>(</a:t>
              </a:r>
              <a:r>
                <a:rPr b="1" lang="en-US" sz="1000" spc="-1" strike="noStrike">
                  <a:solidFill>
                    <a:srgbClr val="160460"/>
                  </a:solidFill>
                  <a:latin typeface="Arial"/>
                </a:rPr>
                <a:t>I</a:t>
              </a:r>
              <a:r>
                <a:rPr b="1" lang="ru-RU" sz="1000" spc="-1" strike="noStrike">
                  <a:solidFill>
                    <a:srgbClr val="160460"/>
                  </a:solidFill>
                  <a:latin typeface="Arial"/>
                </a:rPr>
                <a:t>) Объединенная межрегиональная рабочая группа по управлению ПВ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42600" y="2052360"/>
              <a:ext cx="1862280" cy="3924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50000">
                  <a:srgbClr val="ffffcc"/>
                </a:gs>
                <a:gs pos="100000">
                  <a:srgbClr val="cc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60460"/>
                  </a:solidFill>
                  <a:latin typeface="Arial"/>
                </a:rPr>
                <a:t>Исполнительный аппарат СЭ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07600" y="2444760"/>
              <a:ext cx="2709000" cy="48996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50000">
                  <a:srgbClr val="ffffff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9200" y="2346480"/>
              <a:ext cx="2709000" cy="48996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50000">
                  <a:srgbClr val="ffffff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160460"/>
                  </a:solidFill>
                  <a:latin typeface="Arial"/>
                </a:rPr>
                <a:t>(</a:t>
              </a:r>
              <a:r>
                <a:rPr b="1" lang="en-US" sz="1000" spc="-1" strike="noStrike">
                  <a:solidFill>
                    <a:srgbClr val="160460"/>
                  </a:solidFill>
                  <a:latin typeface="Arial"/>
                </a:rPr>
                <a:t>II</a:t>
              </a:r>
              <a:r>
                <a:rPr b="1" lang="ru-RU" sz="1000" spc="-1" strike="noStrike">
                  <a:solidFill>
                    <a:srgbClr val="160460"/>
                  </a:solidFill>
                  <a:latin typeface="Arial"/>
                </a:rPr>
                <a:t>) Региональные рабочие группы по управлению ПВ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11440" y="1267560"/>
              <a:ext cx="1800" cy="19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49160" y="1267560"/>
              <a:ext cx="1440" cy="19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34280" y="1659960"/>
              <a:ext cx="5079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95520" y="777600"/>
              <a:ext cx="1800" cy="19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09000" y="777600"/>
              <a:ext cx="1440" cy="68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88960" y="1856160"/>
              <a:ext cx="1440" cy="19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55720" y="1659960"/>
              <a:ext cx="3387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523880" y="1954080"/>
              <a:ext cx="1440" cy="39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894480" y="2935080"/>
              <a:ext cx="8463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47400" y="4209840"/>
              <a:ext cx="507960" cy="10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78560" y="2640600"/>
              <a:ext cx="1015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10400" y="2444760"/>
              <a:ext cx="1693440" cy="392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71640" y="2346480"/>
              <a:ext cx="1862640" cy="39204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60460"/>
                  </a:solidFill>
                  <a:latin typeface="Arial"/>
                </a:rPr>
                <a:t>Генерирующие компан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65080" y="2150280"/>
              <a:ext cx="1440" cy="19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02080" y="1954080"/>
              <a:ext cx="1800" cy="98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24920" y="3523320"/>
              <a:ext cx="1693440" cy="392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ccffff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16960" y="3425400"/>
              <a:ext cx="2032200" cy="392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ccffff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160460"/>
                  </a:solidFill>
                  <a:latin typeface="Arial"/>
                </a:rPr>
                <a:t>(</a:t>
              </a:r>
              <a:r>
                <a:rPr b="1" lang="en-US" sz="1000" spc="-1" strike="noStrike">
                  <a:solidFill>
                    <a:srgbClr val="160460"/>
                  </a:solidFill>
                  <a:latin typeface="Arial"/>
                </a:rPr>
                <a:t>III</a:t>
              </a:r>
              <a:r>
                <a:rPr b="1" lang="ru-RU" sz="1000" spc="-1" strike="noStrike">
                  <a:solidFill>
                    <a:srgbClr val="160460"/>
                  </a:solidFill>
                  <a:latin typeface="Arial"/>
                </a:rPr>
                <a:t>)</a:t>
              </a:r>
              <a:r>
                <a:rPr b="1" lang="en-US" sz="1000" spc="-1" strike="noStrike">
                  <a:solidFill>
                    <a:srgbClr val="160460"/>
                  </a:solidFill>
                  <a:latin typeface="Arial"/>
                </a:rPr>
                <a:t> </a:t>
              </a:r>
              <a:r>
                <a:rPr b="1" lang="ru-RU" sz="1000" spc="-1" strike="noStrike">
                  <a:solidFill>
                    <a:srgbClr val="160460"/>
                  </a:solidFill>
                  <a:latin typeface="Arial"/>
                </a:rPr>
                <a:t>Подразделения по сбыту ЗШ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6360" y="4994280"/>
              <a:ext cx="3217320" cy="490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7600" y="4896360"/>
              <a:ext cx="3386880" cy="490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60460"/>
                  </a:solidFill>
                  <a:latin typeface="Arial"/>
                </a:rPr>
                <a:t>Потребители золошлаков как сырьевых компонентов для производства строительных материал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38040" y="6171480"/>
              <a:ext cx="2370960" cy="489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9200" y="6073200"/>
              <a:ext cx="2370240" cy="4899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60460"/>
                  </a:solidFill>
                  <a:latin typeface="Arial"/>
                </a:rPr>
                <a:t>Потребители продукции с золошлаковым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60460"/>
                  </a:solidFill>
                  <a:latin typeface="Arial"/>
                </a:rPr>
                <a:t>компонентам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8040" y="2836800"/>
              <a:ext cx="1800" cy="32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1354320" y="5387040"/>
              <a:ext cx="1440" cy="6861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15560" y="2836800"/>
              <a:ext cx="1440" cy="205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47400" y="4209840"/>
              <a:ext cx="1800" cy="6861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34280" y="4994280"/>
              <a:ext cx="2370240" cy="490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65080" y="4896360"/>
              <a:ext cx="2370240" cy="490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60460"/>
                  </a:solidFill>
                  <a:latin typeface="Arial"/>
                </a:rPr>
                <a:t>Потребители золошлаков как исходного продукта для извлечения сырь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55720" y="3817800"/>
              <a:ext cx="1440" cy="3920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86160" y="6269400"/>
              <a:ext cx="2370240" cy="48996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fffff"/>
                </a:gs>
                <a:gs pos="100000">
                  <a:srgbClr val="cc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16960" y="6171480"/>
              <a:ext cx="2370960" cy="4899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7400" y="6073200"/>
              <a:ext cx="2370960" cy="4899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60460"/>
                  </a:solidFill>
                  <a:latin typeface="Arial"/>
                </a:rPr>
                <a:t>Потребители золошлаков в виде заменителе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60460"/>
                  </a:solidFill>
                  <a:latin typeface="Arial"/>
                </a:rPr>
                <a:t>природных материал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79600" y="4209840"/>
              <a:ext cx="2539800" cy="10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79600" y="3817800"/>
              <a:ext cx="1440" cy="3920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4740480" y="3817440"/>
              <a:ext cx="1800" cy="22554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19760" y="4209840"/>
              <a:ext cx="1440" cy="6861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33240" y="2935080"/>
              <a:ext cx="1440" cy="48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94480" y="2640600"/>
              <a:ext cx="1440" cy="29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9800" y="2836800"/>
              <a:ext cx="1440" cy="156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39800" y="4406040"/>
              <a:ext cx="457164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23880" y="4602240"/>
              <a:ext cx="2878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11440" y="4406040"/>
              <a:ext cx="1800" cy="48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23880" y="2836800"/>
              <a:ext cx="1440" cy="17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31480" y="2836800"/>
              <a:ext cx="1800" cy="166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31480" y="4504320"/>
              <a:ext cx="40636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402080" y="4602240"/>
              <a:ext cx="1800" cy="1470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65080" y="6269400"/>
              <a:ext cx="2539800" cy="4899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5520" y="6171480"/>
              <a:ext cx="2539800" cy="4899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26320" y="6073200"/>
              <a:ext cx="2539800" cy="489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50000">
                  <a:srgbClr val="ffffff"/>
                </a:gs>
                <a:gs pos="100000">
                  <a:srgbClr val="cc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60460"/>
                  </a:solidFill>
                  <a:latin typeface="Arial"/>
                </a:rPr>
                <a:t>Потребител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60460"/>
                  </a:solidFill>
                  <a:latin typeface="Arial"/>
                </a:rPr>
                <a:t>извлеченных сырьев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60460"/>
                  </a:solidFill>
                  <a:latin typeface="Arial"/>
                </a:rPr>
                <a:t>ресур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095520" y="4504320"/>
              <a:ext cx="1800" cy="156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81000" y="5387040"/>
              <a:ext cx="1800" cy="6861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40840" y="2738880"/>
              <a:ext cx="1800" cy="19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78560" y="2444760"/>
              <a:ext cx="16927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63680" y="1954080"/>
              <a:ext cx="1440" cy="19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23880" y="2150280"/>
              <a:ext cx="2539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65080" y="2150280"/>
              <a:ext cx="6775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03840" y="1659960"/>
              <a:ext cx="1440" cy="48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79280" y="1023120"/>
            <a:ext cx="8785080" cy="5691960"/>
            <a:chOff x="179280" y="1023120"/>
            <a:chExt cx="8785080" cy="5691960"/>
          </a:xfrm>
        </p:grpSpPr>
        <p:sp>
          <p:nvSpPr>
            <p:cNvPr id="340" name=""/>
            <p:cNvSpPr/>
            <p:nvPr/>
          </p:nvSpPr>
          <p:spPr>
            <a:xfrm>
              <a:off x="179280" y="2588760"/>
              <a:ext cx="2196000" cy="568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2551c"/>
                  </a:solidFill>
                  <a:latin typeface="Arial"/>
                  <a:ea typeface="Times New Roman"/>
                </a:rPr>
                <a:t>Представител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2551c"/>
                  </a:solidFill>
                  <a:latin typeface="Arial"/>
                  <a:ea typeface="Times New Roman"/>
                </a:rPr>
                <a:t>ОАО ТГК-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78520" y="4723200"/>
              <a:ext cx="1689480" cy="7113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fff99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60460"/>
                  </a:solidFill>
                  <a:latin typeface="Arial"/>
                  <a:ea typeface="Times New Roman"/>
                </a:rPr>
                <a:t>Представитель РГ Красноярского регио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13320" y="1023120"/>
              <a:ext cx="4392720" cy="56916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fff99"/>
                </a:gs>
                <a:gs pos="100000">
                  <a:srgbClr val="cc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60460"/>
                  </a:solidFill>
                  <a:latin typeface="Arial"/>
                  <a:ea typeface="Times New Roman"/>
                </a:rPr>
                <a:t>Руководитель Объединенной межрегиональной рабочей группы по управлению ПВ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9280" y="3300120"/>
              <a:ext cx="2196000" cy="56916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2551c"/>
                  </a:solidFill>
                  <a:latin typeface="Arial"/>
                  <a:ea typeface="Times New Roman"/>
                </a:rPr>
                <a:t>Представитель ОАО «Новосибирскэнерго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79280" y="4011840"/>
              <a:ext cx="2196000" cy="56880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50000">
                  <a:srgbClr val="ffff99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2551c"/>
                  </a:solidFill>
                  <a:latin typeface="Arial"/>
                  <a:ea typeface="Times New Roman"/>
                </a:rPr>
                <a:t>Представител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2551c"/>
                  </a:solidFill>
                  <a:latin typeface="Arial"/>
                  <a:ea typeface="Times New Roman"/>
                </a:rPr>
                <a:t>ОАО ТГК-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54600" y="1734840"/>
              <a:ext cx="2872080" cy="568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ccffff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60460"/>
                  </a:solidFill>
                  <a:latin typeface="Arial"/>
                  <a:ea typeface="Times New Roman"/>
                </a:rPr>
                <a:t>Представители региональных рабочих групп (РГ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106400" y="1307880"/>
              <a:ext cx="5065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12920" y="1307880"/>
              <a:ext cx="1800" cy="42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206440" y="1307880"/>
              <a:ext cx="50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75280" y="3584880"/>
              <a:ext cx="337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8120" y="1734840"/>
              <a:ext cx="3040920" cy="568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ccffff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60460"/>
                  </a:solidFill>
                  <a:latin typeface="Arial"/>
                  <a:ea typeface="Times New Roman"/>
                </a:rPr>
                <a:t>Представители генерирующих компа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75280" y="2873160"/>
              <a:ext cx="337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78520" y="3727080"/>
              <a:ext cx="1689480" cy="7113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fff99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60460"/>
                  </a:solidFill>
                  <a:latin typeface="Arial"/>
                  <a:ea typeface="Times New Roman"/>
                </a:rPr>
                <a:t>Представитель РГ Алтайск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60460"/>
                  </a:solidFill>
                  <a:latin typeface="Arial"/>
                  <a:ea typeface="Times New Roman"/>
                </a:rPr>
                <a:t>регио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375280" y="4296240"/>
              <a:ext cx="337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13320" y="2304000"/>
              <a:ext cx="1440" cy="412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37200" y="2304000"/>
              <a:ext cx="1440" cy="384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75280" y="6431040"/>
              <a:ext cx="337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9280" y="4723200"/>
              <a:ext cx="2196000" cy="56916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50000">
                  <a:srgbClr val="ffff99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2551c"/>
                  </a:solidFill>
                  <a:latin typeface="Arial"/>
                  <a:ea typeface="Times New Roman"/>
                </a:rPr>
                <a:t>Представител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2551c"/>
                  </a:solidFill>
                  <a:latin typeface="Arial"/>
                  <a:ea typeface="Times New Roman"/>
                </a:rPr>
                <a:t>ОАО ТГК-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375280" y="5007600"/>
              <a:ext cx="337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9280" y="6146280"/>
              <a:ext cx="2196000" cy="56880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50000">
                  <a:srgbClr val="ffff99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2551c"/>
                  </a:solidFill>
                  <a:latin typeface="Arial"/>
                  <a:ea typeface="Times New Roman"/>
                </a:rPr>
                <a:t>Представител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2551c"/>
                  </a:solidFill>
                  <a:latin typeface="Arial"/>
                  <a:ea typeface="Times New Roman"/>
                </a:rPr>
                <a:t>ОАО ТГК-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9280" y="5434560"/>
              <a:ext cx="2196000" cy="56916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2551c"/>
                  </a:solidFill>
                  <a:latin typeface="Arial"/>
                  <a:ea typeface="Times New Roman"/>
                </a:rPr>
                <a:t>Представитель ОА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2551c"/>
                  </a:solidFill>
                  <a:latin typeface="Arial"/>
                  <a:ea typeface="Times New Roman"/>
                </a:rPr>
                <a:t>«Иркутскэнерго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2375280" y="5719320"/>
              <a:ext cx="337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78520" y="5861880"/>
              <a:ext cx="1689480" cy="7113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fff99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60460"/>
                  </a:solidFill>
                  <a:latin typeface="Arial"/>
                  <a:ea typeface="Times New Roman"/>
                </a:rPr>
                <a:t>Представитель РГ Бурят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60460"/>
                  </a:solidFill>
                  <a:latin typeface="Arial"/>
                  <a:ea typeface="Times New Roman"/>
                </a:rPr>
                <a:t>регио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75240" y="4723200"/>
              <a:ext cx="1689120" cy="7113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fff99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60460"/>
                  </a:solidFill>
                  <a:latin typeface="Arial"/>
                  <a:ea typeface="Times New Roman"/>
                </a:rPr>
                <a:t>Представитель РГ Иркут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60460"/>
                  </a:solidFill>
                  <a:latin typeface="Arial"/>
                  <a:ea typeface="Times New Roman"/>
                </a:rPr>
                <a:t>регио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75240" y="3727080"/>
              <a:ext cx="1689120" cy="7113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fff99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60460"/>
                  </a:solidFill>
                  <a:latin typeface="Arial"/>
                  <a:ea typeface="Times New Roman"/>
                </a:rPr>
                <a:t>Представитель  РГ Кемеровского регио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75240" y="5861880"/>
              <a:ext cx="1689120" cy="7113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fff99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60460"/>
                  </a:solidFill>
                  <a:latin typeface="Arial"/>
                  <a:ea typeface="Times New Roman"/>
                </a:rPr>
                <a:t>Представитель РГ Читин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60460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160460"/>
                  </a:solidFill>
                  <a:latin typeface="Arial"/>
                  <a:ea typeface="Times New Roman"/>
                </a:rPr>
                <a:t>регио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68360" y="4011840"/>
              <a:ext cx="50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68360" y="5007960"/>
              <a:ext cx="50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68360" y="6146280"/>
              <a:ext cx="50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78520" y="2730960"/>
              <a:ext cx="1689480" cy="7113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fff99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60460"/>
                  </a:solidFill>
                  <a:latin typeface="Arial"/>
                  <a:ea typeface="Times New Roman"/>
                </a:rPr>
                <a:t>Представитель РГ Ом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60460"/>
                  </a:solidFill>
                  <a:latin typeface="Arial"/>
                  <a:ea typeface="Times New Roman"/>
                </a:rPr>
                <a:t>регио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275240" y="2730960"/>
              <a:ext cx="1689120" cy="7113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fff99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60460"/>
                  </a:solidFill>
                  <a:latin typeface="Arial"/>
                  <a:ea typeface="Times New Roman"/>
                </a:rPr>
                <a:t>Представитель РГ Новосибирского регио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768360" y="3015720"/>
              <a:ext cx="50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06440" y="1307880"/>
              <a:ext cx="1800" cy="42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13320" y="3157560"/>
              <a:ext cx="168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82520" y="2873160"/>
              <a:ext cx="1689480" cy="568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a494d"/>
                  </a:solidFill>
                  <a:latin typeface="Arial"/>
                  <a:ea typeface="Times New Roman"/>
                </a:rPr>
                <a:t>Представител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a494d"/>
                  </a:solidFill>
                  <a:latin typeface="Arial"/>
                  <a:ea typeface="Times New Roman"/>
                </a:rPr>
                <a:t>ОАО ОГК-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82520" y="3727080"/>
              <a:ext cx="1689480" cy="568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a494d"/>
                  </a:solidFill>
                  <a:latin typeface="Arial"/>
                  <a:ea typeface="Times New Roman"/>
                </a:rPr>
                <a:t>Представител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a494d"/>
                  </a:solidFill>
                  <a:latin typeface="Arial"/>
                  <a:ea typeface="Times New Roman"/>
                </a:rPr>
                <a:t>ОАО ОГК-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82520" y="4581000"/>
              <a:ext cx="1689480" cy="5691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a494d"/>
                  </a:solidFill>
                  <a:latin typeface="Arial"/>
                  <a:ea typeface="Times New Roman"/>
                </a:rPr>
                <a:t>Представител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a494d"/>
                  </a:solidFill>
                  <a:latin typeface="Arial"/>
                  <a:ea typeface="Times New Roman"/>
                </a:rPr>
                <a:t>ОАО ОГК-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13320" y="4011840"/>
              <a:ext cx="1688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13320" y="4865760"/>
              <a:ext cx="1688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-22860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582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0"/>
            <a:ext cx="8785440" cy="836640"/>
          </a:xfrm>
          <a:prstGeom prst="rect">
            <a:avLst/>
          </a:prstGeom>
          <a:gradFill rotWithShape="0">
            <a:gsLst>
              <a:gs pos="0">
                <a:srgbClr val="b5fde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Структура Объединенной межрегиональной рабочей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по управлению П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4:06:06Z</dcterms:created>
  <dc:creator>Владимир</dc:creator>
  <dc:description/>
  <dc:language>en-US</dc:language>
  <cp:lastModifiedBy>Владимир</cp:lastModifiedBy>
  <dcterms:modified xsi:type="dcterms:W3CDTF">2010-05-18T06:36:44Z</dcterms:modified>
  <cp:revision>4</cp:revision>
  <dc:subject/>
  <dc:title>Слайд 1</dc:title>
</cp:coreProperties>
</file>