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2.wmf" ContentType="image/x-wmf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9C6D-3CA5-4E3F-9859-9661944977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93EA-72C7-4E5D-82C8-002A0EDD43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7FE7-15EF-491F-833B-DAD7775997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: Терр. Обсл., объем у.е. протяженность линий, кол-во ПС и ТП за счет присоединения Тываэнер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027F-312A-4656-B9FB-041E18EF8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B5B2-E6D3-4908-9A69-CA6F6C4BA5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D461-C06E-4023-AD52-BB39C7C3E8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ECAF-B76B-4210-AAF9-C4B14AE815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7ACA-4786-4F00-AEFE-42F9E61F2E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E645-0F1A-4BC9-B560-8D38DC187B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2275-5E1A-4B36-97F0-824F64FE28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78AC-C492-40A3-AE38-2D76637751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665-4D69-412F-956E-3791C48B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1C4-F798-4308-AD69-700E11EB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2BD-C601-4E86-9127-334350FE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42B-9F39-4D76-A176-206DE748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D4D-3902-461E-91C7-9395059C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B09-6ED0-4272-8C06-9146D530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2FD-6721-4F06-BF20-F0B499DF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114-730D-49AA-A94B-F6BD6636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AD4-CCA3-4F09-AD70-5CA95A2E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A66-E828-46C9-B754-5049FF29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E40-AE6B-4069-9BDE-D64855F3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E01-FA29-458F-8B44-5433461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4BF3-1348-4072-86E1-D35FC4F01D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C911-F482-4E20-9B59-AB1D70D8F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bg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920" y="2714400"/>
            <a:ext cx="885816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8b"/>
                </a:solidFill>
                <a:latin typeface="Arial"/>
                <a:ea typeface="Arial"/>
              </a:rPr>
              <a:t>Об итогах прохождения ОАО «МРСК Сибири»</a:t>
            </a:r>
            <a:br>
              <a:rPr sz="2000"/>
            </a:br>
            <a:r>
              <a:rPr b="1" lang="ru-RU" sz="2000" spc="-1" strike="noStrike">
                <a:solidFill>
                  <a:srgbClr val="003f8b"/>
                </a:solidFill>
                <a:latin typeface="Arial"/>
                <a:ea typeface="Arial"/>
              </a:rPr>
              <a:t>осенне – зимнего периода  2009/2010 годов и</a:t>
            </a:r>
            <a:br>
              <a:rPr sz="2000"/>
            </a:br>
            <a:r>
              <a:rPr b="1" lang="ru-RU" sz="2000" spc="-1" strike="noStrike">
                <a:solidFill>
                  <a:srgbClr val="003f8b"/>
                </a:solidFill>
                <a:latin typeface="Arial"/>
                <a:ea typeface="Arial"/>
              </a:rPr>
              <a:t>задачах при подготовке к прохождению ОЗП 2010/2011 год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60480" y="5700600"/>
            <a:ext cx="234324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2b2b2"/>
                </a:solidFill>
                <a:latin typeface="Arial"/>
                <a:ea typeface="Arial"/>
              </a:rPr>
              <a:t>г. Новосибирск, 201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Untitled-2"/>
          <p:cNvPicPr/>
          <p:nvPr/>
        </p:nvPicPr>
        <p:blipFill>
          <a:blip r:embed="rId2"/>
          <a:stretch/>
        </p:blipFill>
        <p:spPr>
          <a:xfrm>
            <a:off x="2273400" y="434880"/>
            <a:ext cx="6294240" cy="1608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3059280" y="4429080"/>
            <a:ext cx="60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меститель главного инженера  Сизов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b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Untitled-2"/>
          <p:cNvPicPr/>
          <p:nvPr/>
        </p:nvPicPr>
        <p:blipFill>
          <a:blip r:embed="rId2"/>
          <a:stretch/>
        </p:blipFill>
        <p:spPr>
          <a:xfrm>
            <a:off x="4668840" y="160200"/>
            <a:ext cx="3997440" cy="1020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0" y="0"/>
            <a:ext cx="4311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583000" y="1357200"/>
            <a:ext cx="6561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algn="just"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В 2009 году организовано проведение системных тренировок с </a:t>
            </a:r>
            <a:r>
              <a:rPr b="1" lang="ru-RU" sz="1500" spc="-1" strike="noStrike" u="sng">
                <a:solidFill>
                  <a:srgbClr val="ff0000"/>
                </a:solidFill>
                <a:uFillTx/>
                <a:latin typeface="Arial"/>
              </a:rPr>
              <a:t>реальными действиями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по восстановлению сетей, с привлечением подрядных организаций,  ГУ МЧС по субъектам РФ, выдвижением  спецмеханизмов, дизельных электростанций.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В ходе тренировок отрабатывались действия по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- замене железобетонной опоры двухцепной ВЛ 110кВ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- замене опоры на ВЛ 10кВ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- проверке работы передвижных дизель – генерато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- тушению пожара на выключателе ввода-110к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500" spc="-1" strike="noStrike" u="sng">
                <a:solidFill>
                  <a:srgbClr val="c00000"/>
                </a:solidFill>
                <a:uFillTx/>
                <a:latin typeface="Arial"/>
              </a:rPr>
              <a:t>Тренировки проведен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Алтайэнерго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сентябрь 2009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Бурятэнерго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ноябрь 2009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Красноярскэнерго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декабрь 2009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Кузбассэнерго-РЭС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август 2009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Омскэнерго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октябрь 2009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Хакасэнерго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март 2009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ОАО «ТРК»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май 2009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3192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0" descr=""/>
          <p:cNvPicPr/>
          <p:nvPr/>
        </p:nvPicPr>
        <p:blipFill>
          <a:blip r:embed="rId3"/>
          <a:stretch/>
        </p:blipFill>
        <p:spPr>
          <a:xfrm>
            <a:off x="0" y="1357200"/>
            <a:ext cx="2454120" cy="248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1" descr=""/>
          <p:cNvPicPr/>
          <p:nvPr/>
        </p:nvPicPr>
        <p:blipFill>
          <a:blip r:embed="rId4"/>
          <a:stretch/>
        </p:blipFill>
        <p:spPr>
          <a:xfrm>
            <a:off x="0" y="4000680"/>
            <a:ext cx="2454120" cy="2685960"/>
          </a:xfrm>
          <a:prstGeom prst="rect">
            <a:avLst/>
          </a:prstGeom>
          <a:ln w="0">
            <a:noFill/>
          </a:ln>
        </p:spPr>
      </p:pic>
      <p:sp>
        <p:nvSpPr>
          <p:cNvPr id="143" name="Номер слайда 8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A5F9-AEA9-4EC7-A621-521E003F01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0" y="0"/>
            <a:ext cx="5149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ренировки с реаль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действиями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bg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Untitled-2"/>
          <p:cNvPicPr/>
          <p:nvPr/>
        </p:nvPicPr>
        <p:blipFill>
          <a:blip r:embed="rId2"/>
          <a:stretch/>
        </p:blipFill>
        <p:spPr>
          <a:xfrm>
            <a:off x="4668840" y="160200"/>
            <a:ext cx="3997440" cy="1020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0" y="0"/>
            <a:ext cx="4311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4311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ехнологические нарушения в работе оборудования за период прох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ЗП 2009/2010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3214800" y="1449360"/>
            <a:ext cx="57862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ческих нарушений, подпадающих под определение «авария», в соответствие с «Инструкцией по расследованию и учету технологических нарушений в работе энергосистем, котельных, электрических и тепловых сетей» в ОЗП 2009/2010гг. не произош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5 ноября 2009 года в филиале «Алтайэнерго» в результате неблагоприятных погодных условий произошел инцидент на тупиковой ВЛ 110 кВ с недоотпуском электроэнергии 178,21 тыс. кВт*час и с суммарной длительностью технологического нарушения, вызвавшего перерыв электроснабжения потребителей 35,7 ча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Причиной возникновения  технологического нарушения 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явилось воздействие экстремальных стихийных явлений в виде выпадения мокрого снега при температуре наружного воздуха от -2 до +0,5 град. С, с порывами ветра до 14 м/с, что явилось благоприятным условием для снегоналипания на провода ВЛ,  диаметром до 130 мм., и вибрацией (пляской) проводов с последующим их обры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этом район прохождения ВЛ  не относится к районам подверженным гололедообразов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йствиям персонала филиала ОАО «МРСК Сибири» - «Алтайэнерго» со стороны губернатора Алтайского края и органов ГО и ЧС была дана высокая оценка. (Постановлением администрации Алтайского края, распоряжением губернатора Алтайского края мастерам и электромонтерам служб высоковольтных сетей объявлены благодарности, вручены почетные грамо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"/>
          <p:cNvPicPr/>
          <p:nvPr/>
        </p:nvPicPr>
        <p:blipFill>
          <a:blip r:embed="rId3"/>
          <a:stretch/>
        </p:blipFill>
        <p:spPr>
          <a:xfrm>
            <a:off x="0" y="4929120"/>
            <a:ext cx="314316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"/>
          <p:cNvPicPr/>
          <p:nvPr/>
        </p:nvPicPr>
        <p:blipFill>
          <a:blip r:embed="rId4"/>
          <a:stretch/>
        </p:blipFill>
        <p:spPr>
          <a:xfrm>
            <a:off x="0" y="1285920"/>
            <a:ext cx="31431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g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Untitled-2"/>
          <p:cNvPicPr/>
          <p:nvPr/>
        </p:nvPicPr>
        <p:blipFill>
          <a:blip r:embed="rId2"/>
          <a:stretch/>
        </p:blipFill>
        <p:spPr>
          <a:xfrm>
            <a:off x="4668840" y="160200"/>
            <a:ext cx="3997440" cy="1020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0" y="0"/>
            <a:ext cx="4311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2"/>
          <p:cNvSpPr/>
          <p:nvPr/>
        </p:nvSpPr>
        <p:spPr>
          <a:xfrm>
            <a:off x="0" y="0"/>
            <a:ext cx="457200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варийность за период ОЗ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008/2009 г.г.  и    2009/2010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0" y="1428840"/>
            <a:ext cx="407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нциденты (шт.)  по филиалам за период  ОЗП 2008/2009 г.  и 2009/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5072040" y="4643280"/>
            <a:ext cx="407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едоотпуск  электроэнергии (тыс.кВт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о филиалам за период  ОЗП      2007/2008 г. и 2008/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214200" y="5857920"/>
            <a:ext cx="878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Причина увеличения инцидентов и недоотпуска эл. энергии: В соответствие с приказом ОАО «МРСК Сибири» от 26.01.2010 №43 «Об обеспечении предоставления полной информации по технологическим нарушениям в работе электрических сетей 6-110кВ» ведется полный учет всех технологических в работе электрических сетей вне зависимости от причин и последствий их возникнов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13"/>
          <p:cNvGraphicFramePr/>
          <p:nvPr/>
        </p:nvGraphicFramePr>
        <p:xfrm>
          <a:off x="3654360" y="993600"/>
          <a:ext cx="5886360" cy="337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4360" y="993600"/>
                    <a:ext cx="588636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4"/>
          <p:cNvGraphicFramePr/>
          <p:nvPr/>
        </p:nvGraphicFramePr>
        <p:xfrm>
          <a:off x="-396720" y="2565360"/>
          <a:ext cx="5886360" cy="337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96720" y="2565360"/>
                    <a:ext cx="588636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b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Untitled-2"/>
          <p:cNvPicPr/>
          <p:nvPr/>
        </p:nvPicPr>
        <p:blipFill>
          <a:blip r:embed="rId2"/>
          <a:stretch/>
        </p:blipFill>
        <p:spPr>
          <a:xfrm>
            <a:off x="4668840" y="160200"/>
            <a:ext cx="399744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0" y="0"/>
            <a:ext cx="4311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2"/>
          <p:cNvSpPr/>
          <p:nvPr/>
        </p:nvSpPr>
        <p:spPr>
          <a:xfrm>
            <a:off x="0" y="0"/>
            <a:ext cx="457200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варийность за период ОЗП  2008/2009 и 2009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7"/>
          <p:cNvSpPr/>
          <p:nvPr/>
        </p:nvSpPr>
        <p:spPr>
          <a:xfrm>
            <a:off x="1000080" y="2857680"/>
            <a:ext cx="77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едняя длительность перерывов в электроснабжении потребителей, ч./ин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Chart 1" descr=""/>
          <p:cNvPicPr/>
          <p:nvPr/>
        </p:nvPicPr>
        <p:blipFill>
          <a:blip r:embed="rId3"/>
          <a:stretch/>
        </p:blipFill>
        <p:spPr>
          <a:xfrm>
            <a:off x="-6480" y="1279440"/>
            <a:ext cx="4370400" cy="1513080"/>
          </a:xfrm>
          <a:prstGeom prst="rect">
            <a:avLst/>
          </a:prstGeom>
          <a:ln w="0">
            <a:noFill/>
          </a:ln>
        </p:spPr>
      </p:pic>
      <p:pic>
        <p:nvPicPr>
          <p:cNvPr id="169" name="Chart 2" descr=""/>
          <p:cNvPicPr/>
          <p:nvPr/>
        </p:nvPicPr>
        <p:blipFill>
          <a:blip r:embed="rId4"/>
          <a:stretch/>
        </p:blipFill>
        <p:spPr>
          <a:xfrm>
            <a:off x="4638600" y="1206360"/>
            <a:ext cx="4511880" cy="1586160"/>
          </a:xfrm>
          <a:prstGeom prst="rect">
            <a:avLst/>
          </a:prstGeom>
          <a:ln w="0">
            <a:noFill/>
          </a:ln>
        </p:spPr>
      </p:pic>
      <p:pic>
        <p:nvPicPr>
          <p:cNvPr id="170" name="Chart 15" descr=""/>
          <p:cNvPicPr/>
          <p:nvPr/>
        </p:nvPicPr>
        <p:blipFill>
          <a:blip r:embed="rId5"/>
          <a:stretch/>
        </p:blipFill>
        <p:spPr>
          <a:xfrm>
            <a:off x="920880" y="2852640"/>
            <a:ext cx="7089480" cy="2152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3"/>
          <p:cNvSpPr/>
          <p:nvPr/>
        </p:nvSpPr>
        <p:spPr>
          <a:xfrm>
            <a:off x="0" y="52149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Снижение показателя средней  длительности перерывов в электроснабжении потребителей  в 2009 году обусловл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Arial"/>
              </a:rPr>
              <a:t>приобретением дополнительных передвижных дизель - стан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Arial"/>
              </a:rPr>
              <a:t>выполнением целевых программ, в том числе по замене дефектных опор ВЛ 0,4-10 к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Arial"/>
              </a:rPr>
              <a:t>приобретением дополнительных комплектов аппаратов спутниковой связи для бригад В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Arial"/>
              </a:rPr>
              <a:t>проведением специализированных тренировок по восстановлению электроснабжения с реальными действиями персон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Untitled-2"/>
          <p:cNvPicPr/>
          <p:nvPr/>
        </p:nvPicPr>
        <p:blipFill>
          <a:blip r:embed="rId1"/>
          <a:stretch/>
        </p:blipFill>
        <p:spPr>
          <a:xfrm>
            <a:off x="4994280" y="160200"/>
            <a:ext cx="3997440" cy="1020960"/>
          </a:xfrm>
          <a:prstGeom prst="rect">
            <a:avLst/>
          </a:prstGeom>
          <a:ln w="0">
            <a:noFill/>
          </a:ln>
        </p:spPr>
      </p:pic>
      <p:pic>
        <p:nvPicPr>
          <p:cNvPr id="173" name="Диаграмма 6" descr=""/>
          <p:cNvPicPr/>
          <p:nvPr/>
        </p:nvPicPr>
        <p:blipFill>
          <a:blip r:embed="rId2"/>
          <a:stretch/>
        </p:blipFill>
        <p:spPr>
          <a:xfrm>
            <a:off x="2147255640" y="2147419080"/>
            <a:ext cx="228600" cy="65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bg2"/>
          <p:cNvPicPr/>
          <p:nvPr/>
        </p:nvPicPr>
        <p:blipFill>
          <a:blip r:embed="rId3"/>
          <a:stretch/>
        </p:blipFill>
        <p:spPr>
          <a:xfrm>
            <a:off x="0" y="0"/>
            <a:ext cx="9144000" cy="708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Untitled-2"/>
          <p:cNvPicPr/>
          <p:nvPr/>
        </p:nvPicPr>
        <p:blipFill>
          <a:blip r:embed="rId4"/>
          <a:stretch/>
        </p:blipFill>
        <p:spPr>
          <a:xfrm>
            <a:off x="4579920" y="147600"/>
            <a:ext cx="3997440" cy="10209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9"/>
          <p:cNvSpPr/>
          <p:nvPr/>
        </p:nvSpPr>
        <p:spPr>
          <a:xfrm>
            <a:off x="0" y="0"/>
            <a:ext cx="4572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Задачи при подготовке к про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ЗП 2010/2011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0" y="1500120"/>
            <a:ext cx="9144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99"/>
                </a:solidFill>
                <a:uFillTx/>
                <a:latin typeface="Arial"/>
              </a:rPr>
              <a:t>Основными задачами при подготовке к прохождению ОЗП 2010/2011 годов явля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ыполнение программы ремонтов основного оборудования (2,06 млрд.р.) и инвестиционной программы (4,14 млрд.р.) в 2010 году в полном объем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ыполнение приоритетных целевых программ повышения надежности работы оборудования (1,7 млн.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ыполнение соглашения с ОАО «СО ЕЭС» по телемеханизации подстанций (212 млн.руб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Проведение анализа, выявление «узких» мест в надежности работы энергооборудования по итогам выполнения приказа ОАО «МРСК Сибири» от 26.01.2010 № 43 «Об обеспечении предоставления полной информации по технологическим нарушениям в работе электрических сетей 6-110кВ» с целью обеспечения целенаправленного финансирования объектов, имеющих наиболее высокую аварийность (повреждаемос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Комплектование аварийного запаса материалов в соответствии с разработанным стандартом орган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ыполнение в установленные сроки предписаний уполномоченных органов исполнительной власти РФ, осуществляющих функции по контролю и надзору в установленной сфере деятельности, существенно влияющих на надежность работы в период прохождения ОЗП 2010/2011 г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bg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7080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Untitled-2"/>
          <p:cNvPicPr/>
          <p:nvPr/>
        </p:nvPicPr>
        <p:blipFill>
          <a:blip r:embed="rId2"/>
          <a:stretch/>
        </p:blipFill>
        <p:spPr>
          <a:xfrm>
            <a:off x="4579920" y="147600"/>
            <a:ext cx="3997440" cy="10209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439560" y="1489320"/>
            <a:ext cx="8101080" cy="16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8"/>
          <p:cNvSpPr/>
          <p:nvPr/>
        </p:nvSpPr>
        <p:spPr>
          <a:xfrm>
            <a:off x="473040" y="4019400"/>
            <a:ext cx="8231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28760" y="2620800"/>
            <a:ext cx="8202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Calibri"/>
                <a:ea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8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54" name="Picture 514" descr="bg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5" descr="Untitled-2"/>
            <p:cNvPicPr/>
            <p:nvPr/>
          </p:nvPicPr>
          <p:blipFill>
            <a:blip r:embed="rId2"/>
            <a:stretch/>
          </p:blipFill>
          <p:spPr>
            <a:xfrm>
              <a:off x="4579920" y="147600"/>
              <a:ext cx="3997440" cy="102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2" descr="Bitmap in Graphic1"/>
          <p:cNvPicPr/>
          <p:nvPr/>
        </p:nvPicPr>
        <p:blipFill>
          <a:blip r:embed="rId3"/>
          <a:stretch/>
        </p:blipFill>
        <p:spPr>
          <a:xfrm>
            <a:off x="142920" y="1357200"/>
            <a:ext cx="7191360" cy="5315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0"/>
          <p:cNvSpPr/>
          <p:nvPr/>
        </p:nvSpPr>
        <p:spPr>
          <a:xfrm>
            <a:off x="2571840" y="1214280"/>
            <a:ext cx="65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Зона обслуживания ОАО «МРСК Сибири» на 01.01.2010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143240" y="1500120"/>
            <a:ext cx="50007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Территория обслуживания </a:t>
            </a:r>
            <a:r>
              <a:rPr b="0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– </a:t>
            </a:r>
            <a:r>
              <a:rPr b="0" lang="en-US" sz="1400" spc="-1" strike="noStrike" u="sng">
                <a:solidFill>
                  <a:srgbClr val="253d75"/>
                </a:solidFill>
                <a:uFillTx/>
                <a:latin typeface="Arial"/>
                <a:ea typeface="Arial"/>
              </a:rPr>
              <a:t>2</a:t>
            </a:r>
            <a:r>
              <a:rPr b="0" lang="ru-RU" sz="1400" spc="-1" strike="noStrike" u="sng">
                <a:solidFill>
                  <a:srgbClr val="253d75"/>
                </a:solidFill>
                <a:uFillTx/>
                <a:latin typeface="Arial"/>
                <a:ea typeface="Arial"/>
              </a:rPr>
              <a:t> 173 тыс. кв. к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Охват территории обслуживания </a:t>
            </a:r>
            <a:r>
              <a:rPr b="0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– </a:t>
            </a:r>
            <a:r>
              <a:rPr b="0" lang="ru-RU" sz="1400" spc="-1" strike="noStrike" u="sng">
                <a:solidFill>
                  <a:srgbClr val="253d75"/>
                </a:solidFill>
                <a:uFillTx/>
                <a:latin typeface="Arial"/>
                <a:ea typeface="Arial"/>
              </a:rPr>
              <a:t>4 часовых поя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Объем электросетевого хозяйства:</a:t>
            </a:r>
            <a:r>
              <a:rPr b="0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 u="sng">
                <a:solidFill>
                  <a:srgbClr val="253d75"/>
                </a:solidFill>
                <a:uFillTx/>
                <a:latin typeface="Arial"/>
                <a:ea typeface="Arial"/>
              </a:rPr>
              <a:t>1 488 080 у.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(2008 г. -1 178 251 у.е.)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ВЛ 0,38-110 кВ по трассе</a:t>
            </a:r>
            <a:r>
              <a:rPr b="0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  – </a:t>
            </a:r>
            <a:r>
              <a:rPr b="0" lang="ru-RU" sz="1400" spc="-1" strike="noStrike" u="sng">
                <a:solidFill>
                  <a:srgbClr val="253d75"/>
                </a:solidFill>
                <a:uFillTx/>
                <a:latin typeface="Arial"/>
                <a:ea typeface="Arial"/>
              </a:rPr>
              <a:t>271 642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(2008 г. – 254 448 к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Подстанции 35-110 кВ</a:t>
            </a:r>
            <a:r>
              <a:rPr b="0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 – </a:t>
            </a:r>
            <a:r>
              <a:rPr b="0" lang="ru-RU" sz="1400" spc="-1" strike="noStrike" u="sng">
                <a:solidFill>
                  <a:srgbClr val="253d75"/>
                </a:solidFill>
                <a:uFillTx/>
                <a:latin typeface="Arial"/>
                <a:ea typeface="Arial"/>
              </a:rPr>
              <a:t>1 922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(2008 г. – 1 88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Подстанции 6-10 кВ  </a:t>
            </a:r>
            <a:r>
              <a:rPr b="0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 –  </a:t>
            </a:r>
            <a:r>
              <a:rPr b="0" lang="ru-RU" sz="1400" spc="-1" strike="noStrike" u="sng">
                <a:solidFill>
                  <a:srgbClr val="253d75"/>
                </a:solidFill>
                <a:uFillTx/>
                <a:latin typeface="Arial"/>
                <a:ea typeface="Arial"/>
              </a:rPr>
              <a:t>55 369</a:t>
            </a:r>
            <a:r>
              <a:rPr b="0" lang="ru-RU" sz="1400" spc="-1" strike="noStrike">
                <a:solidFill>
                  <a:srgbClr val="253d75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(2008 г. – 51 92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бщие сведения о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g2"/>
          <p:cNvPicPr/>
          <p:nvPr/>
        </p:nvPicPr>
        <p:blipFill>
          <a:blip r:embed="rId1"/>
          <a:stretch/>
        </p:blipFill>
        <p:spPr>
          <a:xfrm>
            <a:off x="0" y="0"/>
            <a:ext cx="9144000" cy="708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5" descr="Untitled-2"/>
          <p:cNvPicPr/>
          <p:nvPr/>
        </p:nvPicPr>
        <p:blipFill>
          <a:blip r:embed="rId2"/>
          <a:stretch/>
        </p:blipFill>
        <p:spPr>
          <a:xfrm>
            <a:off x="4994280" y="160200"/>
            <a:ext cx="3997440" cy="1020960"/>
          </a:xfrm>
          <a:prstGeom prst="rect">
            <a:avLst/>
          </a:prstGeom>
          <a:ln w="0">
            <a:noFill/>
          </a:ln>
        </p:spPr>
      </p:pic>
      <p:pic>
        <p:nvPicPr>
          <p:cNvPr id="62" name="Диаграмма 6" descr=""/>
          <p:cNvPicPr/>
          <p:nvPr/>
        </p:nvPicPr>
        <p:blipFill>
          <a:blip r:embed="rId3"/>
          <a:stretch/>
        </p:blipFill>
        <p:spPr>
          <a:xfrm>
            <a:off x="2147266800" y="2147419080"/>
            <a:ext cx="217440" cy="65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2"/>
          <p:cNvSpPr/>
          <p:nvPr/>
        </p:nvSpPr>
        <p:spPr>
          <a:xfrm>
            <a:off x="6442200" y="3305160"/>
            <a:ext cx="2592360" cy="1225440"/>
          </a:xfrm>
          <a:prstGeom prst="rect">
            <a:avLst/>
          </a:prstGeom>
          <a:solidFill>
            <a:srgbClr val="3366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Риск ввода граф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аварийного ограни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при отключении одно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ВЛ-500кВ питающ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Хакасскую энергосист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63"/>
          <p:cNvSpPr/>
          <p:nvPr/>
        </p:nvSpPr>
        <p:spPr>
          <a:xfrm>
            <a:off x="6443640" y="4714920"/>
            <a:ext cx="2592360" cy="2014560"/>
          </a:xfrm>
          <a:prstGeom prst="rect">
            <a:avLst/>
          </a:prstGeom>
          <a:solidFill>
            <a:srgbClr val="3366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Энергосистема Республ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Хакасия отнес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к регионам с высок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рисками наруш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электроснабж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в ОЗП 2009/2010 г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(приказ Минэнерго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от 22.09.2009 № 417)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64"/>
          <p:cNvSpPr/>
          <p:nvPr/>
        </p:nvSpPr>
        <p:spPr>
          <a:xfrm>
            <a:off x="6442200" y="1989000"/>
            <a:ext cx="2592360" cy="863640"/>
          </a:xfrm>
          <a:prstGeom prst="rect">
            <a:avLst/>
          </a:prstGeom>
          <a:solidFill>
            <a:srgbClr val="3366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Возросла ответ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транзита мощ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по сети 110к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65"/>
          <p:cNvSpPr/>
          <p:nvPr/>
        </p:nvSpPr>
        <p:spPr>
          <a:xfrm>
            <a:off x="3544920" y="1844640"/>
            <a:ext cx="2232000" cy="1079640"/>
          </a:xfrm>
          <a:prstGeom prst="roundRect">
            <a:avLst>
              <a:gd name="adj" fmla="val 16667"/>
            </a:avLst>
          </a:prstGeom>
          <a:solidFill>
            <a:srgbClr val="3366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Увеличена загруз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тепловых электростан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2009г. – 17 128 МВ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2010г. – 18 884 МВ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66"/>
          <p:cNvSpPr/>
          <p:nvPr/>
        </p:nvSpPr>
        <p:spPr>
          <a:xfrm>
            <a:off x="3554280" y="3421080"/>
            <a:ext cx="2232000" cy="1079640"/>
          </a:xfrm>
          <a:prstGeom prst="roundRect">
            <a:avLst>
              <a:gd name="adj" fmla="val 16667"/>
            </a:avLst>
          </a:prstGeom>
          <a:solidFill>
            <a:srgbClr val="3366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Изменилась схе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потокораспредел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уровни напряжения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сети 220-500к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67"/>
          <p:cNvSpPr/>
          <p:nvPr/>
        </p:nvSpPr>
        <p:spPr>
          <a:xfrm>
            <a:off x="3505320" y="5229360"/>
            <a:ext cx="2303280" cy="1079280"/>
          </a:xfrm>
          <a:prstGeom prst="roundRect">
            <a:avLst>
              <a:gd name="adj" fmla="val 16667"/>
            </a:avLst>
          </a:prstGeom>
          <a:solidFill>
            <a:srgbClr val="3366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Снижена надеж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энергоснабж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Центра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части СФ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78" descr=""/>
          <p:cNvPicPr/>
          <p:nvPr/>
        </p:nvPicPr>
        <p:blipFill>
          <a:blip r:embed="rId4"/>
          <a:stretch/>
        </p:blipFill>
        <p:spPr>
          <a:xfrm>
            <a:off x="109440" y="2781360"/>
            <a:ext cx="2662200" cy="2409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79"/>
          <p:cNvSpPr/>
          <p:nvPr/>
        </p:nvSpPr>
        <p:spPr>
          <a:xfrm>
            <a:off x="874800" y="1370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0"/>
          <p:cNvSpPr/>
          <p:nvPr/>
        </p:nvSpPr>
        <p:spPr>
          <a:xfrm>
            <a:off x="3994200" y="13604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лед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1"/>
          <p:cNvSpPr/>
          <p:nvPr/>
        </p:nvSpPr>
        <p:spPr>
          <a:xfrm>
            <a:off x="6948360" y="13827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82"/>
          <p:cNvSpPr/>
          <p:nvPr/>
        </p:nvSpPr>
        <p:spPr>
          <a:xfrm>
            <a:off x="3059280" y="1484280"/>
            <a:ext cx="0" cy="5184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83"/>
          <p:cNvSpPr/>
          <p:nvPr/>
        </p:nvSpPr>
        <p:spPr>
          <a:xfrm>
            <a:off x="6084720" y="1484280"/>
            <a:ext cx="0" cy="5184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4"/>
          <p:cNvSpPr/>
          <p:nvPr/>
        </p:nvSpPr>
        <p:spPr>
          <a:xfrm>
            <a:off x="0" y="17733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3"/>
          <p:cNvSpPr/>
          <p:nvPr/>
        </p:nvSpPr>
        <p:spPr>
          <a:xfrm>
            <a:off x="5838840" y="2203560"/>
            <a:ext cx="546120" cy="404640"/>
          </a:xfrm>
          <a:prstGeom prst="rightArrow">
            <a:avLst>
              <a:gd name="adj1" fmla="val 50000"/>
              <a:gd name="adj2" fmla="val 33741"/>
            </a:avLst>
          </a:pr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4"/>
          <p:cNvSpPr/>
          <p:nvPr/>
        </p:nvSpPr>
        <p:spPr>
          <a:xfrm>
            <a:off x="5843520" y="3716280"/>
            <a:ext cx="541440" cy="405000"/>
          </a:xfrm>
          <a:prstGeom prst="rightArrow">
            <a:avLst>
              <a:gd name="adj1" fmla="val 50000"/>
              <a:gd name="adj2" fmla="val 33422"/>
            </a:avLst>
          </a:pr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75"/>
          <p:cNvSpPr/>
          <p:nvPr/>
        </p:nvSpPr>
        <p:spPr>
          <a:xfrm>
            <a:off x="5848200" y="5543640"/>
            <a:ext cx="555840" cy="404640"/>
          </a:xfrm>
          <a:prstGeom prst="rightArrow">
            <a:avLst>
              <a:gd name="adj1" fmla="val 50000"/>
              <a:gd name="adj2" fmla="val 34342"/>
            </a:avLst>
          </a:pr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70"/>
          <p:cNvSpPr/>
          <p:nvPr/>
        </p:nvSpPr>
        <p:spPr>
          <a:xfrm rot="19809600">
            <a:off x="2800440" y="2457000"/>
            <a:ext cx="741240" cy="358920"/>
          </a:xfrm>
          <a:prstGeom prst="rightArrow">
            <a:avLst>
              <a:gd name="adj1" fmla="val 50000"/>
              <a:gd name="adj2" fmla="val 51630"/>
            </a:avLst>
          </a:pr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2"/>
          <p:cNvSpPr/>
          <p:nvPr/>
        </p:nvSpPr>
        <p:spPr>
          <a:xfrm>
            <a:off x="2876400" y="3787920"/>
            <a:ext cx="649440" cy="360360"/>
          </a:xfrm>
          <a:prstGeom prst="rightArrow">
            <a:avLst>
              <a:gd name="adj1" fmla="val 50000"/>
              <a:gd name="adj2" fmla="val 45055"/>
            </a:avLst>
          </a:pr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71"/>
          <p:cNvSpPr/>
          <p:nvPr/>
        </p:nvSpPr>
        <p:spPr>
          <a:xfrm rot="2258400">
            <a:off x="2781360" y="5162040"/>
            <a:ext cx="790560" cy="358920"/>
          </a:xfrm>
          <a:prstGeom prst="rightArrow">
            <a:avLst>
              <a:gd name="adj1" fmla="val 50000"/>
              <a:gd name="adj2" fmla="val 55065"/>
            </a:avLst>
          </a:pr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85"/>
          <p:cNvSpPr/>
          <p:nvPr/>
        </p:nvSpPr>
        <p:spPr>
          <a:xfrm>
            <a:off x="395280" y="5589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уст. - 6400М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расп. - 4000М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6"/>
          <p:cNvSpPr/>
          <p:nvPr/>
        </p:nvSpPr>
        <p:spPr>
          <a:xfrm>
            <a:off x="250920" y="5300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 результате выбы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88"/>
          <p:cNvSpPr/>
          <p:nvPr/>
        </p:nvSpPr>
        <p:spPr>
          <a:xfrm>
            <a:off x="395280" y="19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Авария на СШ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7.08.200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89"/>
          <p:cNvSpPr/>
          <p:nvPr/>
        </p:nvSpPr>
        <p:spPr>
          <a:xfrm>
            <a:off x="36360" y="4428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ущественные факторы влияющие на подготовку к ОЗП 2009/2010 г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g2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8"/>
          <p:cNvSpPr/>
          <p:nvPr/>
        </p:nvSpPr>
        <p:spPr>
          <a:xfrm>
            <a:off x="88920" y="1341360"/>
            <a:ext cx="8891640" cy="3587760"/>
          </a:xfrm>
          <a:prstGeom prst="roundRect">
            <a:avLst>
              <a:gd name="adj" fmla="val 5648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Untitled-2"/>
          <p:cNvPicPr/>
          <p:nvPr/>
        </p:nvPicPr>
        <p:blipFill>
          <a:blip r:embed="rId2"/>
          <a:stretch/>
        </p:blipFill>
        <p:spPr>
          <a:xfrm>
            <a:off x="4994280" y="160200"/>
            <a:ext cx="3997440" cy="1020960"/>
          </a:xfrm>
          <a:prstGeom prst="rect">
            <a:avLst/>
          </a:prstGeom>
          <a:ln w="0">
            <a:noFill/>
          </a:ln>
        </p:spPr>
      </p:pic>
      <p:pic>
        <p:nvPicPr>
          <p:cNvPr id="89" name="Диаграмма 6" descr=""/>
          <p:cNvPicPr/>
          <p:nvPr/>
        </p:nvPicPr>
        <p:blipFill>
          <a:blip r:embed="rId3"/>
          <a:stretch/>
        </p:blipFill>
        <p:spPr>
          <a:xfrm>
            <a:off x="2147266800" y="2147419080"/>
            <a:ext cx="217440" cy="651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2"/>
          <p:cNvSpPr/>
          <p:nvPr/>
        </p:nvSpPr>
        <p:spPr>
          <a:xfrm>
            <a:off x="101520" y="5000760"/>
            <a:ext cx="8879040" cy="169992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179280" y="1341360"/>
            <a:ext cx="8785440" cy="33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Мероприятия по повышению наде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Проведена внеочередная диагностика и ремонт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объектов особого контроля - 49 ВЛ 110 кВ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Произведена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замена дефектных опор 35-110кВ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на сумму 105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млн.руб.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(332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шт.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Произведены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ертолетные осмотры тупиковых ВЛ-35-110кВ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проходящих в труднодоступных мес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Аварийный запас по ВЛ 0,4-110 кВ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увеличен в три раза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В 2009 году приобретено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23 дизельных электростанций, в т.ч. 10 ДЭС для «Хакасэнерго»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Реализована программа по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овышению наблюдаемости сети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на сумму 234 млн. руб. (67 ПС-110кВ). В 2010 году запланировано 212 млн. руб. (39 ПС-110кВ). По «Хакасэнерго» реализуется дополнительная программа по созданию системы телеуправления на объектах «Хакасэнерго», задействованных при вводе ГВО на сумму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55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млн. руб. (1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ПС-110к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Произведено оснащение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сех бригад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спутниковой, индивидуальной радиосвязью, сотовой связ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179280" y="5072040"/>
            <a:ext cx="87854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Организационные 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В каждом ТЦ созданы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аварийно-восстановительные бригады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В «Хакасэнерго» созданы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четыре дополнительные бригады (СПС, ВВС) в количестве 20 человек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Проведены 229 специализированных тренировок по вводу ГВО, а также 7 тренировок с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реальными действиями персонала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Изменена схема прохождения команд по вводу ГВО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 на объекты ОАО «РУСАЛ-Саяногорск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36360" y="4428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Дополнительные мероприятия по подготовке к ОЗП 2009/2010 г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bg2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Untitled-2"/>
          <p:cNvPicPr/>
          <p:nvPr/>
        </p:nvPicPr>
        <p:blipFill>
          <a:blip r:embed="rId2"/>
          <a:stretch/>
        </p:blipFill>
        <p:spPr>
          <a:xfrm>
            <a:off x="4994280" y="160200"/>
            <a:ext cx="3997440" cy="10209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0"/>
          <p:cNvSpPr/>
          <p:nvPr/>
        </p:nvSpPr>
        <p:spPr>
          <a:xfrm>
            <a:off x="0" y="0"/>
            <a:ext cx="4572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Выполнение основны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изводственных програм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42960" y="2162160"/>
          <a:ext cx="8072280" cy="1195560"/>
        </p:xfrm>
        <a:graphic>
          <a:graphicData uri="http://schemas.openxmlformats.org/drawingml/2006/table">
            <a:tbl>
              <a:tblPr/>
              <a:tblGrid>
                <a:gridCol w="3209760"/>
                <a:gridCol w="1555920"/>
                <a:gridCol w="1654200"/>
                <a:gridCol w="1652400"/>
              </a:tblGrid>
              <a:tr h="5986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Факт 200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вы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лан 201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968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ОАО "МРСК Сибири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 903 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 060 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Прямоугольник 10"/>
          <p:cNvSpPr/>
          <p:nvPr/>
        </p:nvSpPr>
        <p:spPr>
          <a:xfrm>
            <a:off x="2286000" y="150336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Выполнение ремонтн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0"/>
          <p:cNvSpPr/>
          <p:nvPr/>
        </p:nvSpPr>
        <p:spPr>
          <a:xfrm>
            <a:off x="2357280" y="3701880"/>
            <a:ext cx="464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Выполнение  инвестиционн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14240" y="4572000"/>
          <a:ext cx="8001000" cy="1155600"/>
        </p:xfrm>
        <a:graphic>
          <a:graphicData uri="http://schemas.openxmlformats.org/drawingml/2006/table">
            <a:tbl>
              <a:tblPr/>
              <a:tblGrid>
                <a:gridCol w="3214800"/>
                <a:gridCol w="1571760"/>
                <a:gridCol w="1654200"/>
                <a:gridCol w="1560240"/>
              </a:tblGrid>
              <a:tr h="6429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Факт 200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вы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лан 201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264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ОАО "МРСК Сибири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 7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 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Untitled-2"/>
          <p:cNvPicPr/>
          <p:nvPr/>
        </p:nvPicPr>
        <p:blipFill>
          <a:blip r:embed="rId1"/>
          <a:stretch/>
        </p:blipFill>
        <p:spPr>
          <a:xfrm>
            <a:off x="4994280" y="160200"/>
            <a:ext cx="3997440" cy="1020960"/>
          </a:xfrm>
          <a:prstGeom prst="rect">
            <a:avLst/>
          </a:prstGeom>
          <a:ln w="0">
            <a:noFill/>
          </a:ln>
        </p:spPr>
      </p:pic>
      <p:pic>
        <p:nvPicPr>
          <p:cNvPr id="102" name="Диаграмма 6" descr=""/>
          <p:cNvPicPr/>
          <p:nvPr/>
        </p:nvPicPr>
        <p:blipFill>
          <a:blip r:embed="rId2"/>
          <a:stretch/>
        </p:blipFill>
        <p:spPr>
          <a:xfrm>
            <a:off x="2147249160" y="2147419080"/>
            <a:ext cx="235080" cy="65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bg2"/>
          <p:cNvPicPr/>
          <p:nvPr/>
        </p:nvPicPr>
        <p:blipFill>
          <a:blip r:embed="rId3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Untitled-2"/>
          <p:cNvPicPr/>
          <p:nvPr/>
        </p:nvPicPr>
        <p:blipFill>
          <a:blip r:embed="rId4"/>
          <a:stretch/>
        </p:blipFill>
        <p:spPr>
          <a:xfrm>
            <a:off x="4572000" y="142920"/>
            <a:ext cx="3997440" cy="10206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9"/>
          <p:cNvSpPr/>
          <p:nvPr/>
        </p:nvSpPr>
        <p:spPr>
          <a:xfrm>
            <a:off x="12240" y="0"/>
            <a:ext cx="3618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оритетные целевые програм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 повышению надежности п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ке к ОЗП 2009/2010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698920"/>
          <a:ext cx="9144000" cy="4159080"/>
        </p:xfrm>
        <a:graphic>
          <a:graphicData uri="http://schemas.openxmlformats.org/drawingml/2006/table">
            <a:tbl>
              <a:tblPr/>
              <a:tblGrid>
                <a:gridCol w="3400560"/>
                <a:gridCol w="957240"/>
                <a:gridCol w="1285920"/>
                <a:gridCol w="1493640"/>
                <a:gridCol w="2006640"/>
              </a:tblGrid>
              <a:tr h="3132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аименование целевой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Единица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лан 201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лан 2009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Факт 200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 row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ограмма замены деревянных опор ВЛ 35-110 кВ на железобетонные и металл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96 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05 7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64 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13480">
                <a:tc row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ограмма замены грозотроса, отработавшего свой нормативный с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6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6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0 6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0 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44 7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 row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ограмма доведения ширины просек ВЛ 10-110 кВ до нормативной (расчистка и расширение просек В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7 7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8 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9 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62 4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81 5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67 3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0960">
                <a:tc row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ограмма замены голого провода ВЛ 0,4-10 кВ на самонесущий изолированный про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4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4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ыс.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69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69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688 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480">
                <a:tc row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ограмма по оснащению филиалов передвижными дизель - стан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2 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3 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7 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266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ограмма по замене дефектных опор ВЛ 10/6/0,4 к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6 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7 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9"/>
          <p:cNvSpPr/>
          <p:nvPr/>
        </p:nvSpPr>
        <p:spPr>
          <a:xfrm>
            <a:off x="214200" y="1643040"/>
            <a:ext cx="871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В целях повышения уровня надежности электроснабжения потребителей в ОАО «МРСК Сибири» разработаны и выполняются  целевые программы повышения надежности, приоритетными из которых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b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Untitled-2"/>
          <p:cNvPicPr/>
          <p:nvPr/>
        </p:nvPicPr>
        <p:blipFill>
          <a:blip r:embed="rId2"/>
          <a:stretch/>
        </p:blipFill>
        <p:spPr>
          <a:xfrm>
            <a:off x="4994280" y="160200"/>
            <a:ext cx="3997440" cy="1020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0" y="0"/>
            <a:ext cx="4400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ормирование аварийного зап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85840" y="1419120"/>
            <a:ext cx="11430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с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00080" y="5429160"/>
          <a:ext cx="7572600" cy="135756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13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ичие по состоянию на 01.09.2009 год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«Положение об аварийном запасе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иказ № 183 от 10.04.0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ичие по состоянию на 01.01.2010 год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огласно принятому стандарт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«Аварийный запас. Положение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риказ № 494 от 26.10.09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лан на 201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14"/>
          <p:cNvSpPr/>
          <p:nvPr/>
        </p:nvSpPr>
        <p:spPr>
          <a:xfrm>
            <a:off x="2214720" y="3929040"/>
            <a:ext cx="785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9 8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4572000" y="3000240"/>
            <a:ext cx="9288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2 6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7000920" y="1428840"/>
            <a:ext cx="9288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8 1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Диаграмма 13" descr=""/>
          <p:cNvPicPr/>
          <p:nvPr/>
        </p:nvPicPr>
        <p:blipFill>
          <a:blip r:embed="rId3"/>
          <a:stretch/>
        </p:blipFill>
        <p:spPr>
          <a:xfrm>
            <a:off x="-6480" y="0"/>
            <a:ext cx="91569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g2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Untitled-2"/>
          <p:cNvPicPr/>
          <p:nvPr/>
        </p:nvPicPr>
        <p:blipFill>
          <a:blip r:embed="rId2"/>
          <a:stretch/>
        </p:blipFill>
        <p:spPr>
          <a:xfrm>
            <a:off x="4994280" y="160200"/>
            <a:ext cx="3997440" cy="1020960"/>
          </a:xfrm>
          <a:prstGeom prst="rect">
            <a:avLst/>
          </a:prstGeom>
          <a:ln w="0">
            <a:noFill/>
          </a:ln>
        </p:spPr>
      </p:pic>
      <p:pic>
        <p:nvPicPr>
          <p:cNvPr id="119" name="Диаграмма 6" descr=""/>
          <p:cNvPicPr/>
          <p:nvPr/>
        </p:nvPicPr>
        <p:blipFill>
          <a:blip r:embed="rId3"/>
          <a:stretch/>
        </p:blipFill>
        <p:spPr>
          <a:xfrm>
            <a:off x="15532200" y="7639200"/>
            <a:ext cx="31680" cy="298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0"/>
          <p:cNvSpPr/>
          <p:nvPr/>
        </p:nvSpPr>
        <p:spPr>
          <a:xfrm>
            <a:off x="0" y="0"/>
            <a:ext cx="4572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Целевые направления восстановления с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Тываэнер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39680" y="1214280"/>
            <a:ext cx="8856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1785960" y="3214800"/>
            <a:ext cx="3228840" cy="235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142920" y="3214800"/>
            <a:ext cx="1716120" cy="22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41120" y="1428840"/>
          <a:ext cx="8859960" cy="1627200"/>
        </p:xfrm>
        <a:graphic>
          <a:graphicData uri="http://schemas.openxmlformats.org/drawingml/2006/table">
            <a:tbl>
              <a:tblPr/>
              <a:tblGrid>
                <a:gridCol w="930600"/>
                <a:gridCol w="1500120"/>
                <a:gridCol w="2286000"/>
                <a:gridCol w="1195200"/>
                <a:gridCol w="874800"/>
                <a:gridCol w="927000"/>
                <a:gridCol w="1146240"/>
              </a:tblGrid>
              <a:tr h="9810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бъемы собственного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ъем дополнительного финансирования за счет ОАО «МРСК Сибир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ена КТП-10/0,4кВ,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Замена КЛ-0,4кВ,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ена опор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ена голого провода на СИП,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2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0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4 млн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 млн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5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,6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0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7 млн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5 млн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75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125" name="Диаграмма 11" descr=""/>
          <p:cNvPicPr/>
          <p:nvPr/>
        </p:nvPicPr>
        <p:blipFill>
          <a:blip r:embed="rId6"/>
          <a:stretch/>
        </p:blipFill>
        <p:spPr>
          <a:xfrm>
            <a:off x="0" y="0"/>
            <a:ext cx="9150480" cy="6004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5072040" y="3255840"/>
            <a:ext cx="40719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Инциденты за период ОЗ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59292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 marL="82440" indent="358920"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Работы выполнялись с привлечением бригад филиалов ОАО «МРСК Сибири».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В результате целенаправленного вложения денежных средств в распределительные сети Общества, наблюдается снижение количества инцидентов за период ОЗП 2009/2010 г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g2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Untitled-2"/>
          <p:cNvPicPr/>
          <p:nvPr/>
        </p:nvPicPr>
        <p:blipFill>
          <a:blip r:embed="rId2"/>
          <a:stretch/>
        </p:blipFill>
        <p:spPr>
          <a:xfrm>
            <a:off x="4994280" y="160200"/>
            <a:ext cx="3997440" cy="1020960"/>
          </a:xfrm>
          <a:prstGeom prst="rect">
            <a:avLst/>
          </a:prstGeom>
          <a:ln w="0">
            <a:noFill/>
          </a:ln>
        </p:spPr>
      </p:pic>
      <p:pic>
        <p:nvPicPr>
          <p:cNvPr id="130" name="Диаграмма 6" descr=""/>
          <p:cNvPicPr/>
          <p:nvPr/>
        </p:nvPicPr>
        <p:blipFill>
          <a:blip r:embed="rId3"/>
          <a:stretch/>
        </p:blipFill>
        <p:spPr>
          <a:xfrm>
            <a:off x="15532200" y="7639200"/>
            <a:ext cx="31680" cy="298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0"/>
          <p:cNvSpPr/>
          <p:nvPr/>
        </p:nvSpPr>
        <p:spPr>
          <a:xfrm>
            <a:off x="0" y="0"/>
            <a:ext cx="4572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Целевые направления восстановления с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39680" y="1255680"/>
            <a:ext cx="8856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а по восстановлению кабельных линий в ОАО «Улан-УдэЭнерго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428920" y="3214800"/>
            <a:ext cx="407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Аварийность по КЛ за период ОЗ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542916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 результате целенаправленного финансирования работ по восстановлению кабельных линий, в ОАО «Улан-УдэЭнерго» наблюдается снижение количества инцидентов за период ОЗП 2009/2010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358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71720" y="1714680"/>
          <a:ext cx="7029360" cy="1193760"/>
        </p:xfrm>
        <a:graphic>
          <a:graphicData uri="http://schemas.openxmlformats.org/drawingml/2006/table">
            <a:tbl>
              <a:tblPr/>
              <a:tblGrid>
                <a:gridCol w="1757160"/>
                <a:gridCol w="1886040"/>
                <a:gridCol w="1628640"/>
                <a:gridCol w="17575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Всего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0/6 к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На повреждении на 01.06.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Затраты, т.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Восстановлено до начала ОЗП 09/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 9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71720" y="3571920"/>
          <a:ext cx="7029360" cy="1260360"/>
        </p:xfrm>
        <a:graphic>
          <a:graphicData uri="http://schemas.openxmlformats.org/drawingml/2006/table">
            <a:tbl>
              <a:tblPr/>
              <a:tblGrid>
                <a:gridCol w="1757160"/>
                <a:gridCol w="1886040"/>
                <a:gridCol w="1628640"/>
                <a:gridCol w="17575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Количество Т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Недоотпуск э/э, тыс. кВт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Время перерывов эл.с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ОЗП 2008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6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ОЗП 20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3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4:27:09Z</dcterms:created>
  <dc:creator>yagonsky_vv</dc:creator>
  <dc:description/>
  <dc:language>en-US</dc:language>
  <cp:lastModifiedBy>bezdelev_sg</cp:lastModifiedBy>
  <dcterms:modified xsi:type="dcterms:W3CDTF">2010-05-19T07:38:04Z</dcterms:modified>
  <cp:revision>2351</cp:revision>
  <dc:subject/>
  <dc:title>Отчет генерального директора о выполнении  «Программы  - мероприятий  по предотвращению травматизма в ОАО «МРСК Сибири»  на 2008год» за 2 квартал</dc:title>
</cp:coreProperties>
</file>