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F42-BC08-422D-BC40-F02C75CE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246-FADA-4797-9142-5A1B65AB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3C1-A334-4D02-9717-97A63D6D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C9E-F41C-481E-9729-74F12179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370B-0EC9-47D0-A80A-AF71ACF4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0803-315D-4766-9372-2F4450D7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F32B-B90A-41C0-85DE-AFFFA758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479B-FFEC-427B-9146-443D5D27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6C0B-74A6-4C15-A264-923C8D89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7284-0602-49E9-BB25-A3A23DDF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81BF-C79A-4C78-BC11-F95D9CD6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942-64D0-4154-867A-8C62C96B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B929-A383-4FD3-B5AA-631955DF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92B7-D515-4556-B077-0184A21E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4B81-78CD-45C4-B715-A4104743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556D-A2EC-44BC-8CF6-CE080E0F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6B1D-FB41-4900-A3D4-EA37A57B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12D-26C7-43EC-B3A8-CD483A18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1C3-8D13-4C1A-A26E-0ADB15AC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B18-D5E8-4CC9-B78E-BA6BE105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77E-B8BE-4C1C-B4FC-0C4BD2D8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011-0C02-4DEE-BF0D-A22BB36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B5A-4155-4964-A01B-A758FF77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E52-E6A1-496D-9498-EDAC8587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1DAA-6D78-47B1-8542-BE7589423E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345A-892E-45D3-A6EE-B883819BD1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8783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Заседание  координационного </a:t>
            </a:r>
            <a:br>
              <a:rPr sz="4400"/>
            </a:b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совета по культуре Межрегиональной</a:t>
            </a: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ассоциации </a:t>
            </a:r>
            <a:br>
              <a:rPr sz="4400"/>
            </a:b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«Сибирское соглашение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19600" y="5877000"/>
            <a:ext cx="5216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3 января 2009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6000" y="122040"/>
            <a:ext cx="874872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ординационного совета по культу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региональной ассоциации «Сибирское соглаш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Барнау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3 января 2009 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Заслушав и обсудив информацию консультанта, юрисконсульта управления Алтайского края по культуре Безруковой Е.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Е. о концепции Федерального закона «О культуре», координационный совет Межрегиональной ассоциации «Сибирское соглашение» отмечает особую значимость разрабатываемого законопроекта для дальнейшего развития  отрасли культуры и необходимость заинтересованного участия региональных органов культуры Сибирского региона в его разработк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итывая актуальность данного вопроса, координационный совет по культуре Межрегиональной ассоциации «Сибирское соглашение» решил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Направить в Министерство культуры Российской Федерации следующие предложения по доработке проекта Федерального закона «О культуре»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4492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ополнить понятийный аппарат проекта Федерального закона  понятием учреждения культуры, предусмотреть виды (типы) учреждений культуры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4492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 развитие положений проекта о государственных гарантиях обеспечения прав граждан на участие  в культурной деятельности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4492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пределить категории граждан, которым государство гарантирует права на бесплатное посещение учреждений культуры, и механизм финансового обеспечения этой льготы (закрепить норму о возмещении учреждениям культуры за счет бюджетных средств недополученных доходов, связанных с исполнением обязанностей по предоставлению бесплатных услуг некоторым категориям граждан, когда право на бесплатное посещение предусмотрено законодательством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449280"/>
            <a:ext cx="856908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в статьях о полномочиях субъектов Российской Федерации и органов местного самоуправления в сфере культуры, а также имуществе, которое может находиться в собственности субъектов Российской Федерации либо органов местного самоуправления, соответственно, предусмотреть отсылочные нормы к Федеральным законам № 184-ФЗ и № 131-ФЗ (без дублирования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доработать раздел о мерах государственной поддержки творческих союзов и их членов по направлениям: формы стабильной финансовой поддержки творческих союзов (субсидии в связи с оказанием творческими союзами услуг населению); формы целевой финансовой поддержки социально-культурных проектов творческих союзов (гранты); формы финансовой поддержки членов творческих союзов, оказавшихся в трудной жизненной ситуации в связи со старостью, одиночеством, безработицей, нуждаемости в дорогостоящих лекарствах и т.д.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предусмотреть механизм финансовой поддержки через конкурсную систему грантов и премий муниципальных учреждений культуры, не попадающих под действие ст. 78 Бюджетного Кодекса РФ, на основании которой осуществляется грантовая поддержка юридических лиц, не являющихся бюджетными учреждениям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220640"/>
            <a:ext cx="8353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Докладчик: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Ярославцева Н.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В.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– руководитель департамента культуры Новосибирской области</a:t>
            </a:r>
            <a:br>
              <a:rPr sz="2600"/>
            </a:b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333360"/>
            <a:ext cx="80643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ffff"/>
                </a:solidFill>
                <a:latin typeface="Arial"/>
              </a:rPr>
              <a:t>О проведении Сибирского театрального форума и совещания руководителей органов управления культурой Российской Федерации и органов местного самоуправления, руководителей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ffff"/>
                </a:solidFill>
                <a:latin typeface="Arial"/>
              </a:rPr>
              <a:t>театров и театральных вузов</a:t>
            </a:r>
            <a:r>
              <a:rPr b="1" lang="en-US" sz="3000" spc="-1" strike="noStrike">
                <a:solidFill>
                  <a:srgbClr val="cc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cffff"/>
                </a:solidFill>
                <a:latin typeface="Arial"/>
              </a:rPr>
              <a:t>(г.</a:t>
            </a:r>
            <a:r>
              <a:rPr b="1" lang="en-US" sz="3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cffff"/>
                </a:solidFill>
                <a:latin typeface="Arial"/>
              </a:rPr>
              <a:t>Новосибирск, 11-15 февраля 2009 г.)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129240"/>
            <a:ext cx="8064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О проведении в г. Новосибирске Сибирского театрального форума «Театр – время перемен»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3153600"/>
            <a:ext cx="8388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есто и сроки проведения Сибирского театрального форум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:                                   г. Новосибирск, 11-16 февраля 2009 г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личество и состав участников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69 человек – представители территорий Сибирского федерального округ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80 человек – представители федеральных структур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20 человек – представители Новосибирской обл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ведение пресс-конференции и торжественного открытия форума планируе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1 февраля. Место и время уточня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3 февраля предлагается провести приём Губернатором Новосибирской области участников Сибирского театрального фору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289880"/>
            <a:ext cx="831672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Третий Всероссийский театральный форум «Театр — время перемен», проводится в 2008-2009 г.г. в семи федеральных округах Российской Федерации Союзом театральных деятелей России, Министерством культуры Российской Федерации при поддержке региональных органов государственной власти. В сентябре 2008 г. в Хабаровске прошёл первый – дальневосточный, в январе 2009 г. в Екатеринбурге – Уральский, в феврале в Новосибирске – Сибирский театральный форум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360000"/>
            <a:ext cx="864216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роек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онного совета по куль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региональной ассоциации «Сибирское соглаше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Барнау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3 января 2009 г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смотрев  информацию руководителя департамента культуры Новосибирской области Ярославцевой Н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. о проведении 11-16 февраля 2009 в г. Новосибирске Сибирского театрального форума «Театр – время перемен», координационный совет Межрегиональной ассоциации «Сибирское соглашение» отмечает, что данный форум, безусловно, станет значительным событием в культурном пространстве реги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итывая особую значимость планируемого театрального форума в культурной жизни Сибири, координационный совет по культуре МАСС реши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698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держать предложение департамента культуры Новосибирской  области об участии регионов Сибирского федерального округа в Сибирском театральном форуме «Театр – время перемен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698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ководителям органов культуры регионов Сибири обеспечить участие представителей территорий в театральном форуме; принять участие в совещании руководителей театров, театральных вузов, органов культуры и органов местного самоуправления территорий Сибирского Федерального округ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79560"/>
            <a:ext cx="8064360" cy="36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Докладчики: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Барышников В. В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– министр культуры и архивов Иркутской области;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Шнайдер Г.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Я.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директор Алтайского государственного театра кукол «Сказка»</a:t>
            </a:r>
            <a:br>
              <a:rPr sz="2600"/>
            </a:b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393920" y="274680"/>
            <a:ext cx="670716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ffff"/>
                </a:solidFill>
                <a:latin typeface="Arial"/>
                <a:ea typeface="Arial"/>
              </a:rPr>
              <a:t>О ходе работы по подготовке и проведению </a:t>
            </a:r>
            <a:r>
              <a:rPr b="1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IV</a:t>
            </a:r>
            <a:r>
              <a:rPr b="1" lang="ru-RU" sz="3000" spc="-1" strike="noStrike">
                <a:solidFill>
                  <a:srgbClr val="ccffff"/>
                </a:solidFill>
                <a:latin typeface="Arial"/>
                <a:ea typeface="Arial"/>
              </a:rPr>
              <a:t> межрегионального фестиваля театров кукол Сибири в г.Братске с 15 по 22 марта 2009 года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99160"/>
            <a:ext cx="86421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роек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ординационного совета по культу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региональной ассоциации «Сибирское соглаш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Барнау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3 января 2009 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Заслушав и обсудив информацию министра культуры и архивов Иркутской области В.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В. Барышникова и директора Алтайского государственного театра кукол «Сказка» Шнайдер Г.Я. по вопросу «О ходе работы по подготовке и проведению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межрегионального фестиваля театров кукол Сибири в г. Братске с 15 по 22 марта 2009 года», координационный совет Межрегиональной ассоциации «Сибирское соглашение» отмечает, что данный фестиваль станет значительным событием в театральном пространстве регион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Учитывая особую значимость фестиваля театров кукол в культурной жизни Сибири, его актуальность в 2009 году,  объявленном в России Годом Молодежи, координационный совет по культуре МАСС решил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469800"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одобрить положение о проведении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фестиваля театров кукол Сибири с учетом дополнений, внесенных в ходе обсуждения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469800"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поручить министру культуры и архивов Иркутской области В.В. Барышникову взять на особый контроль подготовку фестиваля и оказывать необходимую материальную и организационную помощь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469800" algn="just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руководителям органов культуры регионов Сибири обеспечить участие представителей территорий в театральном форум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8783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Заседание  координационного </a:t>
            </a:r>
            <a:br>
              <a:rPr sz="4400"/>
            </a:b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совета по культуре Межрегиональной</a:t>
            </a: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ассоциации </a:t>
            </a:r>
            <a:br>
              <a:rPr sz="4400"/>
            </a:b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«Сибирское соглашение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819600" y="5877000"/>
            <a:ext cx="5216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3 января 2009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ктуальные вопросы создания и деятельности автономных учреждений в сфере культуре. Опыт их функционирования в Сибирском регионе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 Концепции Федерального закона о культур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 проведении Сибирского театрального форума и совещания руководителей органов управления культурой Российской Федерации и органов местного самоуправления, руководителей театров и театральных вузов (г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овосибирск, 11-15 февраля 2009 г.)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 ходе работы по подготовке и проведению IV межрегионального фестиваля театров кукол Сибири в г. Братске с 15 по 22 марта 2009 год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93560" y="274320"/>
            <a:ext cx="6707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Повестка дня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924280"/>
            <a:ext cx="8424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Докладчики: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Зауэрвайн Л.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начальник департамента культуры и национальной политики Кемеровской области;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аздникова Е.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первый заместитель министра культуры Красноярского края </a:t>
            </a:r>
            <a:br>
              <a:rPr sz="2600"/>
            </a:b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274680"/>
            <a:ext cx="856944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ffff"/>
                </a:solidFill>
                <a:latin typeface="Arial"/>
              </a:rPr>
              <a:t>Актуальные вопросы создания и деятельности автономных учреждений в сфере культуре.</a:t>
            </a:r>
            <a:br>
              <a:rPr sz="3000"/>
            </a:br>
            <a:r>
              <a:rPr b="1" lang="ru-RU" sz="3000" spc="-1" strike="noStrike">
                <a:solidFill>
                  <a:srgbClr val="ccffff"/>
                </a:solidFill>
                <a:latin typeface="Arial"/>
              </a:rPr>
              <a:t>Опыт их функционирования в Сибирском регионе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234720"/>
            <a:ext cx="87138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ОЛЛЕГИЯ АДМИНИСТРАЦИИ КЕМЕРОВ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СТАНОВЛ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 26 июня 2008 г. N 2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 ПОРЯДКЕ ПОДГОТОВКИ ПРЕДЛОЖЕНИЙ О СОЗДАН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АВТОНОМНЫХ УЧРЕЖДЕНИЙ КЕМЕРОВСКОЙ ОБЛАСТИ ПУТ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ЗМЕНЕНИЯ ТИПА СУЩЕСТВУЮЩИХ ГОСУДАРСТВЕННЫХ УЧРЕЖД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ЕМЕРОВ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(в ред. постановления Коллегии Администр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емеровской области от 28.10.2008 N 45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оответствии со статьей 5 Федерального закона от 03.11.2006 N 174-ФЗ "Об автономных учреждениях" Коллегия Администрации Кемеровской области постановляе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Утвердить прилагаемый Порядок подготовки предложений о создании автономных учреждений Кемеровской области путем изменения типа существующих государственных учреждений Кемеровской обла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Управлению по работе со средствами массовой информации Администрации Кемеровской области (С.И.Черемнов) опубликовать настоящее постановление в областной газете "Кузбасс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Контроль за исполнением постановления возложить на заместителя Губернатора Кемеровской области - начальника главного финансового управления Кемеровской области А.Ю.Микельсона и председателя комитета по управлению государственным имуществом Кемеровской области Н.С.Витковску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убернат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емеров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.М.ТУЛЕЕ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1960"/>
            <a:ext cx="8642160" cy="67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ОЛЛЕГИЯ АДМИНИСТРАЦИИ КЕМЕРОВСКОЙ ОБЛАСТИ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СТАНОВЛ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 26 июня 2008 г. N 2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 МЕРАХ ПО РЕАЛИЗАЦИИ ФЕДЕРАЛЬНОГО ЗАКОНА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"ОБ АВТОНОМНЫХ УЧРЕЖДЕНИЯХ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В целях реализации Федерального закона от 03.11.2006 N 174-ФЗ "Об автономных учреждениях" Коллегия Администрации Кемеровской области постановляет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1. Утвердить прилагаемые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1.1. Положение о порядке и условиях формирования задания учредителя автономным учреждениям Кемеровской области и порядке финансового обеспечения выполнения задания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1.2. Порядок осуществления функций и полномочий учредителя автономных учреждений Кемеровской област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2. Установить, что государственному автономному учреждению Кемеровской области, созданному путем изменения типа существующего бюджетного учреждения, предоставляется в течение 3 лет с даты создания за счет средств областного бюджета субсидия с целью выравнивания финансового обеспечения выполнения задания, сформированного учредителем в отношении этого автономного учреждения Кемеровской област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азмер субсидии определяется как разность между размером бюджетных ассигнований, предоставленных бюджетному учреждению Кемеровской области на текущий год и плановый период, и размером субсидии на возмещение нормативных затрат на оказание автономным учреждением Кемеровской области услуг физическим и (или) юридическим лицам и на содержание соответствующего недвижимого имущества и особо ценного движимого имущества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3. Управлению по работе со средствами массовой информации Администрации Кемеровской области (С.И.Черемнов) опубликовать настоящее постановление в областной газете "Кузбасс"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4. Контроль за исполнением постановления возложить на заместителя Губернатора Кемеровской области - начальника главного финансового управления Кемеровской области А.Ю.Микельсона и председателя комитета по управлению государственным имуществом Кемеровской области Н.С.Витковскую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убернат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емеров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.М.ТУЛЕЕ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6560" y="53280"/>
            <a:ext cx="828216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СУДАРСТВЕННОЕ ЗАД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2009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сударственному автономному учреждению куль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Областной ордена «Знак почёта» драматический театр им.А.В.Луначарског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бщие свед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ред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партамент культуры и национальной политики Кемер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ном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УК «Областной ордена «Знак почёта» драматический театр им. А.В.Луначарског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ериод выполнения зад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01 января 2009 г. по 31 декабря 2009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Цель выполнения за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еспечение конституционного права граждан Российской Федерации на свободу творчества, для участия в культурной жизни и пользование услугами, предоставляемыми театром, равный доступ к сценическому искусст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28800"/>
            <a:ext cx="864216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роек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ординационного совета по культу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региональной ассоциации «Сибирское соглаш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Барнау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3 января 2009 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Рассмотрев  информацию начальника департамента культуры и национальной политики Кемеровской области Зауэрвайн Л.Т. и первого заместителя министра культуры Красноярского края Паздниковой Е.Г. об опыте создания и деятельности автономных учреждений в сфере культуры,  особенностях их функционирования, координационный совет по культуре Межрегиональной ассоциации «Сибирское соглашение» отмечает, что органами культуры данных регионов проведена значительная работа, в результате которой сложились конкретные подходы к решению данного вопроса: преобразование государственных учреждений в тип автономных должно быть индивидуальным для каждого из них, основываться на сильной материально-технической базе учреждения и значительном объеме оказываемым ими платных услуг. Переводу в автономные учреждения подлежат, прежде всего,  концертные организации, театры и киновидеоцентры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Для обеспечения деятельности автономных учреждений разработана соответствующая нормативно-правовая баз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При этом успешную работу по созданию автономных учреждений в сфере культуры сдерживает противоречивость отдельных положений федерального закона, федеральных подзаконных правовых актов, их несоответствие некоторым нормам гражданского законодательства, сложившейся в данных регионах практике взаимодействия органов исполнительной власти с подведомственными государственными учреждениями. Кроме того, в отрасли культуре нет утвержденных нормативов, подтверждающих необходимость услуги в сфере культуры  и, соответственно, ее финансирова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405720"/>
            <a:ext cx="859932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читывая актуальность данного вопроса для дальнейшего развития отрасли культуры в регионе координационный совет по культуре Межрегиональной ассоциации «Сибирское соглашение» решил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тметить положительный опыт Кемеровской области и  Красноярского края  по переводу государственных учреждений культуры в автономные учреждения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Рекомендовать органам управления культуры Сибирского федерального округа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спользовать данный опыт  работы в своем регионе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зучить вопрос о возможном возвращении в случае необходимости автономных учреждений  в статус государственных учреждений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организовать систематический обмен опытом практической работы по данному направлению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1052640"/>
            <a:ext cx="828036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ffff"/>
                </a:solidFill>
                <a:latin typeface="Arial"/>
              </a:rPr>
              <a:t>О Концепции Федерального зако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ffff"/>
                </a:solidFill>
                <a:latin typeface="Arial"/>
              </a:rPr>
              <a:t>о культуре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Докладчик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Безрукова Е.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консультант, юрисконсульт управления Алтайского края по культур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4:50:18Z</dcterms:created>
  <dc:creator>auto</dc:creator>
  <dc:description/>
  <dc:language>en-US</dc:language>
  <cp:lastModifiedBy>auto</cp:lastModifiedBy>
  <dcterms:modified xsi:type="dcterms:W3CDTF">2009-01-22T10:05:53Z</dcterms:modified>
  <cp:revision>45</cp:revision>
  <dc:subject/>
  <dc:title>Заседание  координационного совета по культуре Межрегиональной ассоциации «Сибирское соглашение»</dc:title>
</cp:coreProperties>
</file>