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9DA-155F-4440-95E3-FF96E6D1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2F6F-12FC-4DAB-A577-DE2D3EBA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320-7DE0-4A9A-9718-31A0FBCA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DFC3-E136-43BD-A4CC-83297CFE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5C66-CF89-407B-BD40-06A1FF5E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933-9E5E-4408-8BC2-79A8CAAC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9C1-E067-4EC4-AC14-8AB7B339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EAA-3D0E-4E50-9C21-1DA7D86C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76E-3391-4584-B498-AD9E03C1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6AF-8BED-4BEE-AFDA-271663EE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BD7-2934-4ACD-9BB5-1E7473B7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142-6370-478B-8A6F-C03823EB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F5F2-5D31-46D4-A943-072FC73F2E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Опыт реализации Федерального закона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«Об автономных учреждениях» в Красноярском крае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жрегиональная ассоциация «Сибирское соглашение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 Барнаул, 23 января 2009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2360" y="380880"/>
            <a:ext cx="82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ИНИСТЕРСТВО КУЛЬТУРЫ КРАСНОЯРСКОГО КР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Предложения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При заключении договоров с АУ предусмотреть методику возврата части субсидии при невыполнении государственного (муниципального) зад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При принятии решения об изменении типа бюджетного учреждения необходимо учитывать состояние материально-технической базы, профессиональную подготовленность кадров, и использовать переход для улучшения ресурсной базы бюджетного учреждения и его кадрового потенци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Предложения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Предлож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едеральному и местным законодателя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тавить поло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 увеличении субсидии А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случае повышения зарплаты бюджет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Автономные учреждения созданы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а муниципальном уровне (город Красноярс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января 2008 года - «Дом культуры «Свердловский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января 2009 года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Детская музыкальная школа №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Красноярский городской Дворец культур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Дом ки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а краевом уровн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июля 2008 года - Государственное автономное учреждение Красноярский музыкальный теа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Планируется изменение типа краевых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учреждений культуры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 июля 2009 год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Красноярский государственный театр юного зрите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 января 2010 год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Красноярская краевая филармо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 января 2011 год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Норильский Заполярный театр драмы им. Вл. Маяковс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Сравнительный анализ создания АУ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по подготовленности учреждения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к изменению типа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981080"/>
          <a:ext cx="8229600" cy="3894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сноярский музыкальный теат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м культуры «Свердловский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чн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ческая модернизаци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дание предварительно отремонтировано, материально-техническая база улучше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Сравнительный анализ создания АУ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по категориям потребителей услуг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981080"/>
          <a:ext cx="8229600" cy="4173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сноярский музыкальный теат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м культуры «Свердловский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>
                        <a:spcBef>
                          <a:spcPts val="601"/>
                        </a:spcBef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>
                        <a:spcBef>
                          <a:spcPts val="601"/>
                        </a:spcBef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взрослый зритель на  стационар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>
                        <a:spcBef>
                          <a:spcPts val="601"/>
                        </a:spcBef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детский зритель на стационаре;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>
                        <a:spcBef>
                          <a:spcPts val="601"/>
                        </a:spcBef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зритель на гастролях;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>
                        <a:spcBef>
                          <a:spcPts val="601"/>
                        </a:spcBef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зритель на выездах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и населения, имеющие право получать услуги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бесплатно;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на условиях частичной оплаты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только плат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Сравнительный анализ создания АУ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по методике расчета финансового обеспечения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995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сноярский музыкальный теат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м культуры «Свердловский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сидия определяетс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й суммо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расчете на одного потребител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ключает четыре составляющие: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 на содержание имущества;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 на оплату налогов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 на оказание муниципальных услуг;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 на развитие учрежд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Сравнительный анализ создания АУ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по экономии средств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371600"/>
          <a:ext cx="8229600" cy="522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сноярский музыкальный теат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м культуры «Свердловский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мер средств необходимых для содержания имущества не выделен отдельно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бая экономия, в том числе субсидии остается в учреждении, и поэтому театр заинтересован в сокращении собственных затр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снижении расход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коммунальные платежи уменьшается субсидия из муниципального бюджета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орец культуры не заинтересован в экономии субсидии на коммунальные платеж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Риски изменения типа бюджетного учреждения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2538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иск критического снижения субсид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2538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дровый рис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2538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иски потери средст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2538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на расчетном счете при банкротстве или мошенничестве кредитной организаци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2538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в связи с возникновением форс-мажорных обстоятель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2538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иск финансовых потерь в связи с отсутствием механизма повышения субсидии при увеличении зарплаты бюджетни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2538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иск дискредитации идеи автономности учреж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В минимальные сроки разработать предусмотренный Законом «Об автономных учреждениях» порядок создания бюджетного учреждения путем изменения типа автономного, то есть порядок возврата из автономного учреждения в бюджетн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При заключении договоров на выполнение государственного (муниципального) задания предусматривать возможность отмены ответственности исполнителя при возникновении форс-мажорных обстоятель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1-21T11:44:5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