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7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8.wmf" ContentType="image/x-wmf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3DBF-A414-4DE8-A47E-E7AA7D00A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423-2FCE-4144-BCE6-EF2090E35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51280" y="9375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332B7-B469-489E-A7C8-C2D7F88EA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0F12-0625-405C-95C4-B2BF60DCC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51280" y="9375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87645C-F2FD-4FFD-B014-152F66B17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FC7-7B4E-4151-889D-151C12DD0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87A4-5AF5-43AF-AC72-72088326B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EDF2-8F40-427E-BCB5-6883D9F73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51280" y="9375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812BE6-0EE4-4617-8722-2D8EA2AE1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ECDB-4166-4854-87A5-C28F1CCDB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5A48E8-5BBA-4584-9E5D-065D5A93E2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1221-1B13-4F7B-AE9C-02F923D7F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FDDC7E-9C9D-48DF-B331-B7096FA537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0015-450C-4696-BAE4-C390D98F9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43160" cy="3706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7C7-BDA3-49D1-A5C4-B4A588F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73B-8D74-4530-A285-A07CC35C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CF3-E56F-42BD-96BF-0BBD40E9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856-FCC8-4783-9273-A38310EE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58A-EB66-4010-8B70-83C7708B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D08-1CA6-4F2C-AC9C-694864A5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BF8-64C1-4A2C-9051-26DAA897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D92-68CE-4E2C-93DC-4278BAC9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717-E1E9-4A77-87A2-F57FB24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3E1-0B42-4689-BBF5-92B9F23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D76-048C-4316-AD56-44CB9D4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621-110F-49ED-9775-AD6DE59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BE50-AEE3-4F1E-BDA0-1D811A56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651640" y="201600"/>
            <a:ext cx="3492360" cy="804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00160"/>
            <a:ext cx="5796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355680"/>
            <a:ext cx="23767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 Black"/>
              </a:rPr>
              <a:t>Афанасьев Александр Александ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Министр труда и социального развития 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6" descr="07050002"/>
          <p:cNvPicPr/>
          <p:nvPr/>
        </p:nvPicPr>
        <p:blipFill>
          <a:blip r:embed="rId2"/>
          <a:srcRect l="0" t="0" r="34942" b="0"/>
          <a:stretch/>
        </p:blipFill>
        <p:spPr>
          <a:xfrm>
            <a:off x="25560" y="4869000"/>
            <a:ext cx="1587240" cy="180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7" descr="DSC_0623"/>
          <p:cNvPicPr/>
          <p:nvPr/>
        </p:nvPicPr>
        <p:blipFill>
          <a:blip r:embed="rId3"/>
          <a:srcRect l="0" t="9689" r="0" b="11095"/>
          <a:stretch/>
        </p:blipFill>
        <p:spPr>
          <a:xfrm>
            <a:off x="3656160" y="4869000"/>
            <a:ext cx="1514160" cy="180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8"/>
          <p:cNvSpPr/>
          <p:nvPr/>
        </p:nvSpPr>
        <p:spPr>
          <a:xfrm>
            <a:off x="1440" y="4718160"/>
            <a:ext cx="914400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0" descr="08060001"/>
          <p:cNvPicPr/>
          <p:nvPr/>
        </p:nvPicPr>
        <p:blipFill>
          <a:blip r:embed="rId4"/>
          <a:srcRect l="27389" t="16543" r="20429" b="18403"/>
          <a:stretch/>
        </p:blipFill>
        <p:spPr>
          <a:xfrm>
            <a:off x="1670040" y="4867200"/>
            <a:ext cx="1954080" cy="180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1" descr="DSC_0632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216400" y="4896000"/>
            <a:ext cx="2718000" cy="180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7975440" y="4881600"/>
            <a:ext cx="1141560" cy="1766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5"/>
          <p:cNvSpPr/>
          <p:nvPr/>
        </p:nvSpPr>
        <p:spPr>
          <a:xfrm>
            <a:off x="12600" y="480852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200160"/>
            <a:ext cx="9144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3097080" y="361800"/>
            <a:ext cx="604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9280" y="1271520"/>
            <a:ext cx="871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227664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7"/>
          <p:cNvGrpSpPr/>
          <p:nvPr/>
        </p:nvGrpSpPr>
        <p:grpSpPr>
          <a:xfrm>
            <a:off x="0" y="981000"/>
            <a:ext cx="9141480" cy="5685480"/>
            <a:chOff x="0" y="981000"/>
            <a:chExt cx="9141480" cy="5685480"/>
          </a:xfrm>
        </p:grpSpPr>
        <p:graphicFrame>
          <p:nvGraphicFramePr>
            <p:cNvPr id="83" name="Object 18"/>
            <p:cNvGraphicFramePr/>
            <p:nvPr/>
          </p:nvGraphicFramePr>
          <p:xfrm>
            <a:off x="0" y="981000"/>
            <a:ext cx="4570920" cy="56854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4" name="Object 1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81000"/>
                      <a:ext cx="4570920" cy="56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Object 19"/>
            <p:cNvGraphicFramePr/>
            <p:nvPr/>
          </p:nvGraphicFramePr>
          <p:xfrm>
            <a:off x="4548240" y="1019160"/>
            <a:ext cx="4593240" cy="56336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6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48240" y="1019160"/>
                      <a:ext cx="4593240" cy="563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700360" y="270828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200160"/>
            <a:ext cx="9144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22892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-46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3097080" y="361800"/>
            <a:ext cx="604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79280" y="1271520"/>
            <a:ext cx="871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3132000" y="260280"/>
            <a:ext cx="60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0" y="1012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Динамика уровня регистрируемой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в Омской области в 2009 - 2010 г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9"/>
          <p:cNvGraphicFramePr/>
          <p:nvPr/>
        </p:nvGraphicFramePr>
        <p:xfrm>
          <a:off x="0" y="1557360"/>
          <a:ext cx="9144000" cy="507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89000"/>
            <a:ext cx="9144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Рисунок1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3143160" y="2203560"/>
            <a:ext cx="2562480" cy="3787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179280" y="4365720"/>
            <a:ext cx="2952720" cy="2232000"/>
          </a:xfrm>
          <a:prstGeom prst="wedgeRoundRectCallout">
            <a:avLst>
              <a:gd name="adj1" fmla="val 75222"/>
              <a:gd name="adj2" fmla="val -39148"/>
              <a:gd name="adj3" fmla="val 16667"/>
            </a:avLst>
          </a:prstGeom>
          <a:gradFill rotWithShape="0">
            <a:gsLst>
              <a:gs pos="0">
                <a:srgbClr val="fcf0f2"/>
              </a:gs>
              <a:gs pos="100000">
                <a:srgbClr val="f7dbe0">
                  <a:alpha val="10196"/>
                </a:srgbClr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дение комплексных проверок соблюдения трудового законодательства. Обеспечение жесткого контроля соблюдения сроков выплаты заработной пл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79280" y="1197000"/>
            <a:ext cx="3097440" cy="1295280"/>
          </a:xfrm>
          <a:prstGeom prst="wedgeRoundRectCallout">
            <a:avLst>
              <a:gd name="adj1" fmla="val 65527"/>
              <a:gd name="adj2" fmla="val 85333"/>
              <a:gd name="adj3" fmla="val 16667"/>
            </a:avLst>
          </a:prstGeom>
          <a:gradFill rotWithShape="0">
            <a:gsLst>
              <a:gs pos="0">
                <a:srgbClr val="f7dbe0">
                  <a:alpha val="10196"/>
                </a:srgbClr>
              </a:gs>
              <a:gs pos="100000">
                <a:srgbClr val="fcf0f2"/>
              </a:gs>
            </a:gsLst>
            <a:lin ang="27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рганизация работы в постоянном режиме отраслевых и территориальных рабочих антикризисных груп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179280" y="2781360"/>
            <a:ext cx="2820960" cy="1441440"/>
          </a:xfrm>
          <a:prstGeom prst="wedgeRoundRectCallout">
            <a:avLst>
              <a:gd name="adj1" fmla="val 79236"/>
              <a:gd name="adj2" fmla="val 34583"/>
              <a:gd name="adj3" fmla="val 16667"/>
            </a:avLst>
          </a:prstGeom>
          <a:gradFill rotWithShape="0">
            <a:gsLst>
              <a:gs pos="0">
                <a:srgbClr val="f7dbe0">
                  <a:alpha val="10196"/>
                </a:srgbClr>
              </a:gs>
              <a:gs pos="100000">
                <a:srgbClr val="fcf0f2"/>
              </a:gs>
            </a:gsLst>
            <a:lin ang="27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еализация Планов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 Программ, направленных на стабилизацию ситуации на рынке тру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5796000" y="2349360"/>
            <a:ext cx="3132000" cy="1006560"/>
          </a:xfrm>
          <a:prstGeom prst="wedgeRoundRectCallout">
            <a:avLst>
              <a:gd name="adj1" fmla="val -72638"/>
              <a:gd name="adj2" fmla="val 49032"/>
              <a:gd name="adj3" fmla="val 16667"/>
            </a:avLst>
          </a:prstGeom>
          <a:gradFill rotWithShape="0">
            <a:gsLst>
              <a:gs pos="0">
                <a:srgbClr val="f7dbe0">
                  <a:alpha val="10196"/>
                </a:srgbClr>
              </a:gs>
              <a:gs pos="100000">
                <a:srgbClr val="fcf0f2"/>
              </a:gs>
            </a:gsLst>
            <a:lin ang="27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дение еженедельного мониторинга ситуации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140360" y="4365720"/>
            <a:ext cx="10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м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4427640" y="48196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герб"/>
          <p:cNvPicPr/>
          <p:nvPr/>
        </p:nvPicPr>
        <p:blipFill>
          <a:blip r:embed="rId2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22"/>
          <p:cNvSpPr/>
          <p:nvPr/>
        </p:nvSpPr>
        <p:spPr>
          <a:xfrm>
            <a:off x="5867280" y="3573360"/>
            <a:ext cx="3097440" cy="3024360"/>
          </a:xfrm>
          <a:prstGeom prst="wedgeRoundRectCallout">
            <a:avLst>
              <a:gd name="adj1" fmla="val -83111"/>
              <a:gd name="adj2" fmla="val -33046"/>
              <a:gd name="adj3" fmla="val 16667"/>
            </a:avLst>
          </a:prstGeom>
          <a:gradFill rotWithShape="0">
            <a:gsLst>
              <a:gs pos="0">
                <a:srgbClr val="fcf0f2"/>
              </a:gs>
              <a:gs pos="100000">
                <a:srgbClr val="f7dbe0">
                  <a:alpha val="10196"/>
                </a:srgbClr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нформационно-разъяснительная и консультативная рабо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работниками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 работодателями по вопросам трудоустройства и соблюдения трудового законодательства (СМИ, «прямые» телефонные линии, буклеты, стенды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3097080" y="260280"/>
            <a:ext cx="5722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ры по стаби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туации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3643200" y="1214280"/>
            <a:ext cx="5364360" cy="865440"/>
          </a:xfrm>
          <a:prstGeom prst="wedgeRoundRectCallout">
            <a:avLst>
              <a:gd name="adj1" fmla="val -35893"/>
              <a:gd name="adj2" fmla="val 138361"/>
              <a:gd name="adj3" fmla="val 16667"/>
            </a:avLst>
          </a:prstGeom>
          <a:gradFill rotWithShape="0">
            <a:gsLst>
              <a:gs pos="0">
                <a:srgbClr val="f7dbe0">
                  <a:alpha val="10196"/>
                </a:srgbClr>
              </a:gs>
              <a:gs pos="100000">
                <a:srgbClr val="fcf0f2"/>
              </a:gs>
            </a:gsLst>
            <a:lin ang="27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по увеличению предложений рабочих мест для жителей 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3645000"/>
            <a:ext cx="460836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особое внимание уде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реализации инвестицио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проектов, предусматриваю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создание новых рабочих м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484280"/>
            <a:ext cx="5614920" cy="16574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налажено взаимодействие с работода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и кадровыми агент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по оперативному представлению свед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обо всех имеющихся ваканс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700360" y="270828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200160"/>
            <a:ext cx="9144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2176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3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3097080" y="361800"/>
            <a:ext cx="604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179280" y="1271520"/>
            <a:ext cx="871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1"/>
          <p:cNvGrpSpPr/>
          <p:nvPr/>
        </p:nvGrpSpPr>
        <p:grpSpPr>
          <a:xfrm>
            <a:off x="5651640" y="1557360"/>
            <a:ext cx="1089000" cy="1054080"/>
            <a:chOff x="5651640" y="1557360"/>
            <a:chExt cx="1089000" cy="1054080"/>
          </a:xfrm>
        </p:grpSpPr>
        <p:sp>
          <p:nvSpPr>
            <p:cNvPr id="143" name="Oval 22"/>
            <p:cNvSpPr/>
            <p:nvPr/>
          </p:nvSpPr>
          <p:spPr>
            <a:xfrm>
              <a:off x="5651640" y="1557360"/>
              <a:ext cx="1089000" cy="1054080"/>
            </a:xfrm>
            <a:prstGeom prst="ellipse">
              <a:avLst/>
            </a:prstGeom>
            <a:gradFill rotWithShape="0">
              <a:gsLst>
                <a:gs pos="0">
                  <a:srgbClr val="93b1fd"/>
                </a:gs>
                <a:gs pos="100000">
                  <a:srgbClr val="2c35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5775840" y="1574640"/>
              <a:ext cx="840240" cy="39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b1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4788000" y="3789360"/>
            <a:ext cx="1089000" cy="984240"/>
            <a:chOff x="4788000" y="3789360"/>
            <a:chExt cx="1089000" cy="984240"/>
          </a:xfrm>
        </p:grpSpPr>
        <p:sp>
          <p:nvSpPr>
            <p:cNvPr id="146" name="Oval 25"/>
            <p:cNvSpPr/>
            <p:nvPr/>
          </p:nvSpPr>
          <p:spPr>
            <a:xfrm>
              <a:off x="4788000" y="3789360"/>
              <a:ext cx="1089000" cy="984240"/>
            </a:xfrm>
            <a:prstGeom prst="ellipse">
              <a:avLst/>
            </a:prstGeom>
            <a:gradFill rotWithShape="0">
              <a:gsLst>
                <a:gs pos="0">
                  <a:srgbClr val="93b1fd"/>
                </a:gs>
                <a:gs pos="100000">
                  <a:srgbClr val="2c35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6"/>
            <p:cNvSpPr/>
            <p:nvPr/>
          </p:nvSpPr>
          <p:spPr>
            <a:xfrm>
              <a:off x="4912200" y="3805560"/>
              <a:ext cx="840240" cy="37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b1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7"/>
          <p:cNvGrpSpPr/>
          <p:nvPr/>
        </p:nvGrpSpPr>
        <p:grpSpPr>
          <a:xfrm>
            <a:off x="5651640" y="5373720"/>
            <a:ext cx="1087200" cy="1009440"/>
            <a:chOff x="5651640" y="5373720"/>
            <a:chExt cx="1087200" cy="1009440"/>
          </a:xfrm>
        </p:grpSpPr>
        <p:sp>
          <p:nvSpPr>
            <p:cNvPr id="149" name="Oval 28"/>
            <p:cNvSpPr/>
            <p:nvPr/>
          </p:nvSpPr>
          <p:spPr>
            <a:xfrm>
              <a:off x="5651640" y="5373720"/>
              <a:ext cx="1087200" cy="1009440"/>
            </a:xfrm>
            <a:prstGeom prst="ellipse">
              <a:avLst/>
            </a:prstGeom>
            <a:gradFill rotWithShape="0">
              <a:gsLst>
                <a:gs pos="0">
                  <a:srgbClr val="93b1fd"/>
                </a:gs>
                <a:gs pos="100000">
                  <a:srgbClr val="2c35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"/>
            <p:cNvSpPr/>
            <p:nvPr/>
          </p:nvSpPr>
          <p:spPr>
            <a:xfrm>
              <a:off x="5775840" y="5390280"/>
              <a:ext cx="838800" cy="38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b1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33"/>
          <p:cNvSpPr/>
          <p:nvPr/>
        </p:nvSpPr>
        <p:spPr>
          <a:xfrm flipH="1" rot="16200000">
            <a:off x="6605640" y="1323720"/>
            <a:ext cx="4392360" cy="5291280"/>
          </a:xfrm>
          <a:prstGeom prst="pie">
            <a:avLst/>
          </a:prstGeom>
          <a:gradFill rotWithShape="0">
            <a:gsLst>
              <a:gs pos="0">
                <a:srgbClr val="c9d7ff">
                  <a:alpha val="60392"/>
                </a:srgbClr>
              </a:gs>
              <a:gs pos="100000">
                <a:srgbClr val="8386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 rot="16200000">
            <a:off x="6480000" y="1160280"/>
            <a:ext cx="4680000" cy="5616360"/>
          </a:xfrm>
          <a:prstGeom prst="pie">
            <a:avLst/>
          </a:prstGeom>
          <a:gradFill rotWithShape="0">
            <a:gsLst>
              <a:gs pos="0">
                <a:srgbClr val="dbe0ed"/>
              </a:gs>
              <a:gs pos="100000">
                <a:srgbClr val="b0bad8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6156360" y="3141720"/>
            <a:ext cx="24462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Усилена работа по увеличению предложений рабочих мест для жителей Омской об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3203640" y="189000"/>
            <a:ext cx="56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ры по стаби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туации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0" y="5516640"/>
            <a:ext cx="5516640" cy="863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обеспечен жесткий контроль соблю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сроков выплаты заработной пл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651640" y="201600"/>
            <a:ext cx="3492360" cy="804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0160"/>
            <a:ext cx="5796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3097080" y="361800"/>
            <a:ext cx="604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0" y="1268280"/>
            <a:ext cx="871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179280" y="1125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Меры  по  содействию  занят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отдельных категорий граждан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179280" y="2276640"/>
            <a:ext cx="849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 Совет по делам инвалидов при Губернаторе Омской област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а нормативная база по содействию трудоустройству инвалидов: Закон Омской области "О квотировании рабочих мест в Омской области", постановление Правительства Омской области "О мерах по реализации Закона Омской области "О квотировании рабочих мест в Омской области", иные нормативные акты, определяющие механизм реализации регионального законодатель-ства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уществляется реализация Плана мероприятий Омской области на 2008 – 2010 годы по развитию гибких форм занятости населения, в том числе надомной занятости, лиц, осуществляющих уход за детьми-инвалидами, а также организации обучения этих лиц методам реабили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50920" y="1916280"/>
            <a:ext cx="8208720" cy="7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3203640" y="189000"/>
            <a:ext cx="56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ры по стаби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туации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5651640" y="201600"/>
            <a:ext cx="3492360" cy="804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200160"/>
            <a:ext cx="5796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097080" y="361800"/>
            <a:ext cx="604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79280" y="1271520"/>
            <a:ext cx="871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954160" y="260280"/>
            <a:ext cx="586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на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еятельности на 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250920" y="2421000"/>
            <a:ext cx="86421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нята программа "Семья и демография Омской области (2010 – 2014 годы)», в которой предусмотрены средства областного бюджета на реализацию мероприятий по регулированию рынка труда, в том числе по содействию трудоустройству граждан испытывающих трудности в поиске работы - инвалидов, женщин, имеющих малолетних детей, молодежи, в том числе выпускников, лиц, имеющих детей-инвали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ализуется комплексный межведомственный план мероприятий по трудоустройству выпуск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полугодии 2010 года запланировано проведение второго областного форума "Хочу работать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50920" y="2060640"/>
            <a:ext cx="8208720" cy="7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79280" y="1125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Меры  по  содействию  занят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отдельных категорий граждан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700360" y="270828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651640" y="201600"/>
            <a:ext cx="3492360" cy="804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200160"/>
            <a:ext cx="5796000" cy="804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6678720"/>
            <a:ext cx="914400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560" y="355680"/>
            <a:ext cx="23050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Правительство</a:t>
            </a:r>
            <a:br>
              <a:rPr sz="2200"/>
            </a:br>
            <a:r>
              <a:rPr b="0" lang="ru-RU" sz="2200" spc="-1" strike="noStrike">
                <a:solidFill>
                  <a:srgbClr val="333399"/>
                </a:solidFill>
                <a:latin typeface="Impact"/>
              </a:rPr>
              <a:t>Ом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герб"/>
          <p:cNvPicPr/>
          <p:nvPr/>
        </p:nvPicPr>
        <p:blipFill>
          <a:blip r:embed="rId1"/>
          <a:stretch/>
        </p:blipFill>
        <p:spPr>
          <a:xfrm>
            <a:off x="122400" y="189000"/>
            <a:ext cx="728640" cy="8031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0" y="1116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-6480" y="104760"/>
            <a:ext cx="915048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9360" y="1017720"/>
            <a:ext cx="9144000" cy="6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440" y="6781680"/>
            <a:ext cx="9144000" cy="69840"/>
          </a:xfrm>
          <a:prstGeom prst="rect">
            <a:avLst/>
          </a:prstGeom>
          <a:solidFill>
            <a:srgbClr val="fd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6480" y="6675480"/>
            <a:ext cx="9144000" cy="842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0" y="1012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3097080" y="361800"/>
            <a:ext cx="604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79280" y="1271520"/>
            <a:ext cx="871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468360" y="3549600"/>
            <a:ext cx="79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92"/>
                </a:solidFill>
                <a:latin typeface="Verdana"/>
              </a:rPr>
              <a:t>Благодарю за внимание!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1440" y="4718160"/>
            <a:ext cx="914400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5" descr="07050002"/>
          <p:cNvPicPr/>
          <p:nvPr/>
        </p:nvPicPr>
        <p:blipFill>
          <a:blip r:embed="rId2"/>
          <a:srcRect l="0" t="0" r="34942" b="0"/>
          <a:stretch/>
        </p:blipFill>
        <p:spPr>
          <a:xfrm>
            <a:off x="1574640" y="4854600"/>
            <a:ext cx="1587600" cy="1805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DSC_0623"/>
          <p:cNvPicPr/>
          <p:nvPr/>
        </p:nvPicPr>
        <p:blipFill>
          <a:blip r:embed="rId3"/>
          <a:srcRect l="0" t="9689" r="0" b="11095"/>
          <a:stretch/>
        </p:blipFill>
        <p:spPr>
          <a:xfrm>
            <a:off x="19080" y="4846680"/>
            <a:ext cx="1514520" cy="1803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08060001"/>
          <p:cNvPicPr/>
          <p:nvPr/>
        </p:nvPicPr>
        <p:blipFill>
          <a:blip r:embed="rId4"/>
          <a:srcRect l="27389" t="16543" r="20429" b="18403"/>
          <a:stretch/>
        </p:blipFill>
        <p:spPr>
          <a:xfrm>
            <a:off x="3192480" y="4854600"/>
            <a:ext cx="1954080" cy="180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" descr="DSC_0632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172120" y="4849920"/>
            <a:ext cx="2717640" cy="180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9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7908840" y="4869000"/>
            <a:ext cx="1141560" cy="17668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1"/>
          <p:cNvSpPr/>
          <p:nvPr/>
        </p:nvSpPr>
        <p:spPr>
          <a:xfrm>
            <a:off x="7920" y="2994120"/>
            <a:ext cx="914400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2" descr="PICT0211"/>
          <p:cNvPicPr/>
          <p:nvPr/>
        </p:nvPicPr>
        <p:blipFill>
          <a:blip r:embed="rId7"/>
          <a:srcRect l="7830" t="15363" r="32950" b="6997"/>
          <a:stretch/>
        </p:blipFill>
        <p:spPr>
          <a:xfrm>
            <a:off x="114480" y="1131840"/>
            <a:ext cx="1946160" cy="1798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3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124000" y="1135080"/>
            <a:ext cx="2556000" cy="180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4" descr="Занятие1"/>
          <p:cNvPicPr/>
          <p:nvPr/>
        </p:nvPicPr>
        <p:blipFill>
          <a:blip r:embed="rId9"/>
          <a:srcRect l="0" t="0" r="18610" b="0"/>
          <a:stretch/>
        </p:blipFill>
        <p:spPr>
          <a:xfrm>
            <a:off x="6885000" y="1135080"/>
            <a:ext cx="2198520" cy="1798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5" descr=""/>
          <p:cNvPicPr/>
          <p:nvPr/>
        </p:nvPicPr>
        <p:blipFill>
          <a:blip r:embed="rId10">
            <a:lum bright="6000"/>
          </a:blip>
          <a:srcRect l="2824" t="0" r="11397" b="0"/>
          <a:stretch/>
        </p:blipFill>
        <p:spPr>
          <a:xfrm>
            <a:off x="4726080" y="1135080"/>
            <a:ext cx="2098440" cy="180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3:00:46Z</dcterms:created>
  <dc:creator>User</dc:creator>
  <dc:description/>
  <dc:language>en-US</dc:language>
  <cp:lastModifiedBy>User</cp:lastModifiedBy>
  <dcterms:modified xsi:type="dcterms:W3CDTF">2010-05-12T02:47:26Z</dcterms:modified>
  <cp:revision>432</cp:revision>
  <dc:subject/>
  <dc:title>Слайд 1</dc:title>
</cp:coreProperties>
</file>