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2400" cy="10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37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2080" cy="377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37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60A2-DAE7-4D02-9284-A0EA5F675F5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1135-0C30-4FBF-A140-5A72BB6D779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0880" y="189000"/>
            <a:ext cx="5032080" cy="37749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86920" y="4021200"/>
            <a:ext cx="6296040" cy="4527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2080" cy="37749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DC78-304D-4DBB-8C1A-BD9D60FD86E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2080" cy="37749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0007-832D-4E61-8120-BC4E3F23F1D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2080" cy="37749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2494-420D-41B5-9717-C10A7B8E6F2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2080" cy="37749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3DB1-4532-44CF-91C8-D592E1F45B6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2080" cy="37749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9AD9-3911-48D7-AFD5-7E2FA1CE873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2080" cy="37749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A24C-13C6-4CF2-9013-ECD33753514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2080" cy="37749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3014-107C-4CDC-B540-A16F0B7A2C6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2080" cy="37749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26FF-0B62-4501-8D1E-53857211E5C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2080" cy="37749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6A47-70B4-464A-BFBF-7FBCD564909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2080" cy="37749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0AE3-371B-4CC7-8867-35A9C96C61E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2080" cy="37749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1C8F-0348-46C0-B88F-56D098F7BD6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4ED-58B0-4FBD-90BF-B24B3772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99F-12EE-436D-A708-FFB6116A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77B-5BC7-48D1-A220-D23DF97F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49A-E2CB-42B5-A86D-0FB8A0FD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57DA-2020-46CD-A51B-4DBDECE6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9D66-80E1-4E7F-B9DA-2F0E0D43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7E20-F483-426C-BB9C-803B7247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E93-7B4D-40F1-821C-1BA67AB3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AE5-20C4-48FB-B6DE-D76E46C3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466-5526-4B2F-886F-86702795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024-C77D-42D5-A2B0-D3542D26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7A8-90FF-40F4-84F4-7A3F4C01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ce2"/>
            </a:gs>
            <a:gs pos="100000">
              <a:srgbClr val="faf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EBB3-D120-46CB-8303-B14E4CFE8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ce2"/>
            </a:gs>
            <a:gs pos="100000">
              <a:srgbClr val="faf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0" y="792000"/>
            <a:ext cx="9144000" cy="591840"/>
            <a:chOff x="0" y="792000"/>
            <a:chExt cx="9144000" cy="591840"/>
          </a:xfrm>
        </p:grpSpPr>
        <p:sp>
          <p:nvSpPr>
            <p:cNvPr id="49" name="Rectangle 5"/>
            <p:cNvSpPr/>
            <p:nvPr/>
          </p:nvSpPr>
          <p:spPr>
            <a:xfrm>
              <a:off x="0" y="792000"/>
              <a:ext cx="9144000" cy="42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a50021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0" y="1090440"/>
              <a:ext cx="9144000" cy="2934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a50021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0" y="899640"/>
              <a:ext cx="9144000" cy="1288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a50021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9"/>
          <p:cNvSpPr/>
          <p:nvPr/>
        </p:nvSpPr>
        <p:spPr>
          <a:xfrm>
            <a:off x="0" y="6237360"/>
            <a:ext cx="9144000" cy="428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a50021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714680" y="4857840"/>
            <a:ext cx="61228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8388360" y="6165720"/>
            <a:ext cx="360360" cy="43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395280" y="0"/>
            <a:ext cx="8264520" cy="620640"/>
          </a:xfrm>
          <a:prstGeom prst="roundRect">
            <a:avLst>
              <a:gd name="adj" fmla="val 824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500280" y="4143240"/>
            <a:ext cx="5364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ервый заместитель директора департамент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труда и занятости населения Тюменской обла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Людмила Петровна Шулинин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1000080" y="26028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партамент труда и занятости населения Тюм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72920" y="2086920"/>
            <a:ext cx="7598160" cy="1611720"/>
          </a:xfrm>
          <a:prstGeom prst="rect">
            <a:avLst/>
          </a:prstGeom>
          <a:solidFill>
            <a:srgbClr val="ffe4c9"/>
          </a:solidFill>
          <a:ln w="28440">
            <a:solidFill>
              <a:srgbClr val="800000"/>
            </a:solidFill>
            <a:round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О содействии занятости инвалидов в рамках реализации региональных программ, предусматривающих дополнительные мероприятия, направленные на снижение напряженности на рынке труда, в 2010 году. Основные проблемы и пути их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500040" y="5500800"/>
            <a:ext cx="8286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ординационный совет по труду и занятости населения межрегиональной ассоциации «Сибирское соглашен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4070520" y="63579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 г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C:\Documents and Settings\Yuriy\Мои документы\Мои рисунки\Рисунки\герб ТО.gif"/>
          <p:cNvPicPr/>
          <p:nvPr/>
        </p:nvPicPr>
        <p:blipFill>
          <a:blip r:embed="rId1"/>
          <a:stretch/>
        </p:blipFill>
        <p:spPr>
          <a:xfrm>
            <a:off x="4071960" y="642960"/>
            <a:ext cx="10717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ce2"/>
            </a:gs>
            <a:gs pos="100000">
              <a:srgbClr val="faf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1000080" y="14292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частие инвалидов в мероприятиях региональной програм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 2010 году (че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Диаграмма 5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572680" cy="53179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1428840" y="1428840"/>
            <a:ext cx="33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сего участников – 274 чел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ce2"/>
            </a:gs>
            <a:gs pos="100000">
              <a:srgbClr val="faf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1000080" y="142920"/>
            <a:ext cx="73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Эффективность реализации мероприятий содейст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рудоустройству инвал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214200" y="1428840"/>
            <a:ext cx="4143600" cy="714240"/>
          </a:xfrm>
          <a:prstGeom prst="roundRect">
            <a:avLst>
              <a:gd name="adj" fmla="val 16667"/>
            </a:avLst>
          </a:prstGeom>
          <a:solidFill>
            <a:srgbClr val="ead0ce"/>
          </a:solidFill>
          <a:ln w="28440">
            <a:solidFill>
              <a:srgbClr val="f2f2f2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85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Calibri"/>
              </a:rPr>
              <a:t>Повышение уровня трудоустройства инвали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285840" y="4357800"/>
            <a:ext cx="4143240" cy="1000080"/>
          </a:xfrm>
          <a:prstGeom prst="roundRect">
            <a:avLst>
              <a:gd name="adj" fmla="val 16667"/>
            </a:avLst>
          </a:prstGeom>
          <a:solidFill>
            <a:srgbClr val="ead0ce"/>
          </a:solidFill>
          <a:ln w="28440">
            <a:solidFill>
              <a:srgbClr val="f2f2f2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85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Calibri"/>
              </a:rPr>
              <a:t>Снижение численности безработных инвалидов, зарегистрированных в службе занят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214200" y="2786040"/>
            <a:ext cx="4286520" cy="1143000"/>
          </a:xfrm>
          <a:prstGeom prst="roundRect">
            <a:avLst>
              <a:gd name="adj" fmla="val 16667"/>
            </a:avLst>
          </a:prstGeom>
          <a:solidFill>
            <a:srgbClr val="ead0ce"/>
          </a:solidFill>
          <a:ln w="28440">
            <a:solidFill>
              <a:srgbClr val="f2f2f2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85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alibri"/>
              </a:rPr>
              <a:t>Увеличение удельного веса инвалидов охваченных различными формами занятости (трудоустройство, профобуче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Calibri"/>
              </a:rPr>
              <a:t>самозанятост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1" descr="wide blue arrow with fade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714920" y="1285920"/>
            <a:ext cx="460440" cy="395748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2"/>
          <p:cNvSpPr/>
          <p:nvPr/>
        </p:nvSpPr>
        <p:spPr>
          <a:xfrm>
            <a:off x="5214960" y="1357200"/>
            <a:ext cx="3714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caad"/>
              </a:gs>
            </a:gsLst>
            <a:lin ang="5400000"/>
          </a:gradFill>
          <a:ln w="0">
            <a:noFill/>
          </a:ln>
          <a:effectLst>
            <a:outerShdw dist="53966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РУДОУСТРОЕН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в 1 кв. 2009г. – 82 чел.(11% - от обратившихс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в 1 кв. 2010г. – 158г. (28,2% - от обратившихс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8215200" y="4500720"/>
            <a:ext cx="7146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caad"/>
              </a:gs>
            </a:gsLst>
            <a:lin ang="5400000"/>
          </a:gradFill>
          <a:ln w="0">
            <a:noFill/>
          </a:ln>
          <a:effectLst>
            <a:outerShdw dist="53966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2"/>
          <p:cNvSpPr/>
          <p:nvPr/>
        </p:nvSpPr>
        <p:spPr>
          <a:xfrm>
            <a:off x="5143680" y="4214880"/>
            <a:ext cx="2643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caad"/>
              </a:gs>
            </a:gsLst>
            <a:lin ang="5400000"/>
          </a:gradFill>
          <a:ln w="0">
            <a:noFill/>
          </a:ln>
          <a:effectLst>
            <a:outerShdw dist="53966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ЗАРЕГИСТРИРОВАН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на 01.04.2009г. – 1318 че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на 01.04.2010г. – 823 че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авая фигурная скобка 10"/>
          <p:cNvSpPr/>
          <p:nvPr/>
        </p:nvSpPr>
        <p:spPr>
          <a:xfrm>
            <a:off x="7929720" y="428616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5286240" y="2928960"/>
            <a:ext cx="357192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caad"/>
              </a:gs>
            </a:gsLst>
            <a:lin ang="5400000"/>
          </a:gradFill>
          <a:ln w="0">
            <a:noFill/>
          </a:ln>
          <a:effectLst>
            <a:outerShdw dist="53966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 кв. 2009г. – 17,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 кв. 2010г. – 40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ce2"/>
            </a:gs>
            <a:gs pos="100000">
              <a:srgbClr val="faf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дложения в проект решения Координационного совета  по труду и занятости населения  Межрегиональной ассоциации  «Сибирское  соглашение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7280" y="7173720"/>
            <a:ext cx="7786800" cy="96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2"/>
          <p:cNvSpPr/>
          <p:nvPr/>
        </p:nvSpPr>
        <p:spPr>
          <a:xfrm>
            <a:off x="214200" y="1357200"/>
            <a:ext cx="8713800" cy="335772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В Минздравсоцразвития России обратиться с предложения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Разработать   методические  рекомендации  по  созданию  рабочих мест (в том числе специальных)   для трудоустройства  инвалидов,  в соответствии  с видами  их  заболеваний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ести  в раздел  «мероприятия  по профессиональной реабилитации»  формы ИПР инвалида  в части определения  доступных условий и видов труда  с  указанием   возможных  профессий, специальностей, по которым  возможно создание  или подбор рабочих  мест для  трудоустройства инвали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В абзац 3 пункта 3 статьи 25 Закона РФ «О занятости населения в Российской Федерации», предусмотрев  обязанность работодателей представлять в  органы службы занятости  информацию об отсутствии   вакантных рабочих мест (должносте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Ускорить принятие административных  регламентов исполнения государственных  функций  по контролю за обеспечением государственных гарантий в области занятости населения,  приемом на работу инвалидов в пределах установленной квоты,  регистрацией инвалидов в качестве безраб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  Предусмотреть возможность участия в  программе общественных организаций инвали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95280" y="76500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Рекомендовать координационному совету по труду и занятости Межрегиональной ассоциации «Сибирское соглашение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2"/>
          <p:cNvSpPr/>
          <p:nvPr/>
        </p:nvSpPr>
        <p:spPr>
          <a:xfrm>
            <a:off x="179280" y="5445000"/>
            <a:ext cx="8713800" cy="122400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Обобщить опыт работы органов исполнительной власти субъектов РФ, осуществляющих переданные полномочия в области содействия занятости населения, входящих в состав   Межрегиональной ассоциации «Сибирское соглашение», в части содействия занятости инвалидов в рамках  реализации региональных программ, направленных на снижение напряженности на рынке труда в 2010 г., и направить данную информацию участникам координационного совета.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1271880" y="4724280"/>
            <a:ext cx="6582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Рекомендовать исполнительному комитету Межрегиона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ассоциации «Сибирское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соглашение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ce2"/>
            </a:gs>
            <a:gs pos="100000">
              <a:srgbClr val="faf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000080" y="14292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Численность инвалидов , проживающих на терри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юга Тюм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2"/>
          <p:cNvSpPr/>
          <p:nvPr/>
        </p:nvSpPr>
        <p:spPr>
          <a:xfrm>
            <a:off x="214200" y="1000080"/>
            <a:ext cx="450072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ddd"/>
              </a:gs>
              <a:gs pos="100000">
                <a:srgbClr val="f1caad"/>
              </a:gs>
            </a:gsLst>
            <a:lin ang="5400000"/>
          </a:gradFill>
          <a:ln w="0">
            <a:noFill/>
          </a:ln>
          <a:effectLst>
            <a:outerShdw dist="53966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ЧИСЛЕННОСТЬ ЭКОНОМИЧЕСКИ АКТИВ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НАСЕЛЕНИЯ –  654,0 тыс.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5286240" y="1000080"/>
            <a:ext cx="35006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ddd"/>
              </a:gs>
              <a:gs pos="100000">
                <a:srgbClr val="f1caad"/>
              </a:gs>
            </a:gsLst>
            <a:lin ang="5400000"/>
          </a:gradFill>
          <a:ln w="0">
            <a:noFill/>
          </a:ln>
          <a:effectLst>
            <a:outerShdw dist="53966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Доля инвалидов трудоспособ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возраста от числа экономиче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активного населения (5,8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714240" y="1928880"/>
            <a:ext cx="7643880" cy="642960"/>
          </a:xfrm>
          <a:prstGeom prst="roundRect">
            <a:avLst>
              <a:gd name="adj" fmla="val 16667"/>
            </a:avLst>
          </a:prstGeom>
          <a:solidFill>
            <a:srgbClr val="ead0ce"/>
          </a:solidFill>
          <a:ln w="28440">
            <a:solidFill>
              <a:srgbClr val="f2f2f2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85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Calibri"/>
              </a:rPr>
              <a:t>Численность инвалидов, проживающих на территории ю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Calibri"/>
              </a:rPr>
              <a:t>Тюменской области – 106,4 тыс. чел. (16,3% от численности экономически активного  насел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 rot="10800000">
            <a:off x="4071600" y="2714760"/>
            <a:ext cx="1081080" cy="357120"/>
          </a:xfrm>
          <a:prstGeom prst="upArrow">
            <a:avLst>
              <a:gd name="adj1" fmla="val 67935"/>
              <a:gd name="adj2" fmla="val 21731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из ни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7"/>
          <p:cNvSpPr/>
          <p:nvPr/>
        </p:nvSpPr>
        <p:spPr>
          <a:xfrm>
            <a:off x="2143080" y="3357720"/>
            <a:ext cx="47862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caad"/>
              </a:gs>
            </a:gsLst>
            <a:lin ang="5400000"/>
          </a:gradFill>
          <a:ln w="0">
            <a:noFill/>
          </a:ln>
          <a:effectLst>
            <a:outerShdw dist="53966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,3 тыс. чел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6%) – трудоспособный возра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"/>
          <p:cNvSpPr/>
          <p:nvPr/>
        </p:nvSpPr>
        <p:spPr>
          <a:xfrm rot="10800000">
            <a:off x="4429080" y="3928680"/>
            <a:ext cx="357120" cy="214200"/>
          </a:xfrm>
          <a:prstGeom prst="upArrow">
            <a:avLst>
              <a:gd name="adj1" fmla="val 67935"/>
              <a:gd name="adj2" fmla="val 21731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2214720" y="4286160"/>
            <a:ext cx="471456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caad"/>
              </a:gs>
            </a:gsLst>
            <a:lin ang="5400000"/>
          </a:gradFill>
          <a:ln w="0">
            <a:noFill/>
          </a:ln>
          <a:effectLst>
            <a:outerShdw dist="53966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,3 тыс. чел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47,7%)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меют рекомендации по трудоустройст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"/>
          <p:cNvSpPr/>
          <p:nvPr/>
        </p:nvSpPr>
        <p:spPr>
          <a:xfrm rot="10800000">
            <a:off x="2643120" y="5000400"/>
            <a:ext cx="357120" cy="214200"/>
          </a:xfrm>
          <a:prstGeom prst="upArrow">
            <a:avLst>
              <a:gd name="adj1" fmla="val 67935"/>
              <a:gd name="adj2" fmla="val 21731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8"/>
          <p:cNvSpPr/>
          <p:nvPr/>
        </p:nvSpPr>
        <p:spPr>
          <a:xfrm rot="10800000">
            <a:off x="6000840" y="5000400"/>
            <a:ext cx="357120" cy="214200"/>
          </a:xfrm>
          <a:prstGeom prst="upArrow">
            <a:avLst>
              <a:gd name="adj1" fmla="val 67935"/>
              <a:gd name="adj2" fmla="val 21731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7"/>
          <p:cNvSpPr/>
          <p:nvPr/>
        </p:nvSpPr>
        <p:spPr>
          <a:xfrm>
            <a:off x="1857240" y="5357880"/>
            <a:ext cx="18576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caad"/>
              </a:gs>
            </a:gsLst>
            <a:lin ang="5400000"/>
          </a:gradFill>
          <a:ln w="0">
            <a:noFill/>
          </a:ln>
          <a:effectLst>
            <a:outerShdw dist="53966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0 тыс. че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8,2%) – трудя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производ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7"/>
          <p:cNvSpPr/>
          <p:nvPr/>
        </p:nvSpPr>
        <p:spPr>
          <a:xfrm>
            <a:off x="5072040" y="5357880"/>
            <a:ext cx="22860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caad"/>
              </a:gs>
            </a:gsLst>
            <a:lin ang="5400000"/>
          </a:gradFill>
          <a:ln w="0">
            <a:noFill/>
          </a:ln>
          <a:effectLst>
            <a:outerShdw dist="53966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,3 тыс. че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61,7%) – неработающие инвали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8"/>
          <p:cNvSpPr/>
          <p:nvPr/>
        </p:nvSpPr>
        <p:spPr>
          <a:xfrm rot="5400000">
            <a:off x="4857840" y="1143000"/>
            <a:ext cx="357120" cy="214560"/>
          </a:xfrm>
          <a:prstGeom prst="upArrow">
            <a:avLst>
              <a:gd name="adj1" fmla="val 67935"/>
              <a:gd name="adj2" fmla="val 21731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ce2"/>
            </a:gs>
            <a:gs pos="100000">
              <a:srgbClr val="faf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000080" y="21420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бращение инвалидов в органы занятости населения за содейств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 поиске подходяще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Диаграмма 4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4572000" cy="24289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2"/>
          <p:cNvSpPr/>
          <p:nvPr/>
        </p:nvSpPr>
        <p:spPr>
          <a:xfrm>
            <a:off x="785880" y="1071720"/>
            <a:ext cx="335736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caad"/>
              </a:gs>
            </a:gsLst>
            <a:lin ang="5400000"/>
          </a:gradFill>
          <a:ln w="0">
            <a:noFill/>
          </a:ln>
          <a:effectLst>
            <a:outerShdw dist="53966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инамика трудоустройства от числа обративш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/>
          <p:cNvSpPr/>
          <p:nvPr/>
        </p:nvSpPr>
        <p:spPr>
          <a:xfrm>
            <a:off x="5214960" y="1071720"/>
            <a:ext cx="335772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caad"/>
              </a:gs>
            </a:gsLst>
            <a:lin ang="5400000"/>
          </a:gradFill>
          <a:ln w="0">
            <a:noFill/>
          </a:ln>
          <a:effectLst>
            <a:outerShdw dist="53966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стоит на учете – 852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Диаграмма 2" descr=""/>
          <p:cNvPicPr/>
          <p:nvPr/>
        </p:nvPicPr>
        <p:blipFill>
          <a:blip r:embed="rId2"/>
          <a:stretch/>
        </p:blipFill>
        <p:spPr>
          <a:xfrm>
            <a:off x="4786200" y="1571760"/>
            <a:ext cx="4143600" cy="285732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8"/>
          <p:cNvSpPr/>
          <p:nvPr/>
        </p:nvSpPr>
        <p:spPr>
          <a:xfrm rot="10800000">
            <a:off x="8001000" y="2786040"/>
            <a:ext cx="928800" cy="1000080"/>
          </a:xfrm>
          <a:prstGeom prst="upArrow">
            <a:avLst>
              <a:gd name="adj1" fmla="val 67935"/>
              <a:gd name="adj2" fmla="val 21729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37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7"/>
          <p:cNvSpPr/>
          <p:nvPr/>
        </p:nvSpPr>
        <p:spPr>
          <a:xfrm>
            <a:off x="6858000" y="3857760"/>
            <a:ext cx="2071800" cy="642960"/>
          </a:xfrm>
          <a:prstGeom prst="roundRect">
            <a:avLst>
              <a:gd name="adj" fmla="val 16667"/>
            </a:avLst>
          </a:prstGeom>
          <a:solidFill>
            <a:srgbClr val="e8d1ba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Рекомендован труд в специально созда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785880" y="4714920"/>
            <a:ext cx="771516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caad"/>
              </a:gs>
            </a:gsLst>
            <a:lin ang="5400000"/>
          </a:gradFill>
          <a:ln w="0">
            <a:noFill/>
          </a:ln>
          <a:effectLst>
            <a:outerShdw dist="53966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ля обратившихся инвалидов в общей численности всех обратившихся гражд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14240" y="5357880"/>
          <a:ext cx="7858440" cy="1218960"/>
        </p:xfrm>
        <a:graphic>
          <a:graphicData uri="http://schemas.openxmlformats.org/drawingml/2006/table">
            <a:tbl>
              <a:tblPr/>
              <a:tblGrid>
                <a:gridCol w="1965600"/>
                <a:gridCol w="1963440"/>
                <a:gridCol w="1965600"/>
                <a:gridCol w="1963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007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22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010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86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 797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66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в. 2010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554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ce2"/>
            </a:gs>
            <a:gs pos="100000">
              <a:srgbClr val="faf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1000080" y="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рганизация работы службы занятости населения по содействию трудоустройству инвалидов в рамках дополнительных мероприяти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8"/>
          <p:cNvSpPr/>
          <p:nvPr/>
        </p:nvSpPr>
        <p:spPr>
          <a:xfrm>
            <a:off x="1547640" y="5950080"/>
            <a:ext cx="857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79280" y="1125360"/>
            <a:ext cx="4392720" cy="5615280"/>
          </a:xfrm>
          <a:custGeom>
            <a:avLst/>
            <a:gdLst>
              <a:gd name="textAreaLeft" fmla="*/ 214200 w 4392720"/>
              <a:gd name="textAreaRight" fmla="*/ 4178520 w 4392720"/>
              <a:gd name="textAreaTop" fmla="*/ 214200 h 5615280"/>
              <a:gd name="textAreaBottom" fmla="*/ 5401080 h 5615280"/>
            </a:gdLst>
            <a:ahLst/>
            <a:rect l="textAreaLeft" t="textAreaTop" r="textAreaRight" b="textAreaBottom"/>
            <a:pathLst>
              <a:path w="21600" h="27611">
                <a:moveTo>
                  <a:pt x="3600" y="0"/>
                </a:moveTo>
                <a:arcTo wR="3600" hR="3600" stAng="16200000" swAng="-5400000"/>
                <a:lnTo>
                  <a:pt x="0" y="24011"/>
                </a:lnTo>
                <a:arcTo wR="3600" hR="3600" stAng="10800000" swAng="-5400000"/>
                <a:lnTo>
                  <a:pt x="18000" y="27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бластной бюджет: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48,4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00"/>
                </a:solidFill>
                <a:latin typeface="Arial"/>
              </a:rPr>
              <a:t>1).  Затраты на приобретение, монтаж и установку оборудования для оснащения рабочего места инвалида, в том числе в специально созданных условиях (не более 30 тыс. рублей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00"/>
                </a:solidFill>
                <a:latin typeface="Arial"/>
              </a:rPr>
              <a:t>2). Затраты на оплату труда (с учетом районного коэффициента и страховых взносов в государственные внебюджетные фонды) инвалидов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00"/>
                </a:solidFill>
                <a:latin typeface="Arial"/>
              </a:rPr>
              <a:t>3). Затраты на выплату компенсации за неиспользованный отпуск при увольнении инвалида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00"/>
                </a:solidFill>
                <a:latin typeface="Arial"/>
              </a:rPr>
              <a:t>4). Затраты на выплаты за кураторств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</a:rPr>
              <a:t>Перечисление</a:t>
            </a:r>
            <a:r>
              <a:rPr b="1" lang="ru-RU" sz="1100" spc="-1" strike="noStrike">
                <a:solidFill>
                  <a:srgbClr val="990000"/>
                </a:solidFill>
                <a:latin typeface="Arial"/>
              </a:rPr>
              <a:t> по договору в порядке авансирования 50% от суммы субсидии от затрат на оборудование, в дальнейшем по факту трудоустройства инвалидов; 50% от суммы субсидии на оплату труда, неиспользованный отпуск, выплат за кураторство, в дальнейшем ежемесячно по результатам фактического использования средст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</a:rPr>
              <a:t>Условия:</a:t>
            </a:r>
            <a:r>
              <a:rPr b="1" lang="ru-RU" sz="11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00"/>
                </a:solidFill>
                <a:latin typeface="Arial"/>
              </a:rPr>
              <a:t>- трудоустройство инвалида на постоянной или временной основе основе с заключением срочного трудового договора или договора на неопределенный срок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00"/>
                </a:solidFill>
                <a:latin typeface="Arial"/>
              </a:rPr>
              <a:t>- при досрочном увольнении инвалида работодатель обязан известить ЦЗН и принять другого инвалида по направлению ЦЗН, либо осуществить возврат неиспользованной части субсид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786200" y="1143000"/>
            <a:ext cx="4178520" cy="372600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федеральный бюджет: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24,0млн.руб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1).  Затраты на приобретение, монтаж и установку специального оборудования для оснащения (дооснащения)специального рабочего места инвалида (не более 30 тыс.руб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</a:rPr>
              <a:t>Перечисление</a:t>
            </a: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 по договору в порядке вансиро-вания 50% от суммы субсидии от затрат на оборудование, в дальнейшем по факту трудо-устройства инвали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</a:rPr>
              <a:t>Услов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- трудоустройство инвалида на постоянной основе с заключением договора на неопределенный ср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- при досрочном увольнении инвалида работодатель обязан известить ЦЗН и принять другого инвалида по направлению ЦЗ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755640" y="765000"/>
            <a:ext cx="7848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40000"/>
                </a:solidFill>
                <a:latin typeface="Arial"/>
              </a:rPr>
              <a:t>Порядок и условия финанс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4788000" y="5013360"/>
            <a:ext cx="4176720" cy="172728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Организация (работодатель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1).  Возмещает за счет собственных средств затраты на организацию рабочих мест </a:t>
            </a: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(спецодежда, средства индивидуальной защиты, затраты на доставку сырья и материалов для изготовления готовой продукции на рабочее место инвалида, созданное на дому, контроль за проведением работ и приемки их результатов, обеспечение требований охраны труда и т.п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ce2"/>
            </a:gs>
            <a:gs pos="100000">
              <a:srgbClr val="faf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дложения Правительства Тюменской области в аппара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номочного Представителя Президента РФ в Уральском Федеральном округе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О внесении изменений в Постановление Правительства Российской Федерации от 14.12.2009г.  №1011 по реализации мероприятий по оказанию содействия в трудоустройстве инвалидов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7280" y="7173720"/>
            <a:ext cx="7786800" cy="96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2"/>
          <p:cNvSpPr/>
          <p:nvPr/>
        </p:nvSpPr>
        <p:spPr>
          <a:xfrm>
            <a:off x="324000" y="2060640"/>
            <a:ext cx="8496000" cy="439272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пункте 13 Правил предоставления в 2010 и 2011 годах субсидий из федерального бюджета бюджетам субъектов Российской Федерации на реализацию дополнительных мероприятий, направленных на снижение напряженности на рынке труда субъектов Российской Федерации в формуле расчета размера субсидии, предоставляемой бюджету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го субъекта Российской Федерации на реализацию дополнительного мероприятия по содействию трудоустройству инвалид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усмотреть показатели размера затрат, возмещаемых работодател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приобретение, монтаж и установку оборудования для оснащения рабочего места (в том числе специального) для трудоустройства инвалида, составляющий не более 30 тыс. рублей за 1 рабочее мест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оплату труда участников мероприятия по содействию трудоустройству инвалидов, составляющий в месяц не более установленного законодательством Российской Федерации минимального размера оплаты труда(с учетом районного коэффициента и страховых взносов в государственные внебюджетные фонды), на срок не более шести месяц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ce2"/>
            </a:gs>
            <a:gs pos="100000">
              <a:srgbClr val="faf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8"/>
          <p:cNvSpPr/>
          <p:nvPr/>
        </p:nvSpPr>
        <p:spPr>
          <a:xfrm>
            <a:off x="1547640" y="5950080"/>
            <a:ext cx="857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3"/>
          <p:cNvSpPr/>
          <p:nvPr/>
        </p:nvSpPr>
        <p:spPr>
          <a:xfrm>
            <a:off x="395280" y="115920"/>
            <a:ext cx="828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рганизационные меро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468360" y="620640"/>
            <a:ext cx="8351640" cy="144144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Центр занятости насе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Взаимодействует с организациями, в которых могут быть созданы рабочие места для инвалидов, формирует перечень таких организаций с указанием количества рабочих мест и профессий (специальностей), по которым могут быть созданы рабочие места для инвали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Информирует и консультирует инвалидов, состоящих на учете в ЦЗН, о возможности и порядке трудоустройства к работодателям, предполагающим создание рабочих мест для инвали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Осуществляет подбор инвалидов под конкретные рабочие места, предоставляемые или создаваемые работода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2843280" y="5661000"/>
            <a:ext cx="6049800" cy="1081080"/>
          </a:xfrm>
          <a:prstGeom prst="roundRect">
            <a:avLst>
              <a:gd name="adj" fmla="val 16667"/>
            </a:avLst>
          </a:prstGeom>
          <a:solidFill>
            <a:srgbClr val="ead0ce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Рабочая группа по содействию трудоустройству инвалид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Calibri"/>
              </a:rPr>
              <a:t>при территориальной межведомственной коми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(представители ГАУ  ТО ЦЗН, органа местного самоуправления, территориального бюро МСЭ, территориального управления социальной защиты населен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395280" y="3645000"/>
            <a:ext cx="2160720" cy="230508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05080"/>
              <a:gd name="textAreaBottom" fmla="*/ 2199600 h 2305080"/>
            </a:gdLst>
            <a:ahLst/>
            <a:rect l="textAreaLeft" t="textAreaTop" r="textAreaRight" b="textAreaBottom"/>
            <a:pathLst>
              <a:path w="21600" h="23043">
                <a:moveTo>
                  <a:pt x="3600" y="0"/>
                </a:moveTo>
                <a:arcTo wR="3600" hR="3600" stAng="16200000" swAng="-5400000"/>
                <a:lnTo>
                  <a:pt x="0" y="19443"/>
                </a:lnTo>
                <a:arcTo wR="3600" hR="3600" stAng="10800000" swAng="-5400000"/>
                <a:lnTo>
                  <a:pt x="18000" y="23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Организац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предоставляющая рабочее место для трудоустройства инвалида с возмещением затрат на оплату труда и выплатой компенсации за неиспользованный отпуск инвалида, а также выплаты за кураторство за счет средств областного бюдже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-181080" y="2133720"/>
            <a:ext cx="14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40000"/>
                </a:solidFill>
                <a:latin typeface="Arial"/>
              </a:rPr>
              <a:t>Заявляет возможность трудоустройств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40000"/>
                </a:solidFill>
                <a:latin typeface="Arial"/>
              </a:rPr>
              <a:t>инвалида  без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4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740000"/>
                </a:solidFill>
                <a:latin typeface="Arial"/>
              </a:rPr>
              <a:t>затрат на обору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6"/>
          <p:cNvSpPr/>
          <p:nvPr/>
        </p:nvSpPr>
        <p:spPr>
          <a:xfrm>
            <a:off x="2843280" y="3500280"/>
            <a:ext cx="2881080" cy="158436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7"/>
          <p:cNvSpPr/>
          <p:nvPr/>
        </p:nvSpPr>
        <p:spPr>
          <a:xfrm>
            <a:off x="5867280" y="3500280"/>
            <a:ext cx="3097440" cy="158436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Организац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предполагающая создание специального рабочего места с возмещением затрат на приобретение, монтаж и установку специального оборудования за счет средств федерального бюджета, с компенсацией затрат на оплату труда инвалидов и выплатой компенсации за неиспользованный отпуск, выплат за кураторство за счет средств областного бюдже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2700360" y="3429000"/>
            <a:ext cx="32400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Организация,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предполагающая создание рабочего мест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в том числе в специально созданных условиях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за счет средств областного бюджет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 возмещением затрат на приобретение , монтаж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и установку оборудования, затрат на оплату тру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и выплатой компенсации  за неиспользованный отпуск,  выплат за куратор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2987640" y="2133720"/>
            <a:ext cx="10796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40000"/>
                </a:solidFill>
                <a:latin typeface="Arial"/>
              </a:rPr>
              <a:t>Заявляет потребность в создани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40000"/>
                </a:solidFill>
                <a:latin typeface="Arial"/>
              </a:rPr>
              <a:t>рабочего места для инвалида</a:t>
            </a: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2"/>
          <p:cNvSpPr/>
          <p:nvPr/>
        </p:nvSpPr>
        <p:spPr>
          <a:xfrm flipV="1">
            <a:off x="1403280" y="2060280"/>
            <a:ext cx="0" cy="1584360"/>
          </a:xfrm>
          <a:prstGeom prst="line">
            <a:avLst/>
          </a:prstGeom>
          <a:ln w="76320">
            <a:solidFill>
              <a:srgbClr val="7e503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1619280" y="2060640"/>
            <a:ext cx="0" cy="1584360"/>
          </a:xfrm>
          <a:prstGeom prst="line">
            <a:avLst/>
          </a:prstGeom>
          <a:ln w="76320">
            <a:solidFill>
              <a:srgbClr val="7e503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4427640" y="2060640"/>
            <a:ext cx="0" cy="1439640"/>
          </a:xfrm>
          <a:prstGeom prst="line">
            <a:avLst/>
          </a:prstGeom>
          <a:ln w="76320">
            <a:solidFill>
              <a:srgbClr val="7e503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7667640" y="2060640"/>
            <a:ext cx="0" cy="1439640"/>
          </a:xfrm>
          <a:prstGeom prst="line">
            <a:avLst/>
          </a:prstGeom>
          <a:ln w="76320">
            <a:solidFill>
              <a:srgbClr val="7e503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6"/>
          <p:cNvSpPr/>
          <p:nvPr/>
        </p:nvSpPr>
        <p:spPr>
          <a:xfrm flipV="1">
            <a:off x="4211640" y="2060280"/>
            <a:ext cx="0" cy="1439640"/>
          </a:xfrm>
          <a:prstGeom prst="line">
            <a:avLst/>
          </a:prstGeom>
          <a:ln w="76320">
            <a:solidFill>
              <a:srgbClr val="7e503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 flipV="1">
            <a:off x="7380360" y="2060280"/>
            <a:ext cx="0" cy="1439640"/>
          </a:xfrm>
          <a:prstGeom prst="line">
            <a:avLst/>
          </a:prstGeom>
          <a:ln w="76320">
            <a:solidFill>
              <a:srgbClr val="7e503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1692360" y="2133720"/>
            <a:ext cx="99036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40000"/>
                </a:solidFill>
                <a:latin typeface="Arial"/>
              </a:rPr>
              <a:t>Разъясняет порядок участия, рекомендует подготовку пакет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4500720" y="2133720"/>
            <a:ext cx="122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40000"/>
                </a:solidFill>
                <a:latin typeface="Arial"/>
              </a:rPr>
              <a:t>Информирует  о необходимости обращения в Рабочую группу для получения рекомендаций по созданию рабочих мес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5867280" y="2133720"/>
            <a:ext cx="1422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40000"/>
                </a:solidFill>
                <a:latin typeface="Arial"/>
              </a:rPr>
              <a:t>Заявляет потребность в создании специального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40000"/>
                </a:solidFill>
                <a:latin typeface="Arial"/>
              </a:rPr>
              <a:t>рабочего места для инвалид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7740720" y="2276640"/>
            <a:ext cx="1206360" cy="13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40000"/>
                </a:solidFill>
                <a:latin typeface="Arial"/>
              </a:rPr>
              <a:t>Информирует  о необходимости обращения в Рабочую группу для получения рекомендаций по созданию рабочих мес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2"/>
          <p:cNvSpPr/>
          <p:nvPr/>
        </p:nvSpPr>
        <p:spPr>
          <a:xfrm>
            <a:off x="3708360" y="5084640"/>
            <a:ext cx="0" cy="577800"/>
          </a:xfrm>
          <a:prstGeom prst="line">
            <a:avLst/>
          </a:prstGeom>
          <a:ln w="76320">
            <a:solidFill>
              <a:srgbClr val="7e503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3"/>
          <p:cNvSpPr/>
          <p:nvPr/>
        </p:nvSpPr>
        <p:spPr>
          <a:xfrm>
            <a:off x="8244000" y="5084640"/>
            <a:ext cx="0" cy="577800"/>
          </a:xfrm>
          <a:prstGeom prst="line">
            <a:avLst/>
          </a:prstGeom>
          <a:ln w="76320">
            <a:solidFill>
              <a:srgbClr val="7e503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828360" y="206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5"/>
          <p:cNvSpPr/>
          <p:nvPr/>
        </p:nvSpPr>
        <p:spPr>
          <a:xfrm>
            <a:off x="1836720" y="206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6"/>
          <p:cNvSpPr/>
          <p:nvPr/>
        </p:nvSpPr>
        <p:spPr>
          <a:xfrm>
            <a:off x="3565440" y="206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7"/>
          <p:cNvSpPr/>
          <p:nvPr/>
        </p:nvSpPr>
        <p:spPr>
          <a:xfrm>
            <a:off x="4789440" y="206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8"/>
          <p:cNvSpPr/>
          <p:nvPr/>
        </p:nvSpPr>
        <p:spPr>
          <a:xfrm>
            <a:off x="6805440" y="206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9"/>
          <p:cNvSpPr/>
          <p:nvPr/>
        </p:nvSpPr>
        <p:spPr>
          <a:xfrm>
            <a:off x="8102520" y="206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0"/>
          <p:cNvSpPr/>
          <p:nvPr/>
        </p:nvSpPr>
        <p:spPr>
          <a:xfrm>
            <a:off x="3924360" y="5229360"/>
            <a:ext cx="417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40000"/>
                </a:solidFill>
                <a:latin typeface="Arial"/>
              </a:rPr>
              <a:t>Обращаются за получением рекомендаций по перечню оборудования для оснащения создаваемых рабочих ме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2"/>
          <p:cNvSpPr/>
          <p:nvPr/>
        </p:nvSpPr>
        <p:spPr>
          <a:xfrm>
            <a:off x="3278160" y="5229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3"/>
          <p:cNvSpPr/>
          <p:nvPr/>
        </p:nvSpPr>
        <p:spPr>
          <a:xfrm>
            <a:off x="8389800" y="5229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3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ce2"/>
            </a:gs>
            <a:gs pos="100000">
              <a:srgbClr val="faf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8"/>
          <p:cNvSpPr/>
          <p:nvPr/>
        </p:nvSpPr>
        <p:spPr>
          <a:xfrm>
            <a:off x="1547640" y="5950080"/>
            <a:ext cx="857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3"/>
          <p:cNvSpPr/>
          <p:nvPr/>
        </p:nvSpPr>
        <p:spPr>
          <a:xfrm>
            <a:off x="179280" y="11592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Механизм трудоустройства инвалидов на создаваемые работодателем рабочие места с возмещением затрат на приобретение, монтаж и установку оборудования,  на оплату труда, выплаты компенсации за неиспользованный отпуск, выплаты за кураторство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за счет средств област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708360" y="3068640"/>
            <a:ext cx="1655640" cy="1152360"/>
          </a:xfrm>
          <a:prstGeom prst="upArrow">
            <a:avLst>
              <a:gd name="adj1" fmla="val 67935"/>
              <a:gd name="adj2" fmla="val 21731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Заключае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Догово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Перечисля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50% от сумм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субсид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2050920" y="3141720"/>
            <a:ext cx="1440000" cy="1079280"/>
          </a:xfrm>
          <a:prstGeom prst="downArrow">
            <a:avLst>
              <a:gd name="adj1" fmla="val 71380"/>
              <a:gd name="adj2" fmla="val 32481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 rot="10800000">
            <a:off x="178920" y="3141360"/>
            <a:ext cx="1258920" cy="1150920"/>
          </a:xfrm>
          <a:prstGeom prst="upArrow">
            <a:avLst>
              <a:gd name="adj1" fmla="val 67935"/>
              <a:gd name="adj2" fmla="val 21731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Срочны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трудов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догов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 rot="16200000">
            <a:off x="4225680" y="5574960"/>
            <a:ext cx="763560" cy="1512720"/>
          </a:xfrm>
          <a:prstGeom prst="downArrow">
            <a:avLst>
              <a:gd name="adj1" fmla="val 59472"/>
              <a:gd name="adj2" fmla="val 54142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Направляет заяв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2340000" y="4437000"/>
            <a:ext cx="4537080" cy="57456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Центр занятости насе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рассматривает пакет документов организ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4"/>
          <p:cNvSpPr/>
          <p:nvPr/>
        </p:nvSpPr>
        <p:spPr>
          <a:xfrm>
            <a:off x="395280" y="5877000"/>
            <a:ext cx="3313080" cy="863640"/>
          </a:xfrm>
          <a:prstGeom prst="roundRect">
            <a:avLst>
              <a:gd name="adj" fmla="val 16667"/>
            </a:avLst>
          </a:prstGeom>
          <a:solidFill>
            <a:srgbClr val="ead0ce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Территориальная межведомственная комисс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Arial"/>
              </a:rPr>
              <a:t>по выходу граждан на само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Arial"/>
              </a:rPr>
              <a:t>и содействию их занятости(5 д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108000" y="4437000"/>
            <a:ext cx="1224000" cy="72072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Инвал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2556000" y="5084640"/>
            <a:ext cx="1728720" cy="720720"/>
          </a:xfrm>
          <a:prstGeom prst="downArrow">
            <a:avLst>
              <a:gd name="adj1" fmla="val 78444"/>
              <a:gd name="adj2" fmla="val 50394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Заключе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с пакето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докум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5364000" y="5877000"/>
            <a:ext cx="3515040" cy="865080"/>
          </a:xfrm>
          <a:prstGeom prst="roundRect">
            <a:avLst>
              <a:gd name="adj" fmla="val 16667"/>
            </a:avLst>
          </a:prstGeom>
          <a:solidFill>
            <a:srgbClr val="ead0ce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ОБЛАС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межведомственная коми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0000"/>
                </a:solidFill>
                <a:latin typeface="Arial"/>
              </a:rPr>
              <a:t>по выходу граждан на само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Arial"/>
              </a:rPr>
              <a:t>и содействию их занятости (5д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5364000" y="5084640"/>
            <a:ext cx="1656000" cy="720720"/>
          </a:xfrm>
          <a:prstGeom prst="upArrow">
            <a:avLst>
              <a:gd name="adj1" fmla="val 67935"/>
              <a:gd name="adj2" fmla="val 21731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Решение  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предоставлен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субсид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5076720" y="6165720"/>
            <a:ext cx="49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179280" y="2276640"/>
            <a:ext cx="8713800" cy="72072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Организация 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создает рабочие места для инвалидов за счет средств областного бюдже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 возмещением затрат на оплату труда,                                                                     с приобретением, монтажом и установ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ыплаты компенсации и за кураторство                                                                    оборудования, в том числе на д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435744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1979640" y="2565360"/>
            <a:ext cx="158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Представляе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заяв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и паке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документ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4"/>
          <p:cNvSpPr/>
          <p:nvPr/>
        </p:nvSpPr>
        <p:spPr>
          <a:xfrm>
            <a:off x="2627280" y="3645000"/>
            <a:ext cx="28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5"/>
          <p:cNvSpPr/>
          <p:nvPr/>
        </p:nvSpPr>
        <p:spPr>
          <a:xfrm>
            <a:off x="3276720" y="907920"/>
            <a:ext cx="5653080" cy="505080"/>
          </a:xfrm>
          <a:prstGeom prst="roundRect">
            <a:avLst>
              <a:gd name="adj" fmla="val 16667"/>
            </a:avLst>
          </a:prstGeom>
          <a:solidFill>
            <a:srgbClr val="ead0ce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Рабочая группа по содействию трудоустройству инвалидов</a:t>
            </a: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при территориальной межведомственной коми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6"/>
          <p:cNvSpPr/>
          <p:nvPr/>
        </p:nvSpPr>
        <p:spPr>
          <a:xfrm>
            <a:off x="3278160" y="551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7"/>
          <p:cNvSpPr/>
          <p:nvPr/>
        </p:nvSpPr>
        <p:spPr>
          <a:xfrm>
            <a:off x="5219640" y="1484280"/>
            <a:ext cx="3024360" cy="720720"/>
          </a:xfrm>
          <a:prstGeom prst="downArrow">
            <a:avLst>
              <a:gd name="adj1" fmla="val 71380"/>
              <a:gd name="adj2" fmla="val 32481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5580000" y="1341360"/>
            <a:ext cx="22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Направляет работодателю рекомендации по перечню оборуд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5580000" y="3141720"/>
            <a:ext cx="1584360" cy="1079280"/>
          </a:xfrm>
          <a:prstGeom prst="downArrow">
            <a:avLst>
              <a:gd name="adj1" fmla="val 71380"/>
              <a:gd name="adj2" fmla="val 32481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Представляе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заявку, паке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документов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рекомендаци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Рабочей групп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7812000" y="4365720"/>
            <a:ext cx="1224000" cy="71892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Инвал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 rot="5400000">
            <a:off x="1453680" y="4314960"/>
            <a:ext cx="763560" cy="865080"/>
          </a:xfrm>
          <a:prstGeom prst="downArrow">
            <a:avLst>
              <a:gd name="adj1" fmla="val 59472"/>
              <a:gd name="adj2" fmla="val 30962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40000"/>
                </a:solidFill>
                <a:latin typeface="Arial"/>
              </a:rPr>
              <a:t>Направле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40000"/>
                </a:solidFill>
                <a:latin typeface="Arial"/>
              </a:rPr>
              <a:t>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 rot="16200000">
            <a:off x="7034040" y="4350960"/>
            <a:ext cx="763560" cy="792000"/>
          </a:xfrm>
          <a:prstGeom prst="downArrow">
            <a:avLst>
              <a:gd name="adj1" fmla="val 59472"/>
              <a:gd name="adj2" fmla="val 28346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40000"/>
                </a:solidFill>
                <a:latin typeface="Arial"/>
              </a:rPr>
              <a:t>Направле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40000"/>
                </a:solidFill>
                <a:latin typeface="Arial"/>
              </a:rPr>
              <a:t>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 rot="10800000">
            <a:off x="7596360" y="3141720"/>
            <a:ext cx="1403280" cy="1079280"/>
          </a:xfrm>
          <a:prstGeom prst="upArrow">
            <a:avLst>
              <a:gd name="adj1" fmla="val 67935"/>
              <a:gd name="adj2" fmla="val 21731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40000"/>
                </a:solidFill>
                <a:latin typeface="Arial"/>
              </a:rPr>
              <a:t>Трудов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40000"/>
                </a:solidFill>
                <a:latin typeface="Arial"/>
              </a:rPr>
              <a:t>договор 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40000"/>
                </a:solidFill>
                <a:latin typeface="Arial"/>
              </a:rPr>
              <a:t>неопреде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40000"/>
                </a:solidFill>
                <a:latin typeface="Arial"/>
              </a:rPr>
              <a:t>л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40000"/>
                </a:solidFill>
                <a:latin typeface="Arial"/>
              </a:rPr>
              <a:t>ср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6227640" y="3716280"/>
            <a:ext cx="28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6086160" y="5013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6"/>
          <p:cNvSpPr/>
          <p:nvPr/>
        </p:nvSpPr>
        <p:spPr>
          <a:xfrm>
            <a:off x="685800" y="3716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817380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6"/>
          <p:cNvSpPr/>
          <p:nvPr/>
        </p:nvSpPr>
        <p:spPr>
          <a:xfrm>
            <a:off x="1765080" y="49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7237080" y="49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3"/>
          <p:cNvSpPr/>
          <p:nvPr/>
        </p:nvSpPr>
        <p:spPr>
          <a:xfrm>
            <a:off x="8459640" y="6245280"/>
            <a:ext cx="22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ce2"/>
            </a:gs>
            <a:gs pos="100000">
              <a:srgbClr val="faf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8"/>
          <p:cNvSpPr/>
          <p:nvPr/>
        </p:nvSpPr>
        <p:spPr>
          <a:xfrm>
            <a:off x="1547640" y="5950080"/>
            <a:ext cx="857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3"/>
          <p:cNvSpPr/>
          <p:nvPr/>
        </p:nvSpPr>
        <p:spPr>
          <a:xfrm>
            <a:off x="250920" y="189000"/>
            <a:ext cx="878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Механизм трудоустройства инвалидов на создаваемые работодателем специальные рабочие места с возмещением затрат на приобретение, монтаж и установку оборудования за счет средств федерального бюджета;  на оплату труда, выплаты компенсации за неиспользованный отпуск, выплаты за кураторство за счет средств област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6300720" y="3284640"/>
            <a:ext cx="2087640" cy="1152360"/>
          </a:xfrm>
          <a:prstGeom prst="upArrow">
            <a:avLst>
              <a:gd name="adj1" fmla="val 67935"/>
              <a:gd name="adj2" fmla="val 21731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Заключает договор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о предоставлен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субсидии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Перечисляет 50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от суммы субсид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3348000" y="3284640"/>
            <a:ext cx="2160720" cy="1152360"/>
          </a:xfrm>
          <a:prstGeom prst="downArrow">
            <a:avLst>
              <a:gd name="adj1" fmla="val 71380"/>
              <a:gd name="adj2" fmla="val 32481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 rot="10800000">
            <a:off x="0" y="3357720"/>
            <a:ext cx="1727280" cy="861840"/>
          </a:xfrm>
          <a:prstGeom prst="upArrow">
            <a:avLst>
              <a:gd name="adj1" fmla="val 67935"/>
              <a:gd name="adj2" fmla="val 21731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 rot="16200000">
            <a:off x="1512720" y="4183920"/>
            <a:ext cx="1079640" cy="1152720"/>
          </a:xfrm>
          <a:prstGeom prst="upArrow">
            <a:avLst>
              <a:gd name="adj1" fmla="val 46083"/>
              <a:gd name="adj2" fmla="val 14765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Направле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на работ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757440" y="378936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rot="16200000">
            <a:off x="4297320" y="5358960"/>
            <a:ext cx="908280" cy="1800360"/>
          </a:xfrm>
          <a:prstGeom prst="downArrow">
            <a:avLst>
              <a:gd name="adj1" fmla="val 59472"/>
              <a:gd name="adj2" fmla="val 54170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Направляет заяв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700360" y="4508640"/>
            <a:ext cx="6192720" cy="57600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Центр занятости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При представлении работодателем пакета документов проверяет перечень оборудования на соответствие рекомендациям Рабочей групп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395280" y="5877000"/>
            <a:ext cx="3313080" cy="863640"/>
          </a:xfrm>
          <a:prstGeom prst="roundRect">
            <a:avLst>
              <a:gd name="adj" fmla="val 16667"/>
            </a:avLst>
          </a:prstGeom>
          <a:solidFill>
            <a:srgbClr val="ead0ce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Территориальная межведомственная комисс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Arial"/>
              </a:rPr>
              <a:t>по выходу граждан на само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Arial"/>
              </a:rPr>
              <a:t>и содействию их занятости (5д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1979640" y="4437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179280" y="4292640"/>
            <a:ext cx="1224000" cy="100800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Инвал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2556000" y="5157720"/>
            <a:ext cx="1730160" cy="647640"/>
          </a:xfrm>
          <a:prstGeom prst="downArrow">
            <a:avLst>
              <a:gd name="adj1" fmla="val 78444"/>
              <a:gd name="adj2" fmla="val 50394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Заключе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с пакето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докум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5651640" y="5877000"/>
            <a:ext cx="3227400" cy="865080"/>
          </a:xfrm>
          <a:prstGeom prst="roundRect">
            <a:avLst>
              <a:gd name="adj" fmla="val 16667"/>
            </a:avLst>
          </a:prstGeom>
          <a:solidFill>
            <a:srgbClr val="ead0ce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ОБЛАС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межведомственная коми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0000"/>
                </a:solidFill>
                <a:latin typeface="Arial"/>
              </a:rPr>
              <a:t>по выходу граждан на само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Arial"/>
              </a:rPr>
              <a:t>и содействию их занятости (5д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7"/>
          <p:cNvSpPr/>
          <p:nvPr/>
        </p:nvSpPr>
        <p:spPr>
          <a:xfrm>
            <a:off x="6227640" y="5157720"/>
            <a:ext cx="1873440" cy="647640"/>
          </a:xfrm>
          <a:prstGeom prst="upArrow">
            <a:avLst>
              <a:gd name="adj1" fmla="val 67935"/>
              <a:gd name="adj2" fmla="val 21731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Решение  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предоставлен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субсид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5219640" y="6093000"/>
            <a:ext cx="49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324000" y="2492280"/>
            <a:ext cx="8496000" cy="71928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Организация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создает специальное рабочее место для инвал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озмещением затрат на оплату труда, выплаты компенсации и за кураторство за счет средств областного бюджета;                                                                     - с приобретением, монтажом и установкой специального оборудования за счет средств федерального бюдже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7237080" y="3284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3492360" y="2708280"/>
            <a:ext cx="1873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Представляет заявк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и пакет документов с приложение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рекомендаци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Рабочей групп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284720" y="3933720"/>
            <a:ext cx="28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916360" y="1125360"/>
            <a:ext cx="5759280" cy="576360"/>
          </a:xfrm>
          <a:prstGeom prst="roundRect">
            <a:avLst>
              <a:gd name="adj" fmla="val 16667"/>
            </a:avLst>
          </a:prstGeom>
          <a:solidFill>
            <a:srgbClr val="ead0ce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Рабочая группа по содействию трудоустройству инвалид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при территориальной межведомственной коми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3278160" y="551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4572000" y="1773360"/>
            <a:ext cx="2879640" cy="645840"/>
          </a:xfrm>
          <a:prstGeom prst="downArrow">
            <a:avLst>
              <a:gd name="adj1" fmla="val 71380"/>
              <a:gd name="adj2" fmla="val 32481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4859280" y="1844640"/>
            <a:ext cx="223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Направляет работодателю рекомендации по перечню оборуд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179280" y="3357720"/>
            <a:ext cx="1441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Трудов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40000"/>
                </a:solidFill>
                <a:latin typeface="Arial"/>
              </a:rPr>
              <a:t>договор на неопределенный ср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684360" y="4005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27"/>
          <p:cNvSpPr/>
          <p:nvPr/>
        </p:nvSpPr>
        <p:spPr>
          <a:xfrm>
            <a:off x="8459640" y="6453360"/>
            <a:ext cx="21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ce2"/>
            </a:gs>
            <a:gs pos="100000">
              <a:srgbClr val="faf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000080" y="14292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еализация мероприятий по  содействию трудоустройству инвали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 региональной программе в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357120" y="1000080"/>
            <a:ext cx="4389480" cy="574560"/>
          </a:xfrm>
          <a:prstGeom prst="roundRect">
            <a:avLst>
              <a:gd name="adj" fmla="val 16667"/>
            </a:avLst>
          </a:prstGeom>
          <a:solidFill>
            <a:srgbClr val="ead0ce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alibri"/>
              </a:rPr>
              <a:t>Создание рабочих мест для инвал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0" descr="wide blue arrow with fade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714680" y="1643040"/>
            <a:ext cx="2143080" cy="42876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7"/>
          <p:cNvSpPr/>
          <p:nvPr/>
        </p:nvSpPr>
        <p:spPr>
          <a:xfrm>
            <a:off x="285840" y="2000160"/>
            <a:ext cx="2214360" cy="57168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Подано заявлений организац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7"/>
          <p:cNvSpPr/>
          <p:nvPr/>
        </p:nvSpPr>
        <p:spPr>
          <a:xfrm>
            <a:off x="3000240" y="2000160"/>
            <a:ext cx="1500480" cy="571680"/>
          </a:xfrm>
          <a:prstGeom prst="roundRect">
            <a:avLst>
              <a:gd name="adj" fmla="val 16667"/>
            </a:avLst>
          </a:prstGeom>
          <a:solidFill>
            <a:srgbClr val="e8d1ba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46 заявл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7"/>
          <p:cNvSpPr/>
          <p:nvPr/>
        </p:nvSpPr>
        <p:spPr>
          <a:xfrm>
            <a:off x="285840" y="2714760"/>
            <a:ext cx="2214360" cy="57132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Количе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рабочих мест (всего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7"/>
          <p:cNvSpPr/>
          <p:nvPr/>
        </p:nvSpPr>
        <p:spPr>
          <a:xfrm>
            <a:off x="3000240" y="2714760"/>
            <a:ext cx="1500480" cy="571320"/>
          </a:xfrm>
          <a:prstGeom prst="roundRect">
            <a:avLst>
              <a:gd name="adj" fmla="val 16667"/>
            </a:avLst>
          </a:prstGeom>
          <a:solidFill>
            <a:srgbClr val="e8d1ba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17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рабочих мес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7"/>
          <p:cNvSpPr/>
          <p:nvPr/>
        </p:nvSpPr>
        <p:spPr>
          <a:xfrm>
            <a:off x="285840" y="3786120"/>
            <a:ext cx="2214360" cy="357120"/>
          </a:xfrm>
          <a:prstGeom prst="roundRect">
            <a:avLst>
              <a:gd name="adj" fmla="val 16667"/>
            </a:avLst>
          </a:prstGeom>
          <a:solidFill>
            <a:srgbClr val="ead0ce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0000"/>
                </a:solidFill>
                <a:latin typeface="Arial"/>
              </a:rPr>
              <a:t>Рабочие мес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7"/>
          <p:cNvSpPr/>
          <p:nvPr/>
        </p:nvSpPr>
        <p:spPr>
          <a:xfrm>
            <a:off x="285840" y="4286160"/>
            <a:ext cx="2214360" cy="642960"/>
          </a:xfrm>
          <a:prstGeom prst="roundRect">
            <a:avLst>
              <a:gd name="adj" fmla="val 16667"/>
            </a:avLst>
          </a:prstGeom>
          <a:solidFill>
            <a:srgbClr val="ead0ce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0000"/>
                </a:solidFill>
                <a:latin typeface="Arial"/>
              </a:rPr>
              <a:t>Рабочие места в специально созданных условия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0" descr="wide blue arrow with fade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642960" y="3357720"/>
            <a:ext cx="1500120" cy="35712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27"/>
          <p:cNvSpPr/>
          <p:nvPr/>
        </p:nvSpPr>
        <p:spPr>
          <a:xfrm>
            <a:off x="285840" y="5072040"/>
            <a:ext cx="2214360" cy="428760"/>
          </a:xfrm>
          <a:prstGeom prst="roundRect">
            <a:avLst>
              <a:gd name="adj" fmla="val 16667"/>
            </a:avLst>
          </a:prstGeom>
          <a:solidFill>
            <a:srgbClr val="ead0ce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0000"/>
                </a:solidFill>
                <a:latin typeface="Arial"/>
              </a:rPr>
              <a:t>Специально созданное рабочее мес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7"/>
          <p:cNvSpPr/>
          <p:nvPr/>
        </p:nvSpPr>
        <p:spPr>
          <a:xfrm>
            <a:off x="3000240" y="3786120"/>
            <a:ext cx="1500480" cy="357120"/>
          </a:xfrm>
          <a:prstGeom prst="roundRect">
            <a:avLst>
              <a:gd name="adj" fmla="val 16667"/>
            </a:avLst>
          </a:prstGeom>
          <a:solidFill>
            <a:srgbClr val="e8d1ba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167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7"/>
          <p:cNvSpPr/>
          <p:nvPr/>
        </p:nvSpPr>
        <p:spPr>
          <a:xfrm>
            <a:off x="3000240" y="4429080"/>
            <a:ext cx="1500480" cy="357120"/>
          </a:xfrm>
          <a:prstGeom prst="roundRect">
            <a:avLst>
              <a:gd name="adj" fmla="val 16667"/>
            </a:avLst>
          </a:prstGeom>
          <a:solidFill>
            <a:srgbClr val="e8d1ba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5 ч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7"/>
          <p:cNvSpPr/>
          <p:nvPr/>
        </p:nvSpPr>
        <p:spPr>
          <a:xfrm>
            <a:off x="3000240" y="5072040"/>
            <a:ext cx="1500480" cy="357120"/>
          </a:xfrm>
          <a:prstGeom prst="roundRect">
            <a:avLst>
              <a:gd name="adj" fmla="val 16667"/>
            </a:avLst>
          </a:prstGeom>
          <a:solidFill>
            <a:srgbClr val="e8d1ba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1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5"/>
          <p:cNvSpPr/>
          <p:nvPr/>
        </p:nvSpPr>
        <p:spPr>
          <a:xfrm>
            <a:off x="285840" y="5643720"/>
            <a:ext cx="2214360" cy="42840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Заключено дого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7"/>
          <p:cNvSpPr/>
          <p:nvPr/>
        </p:nvSpPr>
        <p:spPr>
          <a:xfrm>
            <a:off x="3000240" y="5715000"/>
            <a:ext cx="1500480" cy="357120"/>
          </a:xfrm>
          <a:prstGeom prst="roundRect">
            <a:avLst>
              <a:gd name="adj" fmla="val 16667"/>
            </a:avLst>
          </a:prstGeom>
          <a:solidFill>
            <a:srgbClr val="e8d1ba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29 дого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7"/>
          <p:cNvSpPr/>
          <p:nvPr/>
        </p:nvSpPr>
        <p:spPr>
          <a:xfrm>
            <a:off x="285840" y="6286680"/>
            <a:ext cx="2214360" cy="428400"/>
          </a:xfrm>
          <a:prstGeom prst="roundRect">
            <a:avLst>
              <a:gd name="adj" fmla="val 16667"/>
            </a:avLst>
          </a:prstGeom>
          <a:solidFill>
            <a:srgbClr val="ead0ce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0000"/>
                </a:solidFill>
                <a:latin typeface="Arial"/>
              </a:rPr>
              <a:t>На количество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0000"/>
                </a:solidFill>
                <a:latin typeface="Arial"/>
              </a:rPr>
              <a:t>рабочих мес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3000240" y="6286680"/>
            <a:ext cx="1500480" cy="428400"/>
          </a:xfrm>
          <a:prstGeom prst="roundRect">
            <a:avLst>
              <a:gd name="adj" fmla="val 16667"/>
            </a:avLst>
          </a:prstGeom>
          <a:solidFill>
            <a:srgbClr val="e8d1ba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71 рабочее ме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7"/>
          <p:cNvSpPr/>
          <p:nvPr/>
        </p:nvSpPr>
        <p:spPr>
          <a:xfrm>
            <a:off x="5000760" y="857160"/>
            <a:ext cx="3786120" cy="78588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Трудоустроено 62 чел.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безработных – 37 че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ищущих – 25 ч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5"/>
          <p:cNvSpPr/>
          <p:nvPr/>
        </p:nvSpPr>
        <p:spPr>
          <a:xfrm>
            <a:off x="5000760" y="1785960"/>
            <a:ext cx="3817800" cy="3429000"/>
          </a:xfrm>
          <a:prstGeom prst="roundRect">
            <a:avLst>
              <a:gd name="adj" fmla="val 16667"/>
            </a:avLst>
          </a:prstGeom>
          <a:solidFill>
            <a:srgbClr val="ead0ce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По профессия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Рабо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Архивариу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Системный администр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Менедж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Сторо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Шве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Рабочий по изготовлению вен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Учетч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Оператор сушильной кам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Бухгал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Продав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Двор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Столя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Подсобный рабочий в столярный це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Фасовщ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alibri"/>
              </a:rPr>
              <a:t>Экономи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7"/>
          <p:cNvSpPr/>
          <p:nvPr/>
        </p:nvSpPr>
        <p:spPr>
          <a:xfrm>
            <a:off x="4786200" y="5357880"/>
            <a:ext cx="4214880" cy="1357200"/>
          </a:xfrm>
          <a:prstGeom prst="roundRect">
            <a:avLst>
              <a:gd name="adj" fmla="val 16667"/>
            </a:avLst>
          </a:prstGeom>
          <a:solidFill>
            <a:srgbClr val="ffe4c9"/>
          </a:solidFill>
          <a:ln w="28440">
            <a:solidFill>
              <a:srgbClr val="800000"/>
            </a:solidFill>
            <a:miter/>
          </a:ln>
          <a:effectLst>
            <a:outerShdw dist="68321" dir="2028182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Заключены договоры на сумму – 3,4 млн. руб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990000"/>
                </a:solidFill>
                <a:latin typeface="Arial"/>
              </a:rPr>
              <a:t>из федерального бюджета – 7,5 тыс. руб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990000"/>
                </a:solidFill>
                <a:latin typeface="Arial"/>
              </a:rPr>
              <a:t>из областного бюджета – 3,3 млн.руб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Из них профинансировано – 1,2 млн. руб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омер слайда 22"/>
          <p:cNvSpPr/>
          <p:nvPr/>
        </p:nvSpPr>
        <p:spPr>
          <a:xfrm>
            <a:off x="8459640" y="6381720"/>
            <a:ext cx="216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0:55:12Z</dcterms:created>
  <dc:creator>nform1</dc:creator>
  <dc:description/>
  <dc:language>en-US</dc:language>
  <cp:lastModifiedBy>mash2</cp:lastModifiedBy>
  <dcterms:modified xsi:type="dcterms:W3CDTF">2010-05-07T10:38:25Z</dcterms:modified>
  <cp:revision>112</cp:revision>
  <dc:subject/>
  <dc:title>Слайд 1</dc:title>
</cp:coreProperties>
</file>