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B551-E0F3-4CF3-A724-96098EA26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A3F6-DC0A-4598-8D60-159C5D5D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8C1F-ED8E-4F78-B6B6-E943DED3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6F18-1AFB-4ADC-AB4F-AF70120EB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B2D6-0320-41EF-95F6-518867CEA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2DA1-6C51-4364-B898-B5DD8333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CB8A-FEDE-4AEC-BEB4-83B17261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4AA1-4A7A-4EAF-973C-A6B7C156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573E-7360-4D59-B83D-A7C35E6B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398E-C487-4D22-B906-EDEB116E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08F3-06C7-4352-B743-7F1BEDFF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4634-8944-4D32-967A-46706B7A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B1C8-2D94-4200-A286-98994AE7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CBBC-76D8-4845-AF07-1892C883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7F64-0D00-4257-A095-723C4BD2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F430-DC3D-42AF-855A-F8767914B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980A-804B-4813-85C6-93ACB164E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05F86-6889-405C-956B-882DDF533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434CE-8B42-44F5-9801-F8BB8460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B8EB8-44DE-4B1F-82F7-DD00C8F6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932C0-DEFA-4519-B10A-D888068C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639F2-10BC-45A3-B7BD-45A1F293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2837-6FCF-467D-8161-C0581695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AD153-D192-4B9F-A17D-7992D753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ADD7F-A37B-4431-8F3A-E26F8578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54AA7-37B4-4861-A536-986D2671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533C3-8595-4167-8D1B-A7C4A244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08397-4193-4C63-9ED9-E9B09E69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58367-AC67-42FD-9478-D713590AB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D989A-F7E0-47B3-B557-E33089B5A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74E1E-336A-4BA5-A243-9095A6DB0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F5B38-6399-497B-840D-EE4E0968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56E48-A273-4446-A5B5-A46C0D3D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3C94-628F-4A30-A721-E36BD89C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EA418-9FBD-42E7-B78A-F3893112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106E2-F87B-4226-A803-AE5D4DB3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9106B-524A-4BB9-B43A-66128C9E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DBA8C-2DCF-416F-926A-3D0F6C47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EC9AA-D32B-40E4-972C-4ED05238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15331-0C59-4CBA-97F8-81BE9FAA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F7AB8-2634-44A3-9BFC-76793A46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198D8-109C-4960-98B1-43E4928B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2EE5A-F655-4B4A-B604-262CCDDD6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9D821-F232-4FB7-9A8E-B9E880F7F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09DB-E027-458C-B81F-76E90E6C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45BB1-1E3E-4C78-A7AE-A5CB09FE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F4AC5-BB22-451E-B3A5-B79C5CB1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19E58-6ADE-4572-849B-3D16722E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95D57-081F-43E7-BE94-5DB695AB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053A0-F286-4BD6-9C12-37C948FC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B951A-04F3-40BF-A0E9-CC923A38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0CF86-00DC-4D97-8CF6-C1BF8293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EDE02-121A-462C-8FDA-DB7DD85C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0EF20-A9DE-4087-94A3-690BF322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1C103-81CF-46A4-A085-186CEEFDE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AA94-5FB6-46CE-81E7-3D3AD89A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E51BB-D87A-44AC-BBBC-DC9431373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593A3-06EC-402B-899B-7D3967356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E9F93-B6E9-4354-9557-3BB189F7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24339-66E3-48C6-9C1F-7D41F36E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426B1-2D9E-41AD-A401-8C430B65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25DEC-059A-4C2A-8EDA-982F039A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EA028-5239-4B73-91D2-2B2F1ABE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BF0D7-F66D-4C57-829E-402D777D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87C8D-6EFD-4CA0-B330-E8931B00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F3CA6-DB13-4A87-9F5B-66963843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CEC7-6BEB-4461-9CBD-D654BB46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45063-285E-49F1-8588-5934FCFB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CEA37-9D6E-4514-9204-D94CF4EB4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8DF66-5DC0-467F-A6F4-73AEDD7D6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04D2-728A-43D5-AD68-60739098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ED2D-F72C-465F-95AE-612DEE2E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3516-EDA1-457C-907A-C6D84A1136A4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9760-98E7-4841-95AE-39D274F32FB3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2C95-656D-4B38-AE50-7A47B9955F0E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47A5-DD9F-4F05-9F42-1BE86D94D62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2739-A048-4139-B0AE-92D289513AA0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1152-9AB7-41BD-99E8-9821BC5C860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8" descr="ЦентрЗанятост"/>
          <p:cNvPicPr/>
          <p:nvPr/>
        </p:nvPicPr>
        <p:blipFill>
          <a:blip r:embed="rId1"/>
          <a:stretch/>
        </p:blipFill>
        <p:spPr>
          <a:xfrm>
            <a:off x="395280" y="115920"/>
            <a:ext cx="5689440" cy="1268280"/>
          </a:xfrm>
          <a:prstGeom prst="rect">
            <a:avLst/>
          </a:prstGeom>
          <a:ln w="0">
            <a:noFill/>
          </a:ln>
        </p:spPr>
      </p:pic>
      <p:pic>
        <p:nvPicPr>
          <p:cNvPr id="277" name="Rectangle 2" descr=""/>
          <p:cNvPicPr/>
          <p:nvPr/>
        </p:nvPicPr>
        <p:blipFill>
          <a:blip r:embed="rId2"/>
          <a:stretch/>
        </p:blipFill>
        <p:spPr>
          <a:xfrm>
            <a:off x="-55440" y="1352520"/>
            <a:ext cx="5565600" cy="17686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0" descr="герб без фона2"/>
          <p:cNvPicPr/>
          <p:nvPr/>
        </p:nvPicPr>
        <p:blipFill>
          <a:blip r:embed="rId3"/>
          <a:stretch/>
        </p:blipFill>
        <p:spPr>
          <a:xfrm>
            <a:off x="1258920" y="3284640"/>
            <a:ext cx="3311640" cy="3311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1" descr="заставка на конференцию2"/>
          <p:cNvPicPr/>
          <p:nvPr/>
        </p:nvPicPr>
        <p:blipFill>
          <a:blip r:embed="rId4"/>
          <a:stretch/>
        </p:blipFill>
        <p:spPr>
          <a:xfrm>
            <a:off x="4932360" y="692280"/>
            <a:ext cx="359100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928440" y="1142640"/>
            <a:ext cx="790092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БИЛЕТ   № 1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Lucida Sans Unicode"/>
              </a:rPr>
              <a:t>1. Кому может быть предоставлена государственная услуга по содействию самозанятости?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lvl="2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Lucida Sans Unicode"/>
              </a:rPr>
              <a:t>2. Что является основанием для отказа в оказании финансовой помощи?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lvl="2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Lucida Sans Unicode"/>
              </a:rPr>
              <a:t>3. Необходимо ли фиксировать результат предоставления государственной услуги в программном комплексе в случае  принятия получателем государственной услуги решения о нецелесообразности осуществления предпринимательской деятельности?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lvl="2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Lucida Sans Unicode"/>
              </a:rPr>
              <a:t>4. Что является основанием для предоставления государственной услуги по организации профессиональной ориентации?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lvl="2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Lucida Sans Unicode"/>
              </a:rPr>
              <a:t>5. Какие документы предоставляет гражданин, обратившийся за предоставлением государственной услуги по организации профессиональной ориентации в целях выбора сферы деятельности (профессии), трудоустройства, профессионального обучения?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lvl="2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Lucida Sans Unicode"/>
              </a:rPr>
              <a:t>6. С какой целью анализируются результаты тестирования и анкетирования при предоставлении государственной услуги по профессиональной ориентации?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lvl="2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Lucida Sans Unicode"/>
              </a:rPr>
              <a:t>7. Административный регламент  по психологической поддержке позволяет (выберите варианты): 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lvl="2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Lucida Sans Unicode"/>
              </a:rPr>
              <a:t>- регламентировать порядок предоставления  государственной услуги;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lvl="2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Lucida Sans Unicode"/>
              </a:rPr>
              <a:t>- повысить информированность: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lvl="2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Lucida Sans Unicode"/>
              </a:rPr>
              <a:t>-снять актуальность психологических проблем; повысить мотивацию к труду;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lvl="2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Lucida Sans Unicode"/>
              </a:rPr>
              <a:t>- иное мнение.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lvl="2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Lucida Sans Unicode"/>
              </a:rPr>
              <a:t>8. В каких случаях применяется анкетирование, тестирование в соответствии со стандартной  процедурой обследования?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lvl="2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Lucida Sans Unicode"/>
              </a:rPr>
              <a:t>9. Какие направления психологической поддержки отражены в административном регламенте?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lvl="2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Lucida Sans Unicode"/>
              </a:rPr>
              <a:t>10. Какие правовые последствия несет безработный гражданин за отказ от предоставления государственной услуги по социальной адаптации?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lvl="2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Lucida Sans Unicode"/>
              </a:rPr>
              <a:t>11. Назовите максимально допустимые сроки осуществления  административных процедур по формированию групп безработных граждан для предоставления государственной услуги по социальной адаптации?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lvl="2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Lucida Sans Unicode"/>
              </a:rPr>
              <a:t>12. Что является основанием для привлечения специалистов сторонних организаций  к предоставлению государственной  услуги по социальной адаптации?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09" name="Заголовок 3" descr=""/>
          <p:cNvPicPr/>
          <p:nvPr/>
        </p:nvPicPr>
        <p:blipFill>
          <a:blip r:embed="rId1"/>
          <a:stretch/>
        </p:blipFill>
        <p:spPr>
          <a:xfrm>
            <a:off x="-6480" y="-6480"/>
            <a:ext cx="88693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Скругленный прямоугольник 4"/>
          <p:cNvSpPr/>
          <p:nvPr/>
        </p:nvSpPr>
        <p:spPr>
          <a:xfrm>
            <a:off x="285840" y="500040"/>
            <a:ext cx="4000320" cy="2143080"/>
          </a:xfrm>
          <a:prstGeom prst="roundRect">
            <a:avLst>
              <a:gd name="adj" fmla="val 16667"/>
            </a:avLst>
          </a:prstGeom>
          <a:solidFill>
            <a:srgbClr val="d3eef5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РЕГИСТРЫ ПОЛУЧАТЕЛЕЙ ГОСУДАРСТВЕННЫХ УСЛ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Скругленный прямоугольник 6"/>
          <p:cNvSpPr/>
          <p:nvPr/>
        </p:nvSpPr>
        <p:spPr>
          <a:xfrm>
            <a:off x="4857840" y="4000680"/>
            <a:ext cx="4000320" cy="2143080"/>
          </a:xfrm>
          <a:prstGeom prst="roundRect">
            <a:avLst>
              <a:gd name="adj" fmla="val 16667"/>
            </a:avLst>
          </a:prstGeom>
          <a:solidFill>
            <a:srgbClr val="d3eef5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ПОКАЗАТЕЛИ ГОСУДАРСТВЕННОЙ СТАТИСТИЧЕСКОЙ ОТЧЕ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Двойная стрелка влево/вправо 7"/>
          <p:cNvSpPr/>
          <p:nvPr/>
        </p:nvSpPr>
        <p:spPr>
          <a:xfrm rot="3408600">
            <a:off x="3694680" y="2964600"/>
            <a:ext cx="1539720" cy="785880"/>
          </a:xfrm>
          <a:prstGeom prst="leftRightArrow">
            <a:avLst>
              <a:gd name="adj1" fmla="val 50000"/>
              <a:gd name="adj2" fmla="val 49987"/>
            </a:avLst>
          </a:prstGeom>
          <a:solidFill>
            <a:srgbClr val="ff0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3" descr=""/>
          <p:cNvPicPr/>
          <p:nvPr/>
        </p:nvPicPr>
        <p:blipFill>
          <a:blip r:embed="rId1"/>
          <a:stretch/>
        </p:blipFill>
        <p:spPr>
          <a:xfrm>
            <a:off x="311040" y="987480"/>
            <a:ext cx="855180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Заголовок 3" descr=""/>
          <p:cNvPicPr/>
          <p:nvPr/>
        </p:nvPicPr>
        <p:blipFill>
          <a:blip r:embed="rId1"/>
          <a:stretch/>
        </p:blipFill>
        <p:spPr>
          <a:xfrm>
            <a:off x="311040" y="987480"/>
            <a:ext cx="855180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213840" y="1071720"/>
            <a:ext cx="42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11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Государственных учреждений Республики Хакасия центров занятости населения городов и районов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82" name="Picture 37" descr="карта Хакасии"/>
          <p:cNvPicPr/>
          <p:nvPr/>
        </p:nvPicPr>
        <p:blipFill>
          <a:blip r:embed="rId1"/>
          <a:stretch/>
        </p:blipFill>
        <p:spPr>
          <a:xfrm>
            <a:off x="4643280" y="0"/>
            <a:ext cx="464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57200" y="14810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Lucida Sans Unicode"/>
              </a:rPr>
              <a:t>плановые;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Lucida Sans Unicode"/>
              </a:rPr>
              <a:t>выездные и камеральные;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Lucida Sans Unicode"/>
              </a:rPr>
              <a:t>комплексные, тематические                     и контрольные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84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214200" y="2143080"/>
          <a:ext cx="8643960" cy="3173400"/>
        </p:xfrm>
        <a:graphic>
          <a:graphicData uri="http://schemas.openxmlformats.org/drawingml/2006/table">
            <a:tbl>
              <a:tblPr/>
              <a:tblGrid>
                <a:gridCol w="1513080"/>
                <a:gridCol w="1133280"/>
                <a:gridCol w="1571760"/>
                <a:gridCol w="1569960"/>
                <a:gridCol w="1571760"/>
                <a:gridCol w="1284120"/>
              </a:tblGrid>
              <a:tr h="411840">
                <a:tc rowSpan="2"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ок, 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ти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мера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плано-в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Rectangle 1"/>
          <p:cNvSpPr/>
          <p:nvPr/>
        </p:nvSpPr>
        <p:spPr>
          <a:xfrm>
            <a:off x="1613160" y="789120"/>
            <a:ext cx="598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личество проведенных провер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 2007-2009 г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Заголовок 3" descr=""/>
          <p:cNvPicPr/>
          <p:nvPr/>
        </p:nvPicPr>
        <p:blipFill>
          <a:blip r:embed="rId1"/>
          <a:stretch/>
        </p:blipFill>
        <p:spPr>
          <a:xfrm>
            <a:off x="244440" y="993600"/>
            <a:ext cx="858852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88" name="Прямая со стрелкой 5"/>
          <p:cNvCxnSpPr/>
          <p:nvPr/>
        </p:nvCxnSpPr>
        <p:spPr>
          <a:xfrm flipH="1">
            <a:off x="1856880" y="3000240"/>
            <a:ext cx="1501200" cy="1215360"/>
          </a:xfrm>
          <a:prstGeom prst="straightConnector1">
            <a:avLst/>
          </a:prstGeom>
          <a:ln w="4428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89" name="Прямая со стрелкой 7"/>
          <p:cNvCxnSpPr/>
          <p:nvPr/>
        </p:nvCxnSpPr>
        <p:spPr>
          <a:xfrm>
            <a:off x="5214960" y="3000240"/>
            <a:ext cx="1643760" cy="1154880"/>
          </a:xfrm>
          <a:prstGeom prst="straightConnector1">
            <a:avLst/>
          </a:prstGeom>
          <a:ln w="4428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290" name="Скругленный прямоугольник 8"/>
          <p:cNvSpPr/>
          <p:nvPr/>
        </p:nvSpPr>
        <p:spPr>
          <a:xfrm>
            <a:off x="357120" y="4214880"/>
            <a:ext cx="3714840" cy="1071360"/>
          </a:xfrm>
          <a:prstGeom prst="roundRect">
            <a:avLst>
              <a:gd name="adj" fmla="val 16667"/>
            </a:avLst>
          </a:prstGeom>
          <a:solidFill>
            <a:srgbClr val="d3eef5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ДИРЕКТОР ЦЗ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Скругленный прямоугольник 9"/>
          <p:cNvSpPr/>
          <p:nvPr/>
        </p:nvSpPr>
        <p:spPr>
          <a:xfrm>
            <a:off x="4857840" y="4214880"/>
            <a:ext cx="3714840" cy="1071360"/>
          </a:xfrm>
          <a:prstGeom prst="roundRect">
            <a:avLst>
              <a:gd name="adj" fmla="val 16667"/>
            </a:avLst>
          </a:prstGeom>
          <a:solidFill>
            <a:srgbClr val="d3eef5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НАЧАЛЬНИКИ ОТДЕЛОВ ЦЗ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Скругленный прямоугольник 12"/>
          <p:cNvSpPr/>
          <p:nvPr/>
        </p:nvSpPr>
        <p:spPr>
          <a:xfrm>
            <a:off x="1000080" y="1714680"/>
            <a:ext cx="6715080" cy="1285560"/>
          </a:xfrm>
          <a:prstGeom prst="roundRect">
            <a:avLst>
              <a:gd name="adj" fmla="val 16667"/>
            </a:avLst>
          </a:prstGeom>
          <a:solidFill>
            <a:srgbClr val="d3eef5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ТЕКУЩИЙ КОНТРОЛЬ В ЦЕНТРЕ ЗАНЯТОСТИ НА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Скругленный прямоугольник 4"/>
          <p:cNvSpPr/>
          <p:nvPr/>
        </p:nvSpPr>
        <p:spPr>
          <a:xfrm>
            <a:off x="3143160" y="214200"/>
            <a:ext cx="2643120" cy="428760"/>
          </a:xfrm>
          <a:prstGeom prst="roundRect">
            <a:avLst>
              <a:gd name="adj" fmla="val 16667"/>
            </a:avLst>
          </a:prstGeom>
          <a:solidFill>
            <a:srgbClr val="d3eef5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АКТ РОС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" name="Прямая со стрелкой 7"/>
          <p:cNvCxnSpPr>
            <a:stCxn id="293" idx="2"/>
          </p:cNvCxnSpPr>
          <p:nvPr/>
        </p:nvCxnSpPr>
        <p:spPr>
          <a:xfrm>
            <a:off x="4464000" y="642600"/>
            <a:ext cx="37440" cy="500760"/>
          </a:xfrm>
          <a:prstGeom prst="straightConnector1">
            <a:avLst/>
          </a:prstGeom>
          <a:ln w="5400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295" name="Выноска-облако 18"/>
          <p:cNvSpPr/>
          <p:nvPr/>
        </p:nvSpPr>
        <p:spPr>
          <a:xfrm>
            <a:off x="2571840" y="1071720"/>
            <a:ext cx="3857400" cy="5713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3eef5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ПРЕДПИС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8-конечная звезда 21"/>
          <p:cNvSpPr/>
          <p:nvPr/>
        </p:nvSpPr>
        <p:spPr>
          <a:xfrm>
            <a:off x="-142920" y="1285920"/>
            <a:ext cx="2286000" cy="1571760"/>
          </a:xfrm>
          <a:custGeom>
            <a:avLst/>
            <a:gdLst>
              <a:gd name="textAreaLeft" fmla="*/ 536760 w 2286000"/>
              <a:gd name="textAreaRight" fmla="*/ 1749240 w 2286000"/>
              <a:gd name="textAreaTop" fmla="*/ 369000 h 1571760"/>
              <a:gd name="textAreaBottom" fmla="*/ 1202760 h 157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d3eef5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План мероприятий по устранению наруш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8-конечная звезда 22"/>
          <p:cNvSpPr/>
          <p:nvPr/>
        </p:nvSpPr>
        <p:spPr>
          <a:xfrm>
            <a:off x="3500280" y="5072040"/>
            <a:ext cx="2286000" cy="1571760"/>
          </a:xfrm>
          <a:custGeom>
            <a:avLst/>
            <a:gdLst>
              <a:gd name="textAreaLeft" fmla="*/ 536760 w 2286000"/>
              <a:gd name="textAreaRight" fmla="*/ 1749240 w 2286000"/>
              <a:gd name="textAreaTop" fmla="*/ 369000 h 1571760"/>
              <a:gd name="textAreaBottom" fmla="*/ 1202760 h 157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d3eef5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Тестирования работников ЦЗ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8-конечная звезда 28"/>
          <p:cNvSpPr/>
          <p:nvPr/>
        </p:nvSpPr>
        <p:spPr>
          <a:xfrm>
            <a:off x="3000240" y="3571920"/>
            <a:ext cx="2286000" cy="1571760"/>
          </a:xfrm>
          <a:custGeom>
            <a:avLst/>
            <a:gdLst>
              <a:gd name="textAreaLeft" fmla="*/ 536760 w 2286000"/>
              <a:gd name="textAreaRight" fmla="*/ 1749240 w 2286000"/>
              <a:gd name="textAreaTop" fmla="*/ 369000 h 1571760"/>
              <a:gd name="textAreaBottom" fmla="*/ 1202760 h 157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d3eef5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Методические рекоменд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8-конечная звезда 29"/>
          <p:cNvSpPr/>
          <p:nvPr/>
        </p:nvSpPr>
        <p:spPr>
          <a:xfrm>
            <a:off x="4357800" y="2071800"/>
            <a:ext cx="2286000" cy="1571400"/>
          </a:xfrm>
          <a:custGeom>
            <a:avLst/>
            <a:gdLst>
              <a:gd name="textAreaLeft" fmla="*/ 536760 w 2286000"/>
              <a:gd name="textAreaRight" fmla="*/ 1749240 w 2286000"/>
              <a:gd name="textAreaTop" fmla="*/ 369000 h 1571400"/>
              <a:gd name="textAreaBottom" fmla="*/ 1202400 h 1571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d3eef5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Совещание с директорами ЦЗ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8-конечная звезда 30"/>
          <p:cNvSpPr/>
          <p:nvPr/>
        </p:nvSpPr>
        <p:spPr>
          <a:xfrm>
            <a:off x="6143760" y="5000760"/>
            <a:ext cx="2286000" cy="1571400"/>
          </a:xfrm>
          <a:custGeom>
            <a:avLst/>
            <a:gdLst>
              <a:gd name="textAreaLeft" fmla="*/ 536760 w 2286000"/>
              <a:gd name="textAreaRight" fmla="*/ 1749240 w 2286000"/>
              <a:gd name="textAreaTop" fmla="*/ 369000 h 1571400"/>
              <a:gd name="textAreaBottom" fmla="*/ 1202400 h 1571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d3eef5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Заседания «круглых столо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8-конечная звезда 31"/>
          <p:cNvSpPr/>
          <p:nvPr/>
        </p:nvSpPr>
        <p:spPr>
          <a:xfrm>
            <a:off x="6000840" y="3429000"/>
            <a:ext cx="2286000" cy="1571760"/>
          </a:xfrm>
          <a:custGeom>
            <a:avLst/>
            <a:gdLst>
              <a:gd name="textAreaLeft" fmla="*/ 536760 w 2286000"/>
              <a:gd name="textAreaRight" fmla="*/ 1749240 w 2286000"/>
              <a:gd name="textAreaTop" fmla="*/ 369000 h 1571760"/>
              <a:gd name="textAreaBottom" fmla="*/ 1202760 h 157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d3eef5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Заседание Методического совета Госкомит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8-конечная звезда 32"/>
          <p:cNvSpPr/>
          <p:nvPr/>
        </p:nvSpPr>
        <p:spPr>
          <a:xfrm>
            <a:off x="6643800" y="1428840"/>
            <a:ext cx="2286000" cy="1571400"/>
          </a:xfrm>
          <a:custGeom>
            <a:avLst/>
            <a:gdLst>
              <a:gd name="textAreaLeft" fmla="*/ 536760 w 2286000"/>
              <a:gd name="textAreaRight" fmla="*/ 1749240 w 2286000"/>
              <a:gd name="textAreaTop" fmla="*/ 369000 h 1571400"/>
              <a:gd name="textAreaBottom" fmla="*/ 1202400 h 1571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d3eef5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Рабочие совещания в ЦЗ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8-конечная звезда 33"/>
          <p:cNvSpPr/>
          <p:nvPr/>
        </p:nvSpPr>
        <p:spPr>
          <a:xfrm>
            <a:off x="857160" y="5000760"/>
            <a:ext cx="2286000" cy="1571400"/>
          </a:xfrm>
          <a:custGeom>
            <a:avLst/>
            <a:gdLst>
              <a:gd name="textAreaLeft" fmla="*/ 536760 w 2286000"/>
              <a:gd name="textAreaRight" fmla="*/ 1749240 w 2286000"/>
              <a:gd name="textAreaTop" fmla="*/ 369000 h 1571400"/>
              <a:gd name="textAreaBottom" fmla="*/ 1202400 h 1571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d3eef5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Обучающие семина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8-конечная звезда 34"/>
          <p:cNvSpPr/>
          <p:nvPr/>
        </p:nvSpPr>
        <p:spPr>
          <a:xfrm>
            <a:off x="285840" y="3286080"/>
            <a:ext cx="2286000" cy="1571760"/>
          </a:xfrm>
          <a:custGeom>
            <a:avLst/>
            <a:gdLst>
              <a:gd name="textAreaLeft" fmla="*/ 536760 w 2286000"/>
              <a:gd name="textAreaRight" fmla="*/ 1749240 w 2286000"/>
              <a:gd name="textAreaTop" fmla="*/ 369000 h 1571760"/>
              <a:gd name="textAreaBottom" fmla="*/ 1202760 h 157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d3eef5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Приказы и инструктивные пись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8-конечная звезда 35"/>
          <p:cNvSpPr/>
          <p:nvPr/>
        </p:nvSpPr>
        <p:spPr>
          <a:xfrm>
            <a:off x="2000160" y="1785960"/>
            <a:ext cx="2286000" cy="1571760"/>
          </a:xfrm>
          <a:custGeom>
            <a:avLst/>
            <a:gdLst>
              <a:gd name="textAreaLeft" fmla="*/ 536760 w 2286000"/>
              <a:gd name="textAreaRight" fmla="*/ 1749240 w 2286000"/>
              <a:gd name="textAreaTop" fmla="*/ 369000 h 1571760"/>
              <a:gd name="textAreaBottom" fmla="*/ 1202760 h 157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d3eef5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Заседание Коллегии Госкомит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6840" y="1480680"/>
            <a:ext cx="818676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организация приёма граждан в соответствии с требованиями Закона о занятости, административных регламентов и Порядка регистрации безработных граждан;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организация работы по выполнению Программы по реализации дополнительных мероприятий, направленных на снижение напряжённости на рынке труда Республики Хакасия в 2010 году, с изучением технологии оформления документов в ПК «Катарсис»;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формирование государственной и ведомственной отчетности по результатам работы;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технология работы специалистов по профессиональному обучению в ПК «Катарсис»;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межведомственное взаимодействие в области организации малого предпринимательства и самозанятости безработных граждан;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осуществление социальных выплат безработным гражданам и составления бюджетной отчетности в программном комплексе «Свод-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WEB</a:t>
            </a: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совершенствование взаимодействия с работодателями по содействию в обеспечении занятости населения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07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302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7T07:31:25Z</dcterms:created>
  <dc:creator>Картина</dc:creator>
  <dc:description/>
  <dc:language>en-US</dc:language>
  <cp:lastModifiedBy>User</cp:lastModifiedBy>
  <dcterms:modified xsi:type="dcterms:W3CDTF">2010-05-11T06:04:29Z</dcterms:modified>
  <cp:revision>19</cp:revision>
  <dc:subject/>
  <dc:title>Республика  Хакасия</dc:title>
</cp:coreProperties>
</file>