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840-9D3E-4BC4-9E8F-839C9A70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B9C-3F1B-4578-8D69-5B36910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DBC-BABE-421E-9860-D3F4AB87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F90-EF49-4E0F-BB5E-770D97B6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FDF-931C-4BFA-BF11-30FA9CD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9361-A1B3-4DB3-BD9A-ECEA5ADB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3B11-3F75-43B1-9C4D-10D19D0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DBD-77CA-4776-BBDB-5CFB7E9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FFB-BDE1-42D2-83DF-B9518B8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294E-BF21-4F50-945E-7CEEF9F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8D3-0935-4BB2-A656-148B9DE4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BF0-4C8D-4514-9FEA-AD72662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C92-44DD-4A96-B5C4-55FA5579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74BF-C328-4421-85EE-CD0378B4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BAF6-4503-441E-A3B5-2EF6051B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501B-D83F-44E4-8E7E-7B4D6660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C95-7AFD-4702-B148-4B0B770C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1D8-8D16-4E61-9AF8-24F77E9A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609-03A1-443A-B602-7D9E9E7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230-4DF6-44B5-A068-EF6EB6EB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113-8B3F-4578-9FFC-5BCC6635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F54-39F1-4039-AF8E-4D860D4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668-C4E5-46C9-8B97-7498F202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355-ED2F-40E4-A3E3-C4A11BC1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C0D-9B3F-4428-9E3E-D2C09B9DDCA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5BAC-D43B-41E6-9220-17DFBFF79D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1272-821E-46D9-86DC-27B9C4190AC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EDC5-A260-4CB7-92D1-1578837DE9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82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3"/>
          <a:srcRect l="10333" t="18896" r="11514" b="12282"/>
          <a:stretch/>
        </p:blipFill>
        <p:spPr>
          <a:xfrm>
            <a:off x="4267080" y="1905120"/>
            <a:ext cx="4724640" cy="4800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8857" t="14172" r="8857" b="9448"/>
          <a:stretch/>
        </p:blipFill>
        <p:spPr>
          <a:xfrm>
            <a:off x="76320" y="1905120"/>
            <a:ext cx="4038480" cy="47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12193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зникновение энергосберегающего эффекта при регулиров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04920"/>
            <a:ext cx="6096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193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Финансовый результат по 4-м объек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98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6" name="GERB2B&amp;W" descr=""/>
          <p:cNvPicPr/>
          <p:nvPr/>
        </p:nvPicPr>
        <p:blipFill>
          <a:blip r:embed="rId3"/>
          <a:stretch/>
        </p:blipFill>
        <p:spPr>
          <a:xfrm>
            <a:off x="3733920" y="1523880"/>
            <a:ext cx="5810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066680" y="2209680"/>
          <a:ext cx="7086600" cy="403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209680"/>
                    <a:ext cx="70866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449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7645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112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GERB2B&amp;W" descr=""/>
          <p:cNvPicPr/>
          <p:nvPr/>
        </p:nvPicPr>
        <p:blipFill>
          <a:blip r:embed="rId3"/>
          <a:stretch/>
        </p:blipFill>
        <p:spPr>
          <a:xfrm>
            <a:off x="3733920" y="1523880"/>
            <a:ext cx="581040" cy="571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352960"/>
            <a:ext cx="822960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ЭРИЯ ГОРОДА НОВОСИБИР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Е УПРАВЛЕНИЕ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ВЕРЖД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ьник Главного управления образования  мэ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_____________ Н. Н. Копа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___» _________________20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СНАЯ ДОКУМЕНТ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ведение открытого конкурса, на право заключения гражданско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авового договора на  выполнение работ (действий) направленных на энергосбережение и повышение энергетической эффективности использования тепловой энергии учреждениям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449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7645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127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1645920"/>
            <a:ext cx="822960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БЛЕ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94-ФЗ предметом ЭСК определил отсутствующий у исполнителя товар – экономию энергоресурсв заказчи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ена контракта и стоимость работ не совпадают по определен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юджетный регламент требует оплаты работ по смете и по факту выполнения и запрещает оплачивать проценты по кредит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ЭР рекомендовало форму контракта, но «забыло» указать код бюджетной документации для расчётов по ЭСК и порядок передачи сред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по ЭСК поставлена в зависимость от завершения обязательного энергетического обследования, т.е. может начаться не ранее 1.01.2013 г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449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7645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139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880" y="1994760"/>
            <a:ext cx="82296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лючить ЭСК и энергоаудит из сферы действия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4-Ф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цену ЭСК и связать её с объёмом инвестиций, неотторгаемой долей бюджетного учреждения и предельным сроком контра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усмотреть возможность проведения энергоаудита по заказу ЭСКО или в составе ЭС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банковский регламент «проектного кредитования» для энергосервисных контракт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449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7645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151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80880" y="3135240"/>
            <a:ext cx="82296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Шибанов А.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8-383-222-12-6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ergofond@cn.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449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лотный проект в бюджетной сфере г. Новосибир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76453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1920" y="152280"/>
            <a:ext cx="2286360" cy="1066680"/>
            <a:chOff x="151920" y="152280"/>
            <a:chExt cx="2286360" cy="1066680"/>
          </a:xfrm>
        </p:grpSpPr>
        <p:sp>
          <p:nvSpPr>
            <p:cNvPr id="163" name=""/>
            <p:cNvSpPr/>
            <p:nvPr/>
          </p:nvSpPr>
          <p:spPr>
            <a:xfrm>
              <a:off x="338040" y="152280"/>
              <a:ext cx="1051200" cy="106668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630400">
              <a:off x="228600" y="477360"/>
              <a:ext cx="355680" cy="3650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630400">
              <a:off x="338040" y="477360"/>
              <a:ext cx="355680" cy="36504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5040" y="576000"/>
              <a:ext cx="1533240" cy="141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a63102"/>
                  </a:solidFill>
                  <a:latin typeface="Arial"/>
                </a:rPr>
                <a:t>РЕСУРСОСБЕРЕ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77840" y="717480"/>
              <a:ext cx="1074960" cy="24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«КАТЭС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630400">
              <a:off x="457200" y="456840"/>
              <a:ext cx="355680" cy="3650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228600"/>
              <a:ext cx="131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нерго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630400">
              <a:off x="609480" y="456840"/>
              <a:ext cx="355680" cy="365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ибанов</cp:lastModifiedBy>
  <dcterms:modified xsi:type="dcterms:W3CDTF">2011-10-26T18:41:21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