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4" y="0"/>
                </a:moveTo>
                <a:arcTo wR="4" hR="4" stAng="16200000" swAng="-5400000"/>
                <a:lnTo>
                  <a:pt x="0" y="31372"/>
                </a:lnTo>
                <a:arcTo wR="4" hR="4" stAng="10800000" swAng="-5400000"/>
                <a:lnTo>
                  <a:pt x="21596" y="3137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4" y="0"/>
                </a:moveTo>
                <a:arcTo wR="4" hR="4" stAng="16200000" swAng="-5400000"/>
                <a:lnTo>
                  <a:pt x="0" y="31372"/>
                </a:lnTo>
                <a:arcTo wR="4" hR="4" stAng="10800000" swAng="-5400000"/>
                <a:lnTo>
                  <a:pt x="21596" y="3137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29880" y="748800"/>
            <a:ext cx="49309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689360"/>
            <a:ext cx="54342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846600" y="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A4E88-9EDD-44D3-BC84-27B11931620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6844A-66D3-4FD0-A574-FE8C3F30146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CAD2D-F08B-4E4A-B5C1-4DED58DBE81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8800" y="74916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79554-8F88-49EA-B006-C41BC9F22DB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91188-6A95-4293-AF0C-521AFDC5EFE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3849840" y="9379080"/>
            <a:ext cx="29206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D09E9-9FB0-4C09-91AB-C59AC37C3AF6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849840" y="9379080"/>
            <a:ext cx="2923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945B4-441D-41ED-9BB9-926041BC39B5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849840" y="9379080"/>
            <a:ext cx="29271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BB089-97AB-447D-93DA-370B2910FF59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849840" y="9379080"/>
            <a:ext cx="2939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8EB7A-5FF6-4327-8158-7E98471545D8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BEF03-CC64-41CE-80F5-229279F30C4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1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76583-6406-46A6-8E2C-50C7EB9B307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05BE0-7276-4FBE-8116-68051334A17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8800" y="74916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B67BA-9BD9-40CD-8A64-754E4DC1890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9BE1C-8497-47A0-93C7-66C06634D83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8800" y="74916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475AA-673F-4918-9390-1B6396555BA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20DDC-92FA-4E40-8D70-F808806585B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849840" y="9379080"/>
            <a:ext cx="29206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1D29B-A2D8-41AA-8C9D-5753C3D126EE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849840" y="9379080"/>
            <a:ext cx="2923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73E17-883C-412D-88B8-95383564E34A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849840" y="9379080"/>
            <a:ext cx="29271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94E8D-86AD-4F88-8023-AEE5E3CEFCF8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849840" y="9379080"/>
            <a:ext cx="2939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7F032-D4CA-40DC-A6DE-72CB438667E3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3D912-4964-4211-A13F-8F1A79BF1BDA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1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D2747-B168-420B-A8EB-EFC2A7DDA80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9D4F8-725C-4170-8B49-BBD56B6C0C3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8800" y="74916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60AAB-C71D-4381-B0F9-9F3BDE65110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0DF02-5036-4E87-B231-5E4067E6133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3849840" y="9379080"/>
            <a:ext cx="29206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D3EF7-E993-461A-89B9-4FE8F5035EDD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849840" y="9379080"/>
            <a:ext cx="2923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66D10-E133-4A3C-9029-9D3EC74FEB62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849840" y="9379080"/>
            <a:ext cx="29271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E2CC3-75D6-446E-B0C0-AD96E8780085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849840" y="9379080"/>
            <a:ext cx="2939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57872-141C-4469-8A7B-1E27DBB3B0B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6271F-10B4-466F-9605-C9DB81104D0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1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EC7E7-A1DB-4B2B-A38E-D42108839D1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70B72-5F1C-4223-B4F4-54564F93BFA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8800" y="74916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53381-5433-45A0-9F87-8EF5712EC4A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0D159-FD6E-4A09-AE89-D40765F0BB7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8800" y="74916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4865D-FF28-4F60-B5E9-7067A7D95E4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1B3EA-6399-45A4-97A2-93BBB5D6D88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8800" y="74916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15419-81C4-4D5D-81DB-661E3FA0F10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03833-FB20-4125-BA68-0B3B3C65C1B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8800" y="74916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9966E-8AEC-4A9D-8D6D-2CEECCAFDAA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892F2-4617-47A3-8998-EBD9627D696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8800" y="74916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F19F1-C71C-42F8-8C75-E45F3766B73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9FEA0-29BC-4504-BDE6-4511E45296E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849840" y="9379080"/>
            <a:ext cx="29206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C84D4-F6B0-41B4-9B48-2495ACE7A6DE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849840" y="9379080"/>
            <a:ext cx="2923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7395D-2621-4160-8258-72B54139CBF9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49840" y="9379080"/>
            <a:ext cx="29271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C6FDE-B05A-4BD6-95A0-761C50B8311C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849840" y="9379080"/>
            <a:ext cx="2939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D5C99-CA0C-4D12-8F63-AF9B29501FA1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0D17E-59AD-4246-9A0F-7BC52A90E9F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1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691D2-F14F-4351-9013-7DFFEB8A85E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D6450-F247-4AD5-B375-DA6C7DF4F10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3849840" y="9379080"/>
            <a:ext cx="29206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1299E-7647-4B35-80DD-01C72FD6F589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49840" y="9379080"/>
            <a:ext cx="2923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86738-1810-4678-9959-4CC52E23564B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849840" y="9379080"/>
            <a:ext cx="29271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C492A-26BB-4EEA-A9D6-51EA9B9FF9C2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849840" y="9379080"/>
            <a:ext cx="2939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E3C87-CB3F-47B3-9639-2178F36522DC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F524A-1DCE-4876-A2CB-76D5CDE82B6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1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46600" y="9380520"/>
            <a:ext cx="2946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19000"/>
                <a:tab algn="l" pos="1230480"/>
                <a:tab algn="l" pos="1641600"/>
                <a:tab algn="l" pos="2052720"/>
                <a:tab algn="l" pos="2463840"/>
                <a:tab algn="l" pos="2874960"/>
                <a:tab algn="l" pos="3286080"/>
                <a:tab algn="l" pos="3697200"/>
                <a:tab algn="l" pos="4108320"/>
                <a:tab algn="l" pos="4519440"/>
                <a:tab algn="l" pos="4930920"/>
                <a:tab algn="l" pos="5342040"/>
                <a:tab algn="l" pos="5753160"/>
                <a:tab algn="l" pos="6164280"/>
                <a:tab algn="l" pos="6575400"/>
                <a:tab algn="l" pos="6986520"/>
                <a:tab algn="l" pos="7397640"/>
                <a:tab algn="l" pos="7808760"/>
                <a:tab algn="l" pos="82184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3ABC6-B06F-409E-8BED-894F29A5E7F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46600" y="9380520"/>
            <a:ext cx="2949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039B9-A213-4694-BBF1-2336538268B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3849840" y="9379080"/>
            <a:ext cx="29206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34EFE-7B57-4D29-9EA7-92D9BA109F4C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49840" y="9379080"/>
            <a:ext cx="2923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3DFDA-0269-45CC-8B14-B1AF995F7F8C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49840" y="9379080"/>
            <a:ext cx="29271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425A1-3D9D-4924-B817-5618CCBF7719}" type="slidenum">
              <a:rPr b="0" lang="ru-RU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849840" y="9379080"/>
            <a:ext cx="2939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0A91A-A426-49E7-9D74-7920E293BDB4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2840" bIns="42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B3C2F-1BE7-4735-80A3-3BBCC516876A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5240" cy="3701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56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D0C6-FCD2-4257-9722-2ED367718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078D-93C4-4A05-9106-6C606CD90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55FD-52F3-4CE5-89E5-BAA20FE88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5280-2851-43A6-B5A0-953E90853E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1284-3D52-4F86-8871-C0DA7DDB5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5792-D6D1-4C97-A023-E92B1CA2A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806F-8D09-4ADC-9B14-C95A8F514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157A-93A0-4709-97FE-1E1F5CC76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9E4E-1905-4752-A273-93E631237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F586-7C0E-43DA-B947-30EEEEC12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5636-C19C-4AF4-A589-382A490C8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6205-04FB-4348-83DA-90F9383D9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AC8A4-5D9E-493E-B42B-70D7B8ACD02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39640" y="3203640"/>
            <a:ext cx="90709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79d1c"/>
                </a:solidFill>
                <a:latin typeface="Calibri"/>
                <a:ea typeface="Times New Roman CYR"/>
              </a:rPr>
              <a:t>Февраль</a:t>
            </a:r>
            <a:r>
              <a:rPr b="0" lang="ru-RU" sz="4800" spc="-1" strike="noStrike">
                <a:solidFill>
                  <a:srgbClr val="579d1c"/>
                </a:solidFill>
                <a:latin typeface="Calibri"/>
                <a:ea typeface="Times New Roman CYR"/>
              </a:rPr>
              <a:t> 201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12720" y="4095720"/>
            <a:ext cx="9070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 CYR"/>
              </a:rPr>
              <a:t>Открытие первой очеред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 CYR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41440" y="6156360"/>
            <a:ext cx="90709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 CYR"/>
              </a:rPr>
              <a:t>Полный запуск </a:t>
            </a:r>
            <a:r>
              <a:rPr b="0" lang="ru-RU" sz="2800" spc="-1" strike="noStrike">
                <a:solidFill>
                  <a:srgbClr val="579d1c"/>
                </a:solidFill>
                <a:latin typeface="Calibri"/>
                <a:ea typeface="Times New Roman CYR"/>
              </a:rPr>
              <a:t>конец </a:t>
            </a:r>
            <a:r>
              <a:rPr b="0" lang="ru-RU" sz="4800" spc="-1" strike="noStrike">
                <a:solidFill>
                  <a:srgbClr val="579d1c"/>
                </a:solidFill>
                <a:latin typeface="Calibri"/>
                <a:ea typeface="Times New Roman CYR"/>
              </a:rPr>
              <a:t>2011</a:t>
            </a:r>
            <a:r>
              <a:rPr b="0" lang="ru-RU" sz="1600" spc="-1" strike="noStrike">
                <a:solidFill>
                  <a:srgbClr val="579d1c"/>
                </a:solidFill>
                <a:latin typeface="Calibri"/>
                <a:ea typeface="Times New Roman CY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24000" y="4467240"/>
            <a:ext cx="9539280" cy="168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1152360" y="453960"/>
            <a:ext cx="804960" cy="99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3168720" y="438120"/>
            <a:ext cx="1084320" cy="97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5545080" y="268200"/>
            <a:ext cx="579600" cy="131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5"/>
          <a:stretch/>
        </p:blipFill>
        <p:spPr>
          <a:xfrm>
            <a:off x="7056360" y="627120"/>
            <a:ext cx="1974960" cy="64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960480" y="1600200"/>
            <a:ext cx="8229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Calibri"/>
              </a:rPr>
              <a:t>Красноярский Цен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Calibri"/>
              </a:rPr>
              <a:t>инноваций и энергоэффективности</a:t>
            </a:r>
            <a:r>
              <a:rPr b="1" lang="ru-RU" sz="3200" spc="-1" strike="noStrike">
                <a:solidFill>
                  <a:srgbClr val="54646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3960" y="1222200"/>
            <a:ext cx="668988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984320" y="4307040"/>
            <a:ext cx="397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167360" y="3511440"/>
            <a:ext cx="39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9640" y="720720"/>
            <a:ext cx="9180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 CYR"/>
              </a:rPr>
              <a:t>Задумываетесь ли Вы об объемах энергопотребл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 CYR"/>
              </a:rPr>
              <a:t>при приобретении новой бытовой техники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690480" y="1800360"/>
            <a:ext cx="872820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12720" y="2340000"/>
            <a:ext cx="8352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9d1c"/>
                </a:solidFill>
                <a:latin typeface="Calibri"/>
                <a:ea typeface="Times New Roman CYR"/>
              </a:rPr>
              <a:t>Преследуемые цели и 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944720" y="3240000"/>
            <a:ext cx="6659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987"/>
              </a:spcBef>
              <a:spcAft>
                <a:spcPts val="19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Повысить уровень осведомленности насел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987"/>
              </a:spcBef>
              <a:spcAft>
                <a:spcPts val="19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Снять негативное восприятие государственных инициати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987"/>
              </a:spcBef>
              <a:spcAft>
                <a:spcPts val="19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Представить мероприятия по эффективному потреблению   энергоресурсов населением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4360" y="252360"/>
            <a:ext cx="864072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79d1c"/>
                </a:solidFill>
                <a:latin typeface="Calibri"/>
                <a:ea typeface="Arial CYR"/>
              </a:rPr>
              <a:t>К концу года планируется открыть </a:t>
            </a:r>
            <a:r>
              <a:rPr b="0" lang="en-US" sz="3200" spc="-1" strike="noStrike">
                <a:solidFill>
                  <a:srgbClr val="579d1c"/>
                </a:solidFill>
                <a:latin typeface="Calibri"/>
                <a:ea typeface="Arial CYR"/>
              </a:rPr>
              <a:t>вторую очередь</a:t>
            </a:r>
            <a:r>
              <a:rPr b="0" lang="en-US" sz="2800" spc="-1" strike="noStrike">
                <a:solidFill>
                  <a:srgbClr val="579d1c"/>
                </a:solidFill>
                <a:latin typeface="Calibri"/>
                <a:ea typeface="Arial CYR"/>
              </a:rPr>
              <a:t> </a:t>
            </a:r>
            <a:r>
              <a:rPr b="0" lang="en-US" sz="2400" spc="-1" strike="noStrike">
                <a:solidFill>
                  <a:srgbClr val="579d1c"/>
                </a:solidFill>
                <a:latin typeface="Calibri"/>
                <a:ea typeface="Arial CYR"/>
              </a:rPr>
              <a:t>Цен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CYR"/>
              </a:rPr>
              <a:t>Общая площадь составит порядка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CYR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CYR"/>
              </a:rPr>
              <a:t> кв.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 CYR"/>
              </a:rPr>
              <a:t>Будут представлены  следующие экспози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39640" y="2878200"/>
            <a:ext cx="4383360" cy="1896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505240" y="4087800"/>
            <a:ext cx="341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825560" y="4108320"/>
            <a:ext cx="341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973080" y="4108320"/>
            <a:ext cx="341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971640" y="3327480"/>
            <a:ext cx="341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825560" y="3693960"/>
            <a:ext cx="34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909960" y="3757680"/>
            <a:ext cx="3412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460680" y="3762360"/>
            <a:ext cx="341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233360" y="4773600"/>
            <a:ext cx="852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6666"/>
                </a:solidFill>
                <a:latin typeface="Calibri"/>
              </a:rPr>
              <a:t>1 эта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724200" y="4805280"/>
            <a:ext cx="852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666666"/>
                </a:solidFill>
                <a:latin typeface="Calibri"/>
              </a:rPr>
              <a:t>2 эта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040360" y="2693880"/>
            <a:ext cx="4680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606060"/>
              </a:buClr>
              <a:buFont typeface="Calibri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Государственная полит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606060"/>
              </a:buClr>
              <a:buFont typeface="Calibri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Бытовое потреб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606060"/>
              </a:buClr>
              <a:buFont typeface="Calibri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Энергоэффективное индивидуальное строитель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606060"/>
              </a:buClr>
              <a:buFont typeface="Calibri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Энергоэффективные технологии в зданиях и на производст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606060"/>
              </a:buClr>
              <a:buFont typeface="Calibri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Энергосбережение на транспорт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606060"/>
              </a:buClr>
              <a:buFont typeface="Calibri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Энергосбережение для детей и юнош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71520" y="5856120"/>
            <a:ext cx="9348840" cy="10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 CYR"/>
              </a:rPr>
              <a:t>Планируетс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 CYR"/>
              </a:rPr>
              <a:t>отдельная презентационная зона для мобильных выставо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 CYR"/>
              </a:rPr>
              <a:t> 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 CYR"/>
              </a:rPr>
              <a:t>дополнительные современные учебные аудитор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 CYR"/>
              </a:rPr>
              <a:t> с мультимедийным оборудова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3960" y="1222200"/>
            <a:ext cx="668988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984320" y="4307040"/>
            <a:ext cx="397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167360" y="3511440"/>
            <a:ext cx="39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57080" y="755640"/>
            <a:ext cx="8680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CYR"/>
              </a:rPr>
              <a:t>По нашим оценкам реализация данного проекта позволит обеспечить подготовку по вопросам эффективного использования энерго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CYR"/>
              </a:rPr>
              <a:t>более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 CYR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CYR"/>
              </a:rPr>
              <a:t> тыс. специалис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CYR"/>
              </a:rPr>
              <a:t>в таких направлениях ка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800360" y="3240000"/>
            <a:ext cx="630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Представителей средств массовой информации.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00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Организации бюджетной сферы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500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Специалисты предприятий энергетик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00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Промышленных  предприятия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000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Представители малого и среднего бизнес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500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Проектные организаци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00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7. Строительные и монтажные предприятия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000 челове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8. Управляющие компании и ТСЖ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000 челове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9. Бытовые потребители. Населени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000 челове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60360" y="360360"/>
            <a:ext cx="8820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е, пожалуйста, по 5-балльной шка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сть мер государственной власти в отнош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тивации населения на энергосбере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700360" y="3305160"/>
            <a:ext cx="5400720" cy="335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720720" y="1800360"/>
            <a:ext cx="8299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 CYR"/>
              </a:rPr>
              <a:t>Вовлече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CYR"/>
              </a:rPr>
              <a:t>е в процесс энергосбереж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 CYR"/>
              </a:rPr>
              <a:t> всех социальных слоев населения, общественных организаций, управляющих компаний и товариществ собственников жил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3960" y="1222200"/>
            <a:ext cx="668988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984320" y="4307040"/>
            <a:ext cx="397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167360" y="3511440"/>
            <a:ext cx="39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20720" y="1576440"/>
            <a:ext cx="868032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В регионах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необходим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созд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ва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ГБУ «Центр энергоэффективных технологий»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который  на базе Центра инноваций и энергоэффективности  должен сформироват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нтр компетенции по инновационным технология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в сфере эффективного использования энергоресурсов в ТЭК, ЖКХ, промышленности, бюджетной и строительных сфер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79d1c"/>
                </a:solidFill>
                <a:latin typeface="Calibri"/>
                <a:ea typeface="Calibri"/>
              </a:rPr>
              <a:t>Задача данного центра 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создание профессионального экспертн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 развитие взаимодействия между наукой и бизнесом, ознакомление с российскими и зарубежными проектами в области энергосбережения и энергоэффективности для руководителей профильных структурных подразделений Кр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Центр должен стать технологической платформой своего ро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муникационной площадкой для взаимодействия бизнеса, науки, потребителей и государст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по вопросам модернизации и научно-технического развития в сфере эффективного использования энергоресурсов в Кра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682560" y="260280"/>
            <a:ext cx="799308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666666"/>
                </a:solidFill>
                <a:latin typeface="Calibri"/>
                <a:ea typeface="Arial"/>
              </a:rPr>
              <a:t>Функции КГБУ «Центр энергоэффективных технологий»:</a:t>
            </a:r>
            <a:r>
              <a:rPr b="1" lang="ru-RU" sz="1100" spc="-1" strike="noStrike">
                <a:solidFill>
                  <a:srgbClr val="666666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666666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6666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666666"/>
                </a:solidFill>
                <a:latin typeface="Calibri"/>
              </a:rPr>
              <a:t>) Развитие общественных связ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Организация мероприятий по пропаганде и просвещения насе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Разработка новых технологий использования СМИ для внедрения стереотипов энергоэффективного повед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Внедрение «горячей линии» по вопросам энергосбережения и энергоэффективности, синхронизация ее с федерально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Организация работы демонстрационного центра инноваций и энергоэффектив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666666"/>
                </a:solidFill>
                <a:latin typeface="Calibri"/>
              </a:rPr>
              <a:t>2) </a:t>
            </a:r>
            <a:r>
              <a:rPr b="0" lang="ru-RU" sz="1600" spc="-1" strike="noStrike">
                <a:solidFill>
                  <a:srgbClr val="666666"/>
                </a:solidFill>
                <a:latin typeface="Calibri"/>
              </a:rPr>
              <a:t>Актуализация программ по энергосбережени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Доработка региональных нормативных документов в соответствии с требованиями законода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Методическое сопровождение процесса принятия управленческих  решений органами государственной власти и местного самоуправления Красноярского края в сфере повышения эффективности использования потребителями ТЭР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Внедрения автоматизированного сбора информации по реализации программ энергоэффектив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Контроль за своевременным выполнением мероприятий указанных в муниципальных и региональной программ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Содействие в привлечении российских и иностранных инвестиций для реализации приоритетных направлений в сфере энергосбережения и повышения энергоресурсоэффектив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666666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606060"/>
                </a:solidFill>
                <a:latin typeface="Calibri"/>
              </a:rPr>
              <a:t>3) </a:t>
            </a:r>
            <a:r>
              <a:rPr b="0" lang="ru-RU" sz="1600" spc="-1" strike="noStrike">
                <a:solidFill>
                  <a:srgbClr val="606060"/>
                </a:solidFill>
                <a:latin typeface="Calibri"/>
              </a:rPr>
              <a:t>Стимулирования развития энергоэффективных технологий в кра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Разработка методик и последующая организация обучения специалистов в различных отраслях экономике кра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Содействия приобретению и использованию энергоэффективной продук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Стимулирования развития рынка повышения энергоэффективности за счет информационного обмена (Энергосервис, энергетические обследования, производство энергоэффективной продукции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Проведения экспертизы паспортов энергетических обследован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171360" algn="just">
              <a:lnSpc>
                <a:spcPct val="93000"/>
              </a:lnSpc>
              <a:spcBef>
                <a:spcPts val="774"/>
              </a:spcBef>
              <a:buClr>
                <a:srgbClr val="666666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alibri"/>
                <a:ea typeface="SimSun"/>
              </a:rPr>
              <a:t>Внедрение систем энергоменеджмента в организациях и на предприятиях-потребителях ТЭ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4702320" y="684360"/>
            <a:ext cx="1338120" cy="1206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1257480" y="3059280"/>
            <a:ext cx="8229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720720" y="1808280"/>
            <a:ext cx="82803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 базе Центра организовано обучение и пропаганда энергосбережения среди населения и организ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84120" y="3060720"/>
            <a:ext cx="9336240" cy="155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792000" y="324000"/>
            <a:ext cx="8280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579d1c"/>
                </a:solidFill>
                <a:latin typeface="Calibri"/>
              </a:rPr>
              <a:t>За </a:t>
            </a:r>
            <a:r>
              <a:rPr b="0" lang="en-US" sz="6000" spc="-1" strike="noStrike">
                <a:solidFill>
                  <a:srgbClr val="579d1c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579d1c"/>
                </a:solidFill>
                <a:latin typeface="Calibri"/>
              </a:rPr>
              <a:t> месяц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 момента открытия Центр посетило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олее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500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челове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оведено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мероприят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по пропаганде и обучению специалистов и насе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печата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олее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ублика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в различных С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ыпущено порядка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южетов на 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5120" y="5759280"/>
            <a:ext cx="9705960" cy="11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720720" y="977760"/>
            <a:ext cx="8640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579d1c"/>
                </a:solidFill>
                <a:latin typeface="Calibri"/>
                <a:ea typeface="Calibri"/>
              </a:rPr>
              <a:t>На базе Центра проводятся специа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579d1c"/>
                </a:solidFill>
                <a:latin typeface="Calibri"/>
                <a:ea typeface="Calibri"/>
              </a:rPr>
              <a:t>образовательные програм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шло обуче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в т. ч. по вопросам эффективного использования ресур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кол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человек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Центр активно взаимодействует с молодежным правительством, муниципалитетами  Кра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Подписаны соглашения о сотрудничестве с КГАОУ ДП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Краевой центр подготовки работников ЖКХ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»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КГАОУ ДП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Красноярский краевой институт повышения квалификации и профессиональной переподготовки работников образован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60360" y="5299200"/>
            <a:ext cx="9539280" cy="138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720720" y="2274840"/>
            <a:ext cx="864072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Совместно с ОО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КЭСК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»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в Центр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 CYR"/>
              </a:rPr>
              <a:t>осуществляется мониторинг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 исполнения федерального и краевого законода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 CYR"/>
              </a:rPr>
              <a:t>в сфере энергосбережен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 и эффективного использования энергоресурсов в Красноярском кра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 CYR"/>
              </a:rPr>
              <a:t>Реализуются мероприятия в рамках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 CYR"/>
              </a:rPr>
              <a:t>создания государственной информационной системы, объединяющие все организации краевого и муниципального подчи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720720" y="179280"/>
            <a:ext cx="82803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ете ли Вы что-либ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 осуществлении властями Вашего региона мероприятий п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еспечению энергоэффективности на объектах муниципальной сфер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84080" y="1763640"/>
            <a:ext cx="8575920" cy="543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453960" y="1222200"/>
            <a:ext cx="668988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984320" y="4307040"/>
            <a:ext cx="397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167360" y="3511440"/>
            <a:ext cx="39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60360" y="393840"/>
            <a:ext cx="75596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CYR"/>
              </a:rPr>
              <a:t>Как Вы считаете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 CYR"/>
              </a:rPr>
              <a:t>что меша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CYR"/>
              </a:rPr>
              <a:t> реализации политики энергосбережения и энергоэффективности?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79440" y="1841400"/>
            <a:ext cx="9325080" cy="499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3960" y="1222200"/>
            <a:ext cx="668988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984320" y="4307040"/>
            <a:ext cx="397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167360" y="3511440"/>
            <a:ext cx="39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00000" y="393840"/>
            <a:ext cx="75596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CYR"/>
              </a:rPr>
              <a:t>Согласны ли В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CYR"/>
              </a:rPr>
              <a:t> с позицией, ч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CYR"/>
              </a:rPr>
              <a:t>установка счетчи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CYR"/>
              </a:rPr>
              <a:t> тепло- и водоснабжения стимулирует население к экономии расходов ТЭ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52520" y="1440000"/>
            <a:ext cx="8727840" cy="54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53960" y="1222200"/>
            <a:ext cx="668988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1984320" y="4307040"/>
            <a:ext cx="397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167360" y="3511440"/>
            <a:ext cx="39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39640" y="720720"/>
            <a:ext cx="918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 CYR"/>
              </a:rPr>
              <a:t>Назовите, пожалуйста, какие  конкретные мероприятия Вам известны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531720" y="1967040"/>
            <a:ext cx="9009000" cy="39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9:50:29Z</dcterms:created>
  <dc:creator>Владимир</dc:creator>
  <dc:description/>
  <dc:language>en-US</dc:language>
  <cp:lastModifiedBy>rudakov</cp:lastModifiedBy>
  <cp:lastPrinted>2011-08-18T00:54:52Z</cp:lastPrinted>
  <dcterms:modified xsi:type="dcterms:W3CDTF">2011-10-10T09:18:52Z</dcterms:modified>
  <cp:revision>46</cp:revision>
  <dc:subject/>
  <dc:title>Презентация PowerPoint</dc:title>
</cp:coreProperties>
</file>