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12.jpeg" ContentType="image/jpeg"/>
  <Override PartName="/ppt/media/image34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9.jpeg" ContentType="image/jpeg"/>
  <Override PartName="/ppt/media/image2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FC90-3AA6-4F8B-B19A-1AE4895FD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TU thông qua các hoạt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độ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đà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ạo, NCKH và CGCN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đ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và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 góp phần phát triển bền vững NTTS Việt N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FE7D-B4FC-40C1-BEB6-C459059D8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8781-19A8-45CD-BEB2-222E1CC32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B668-0BA5-4858-94FC-75899579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B9AB-C4F1-444D-AA44-78A05BEF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5904-FD3A-4C66-91CB-8B961EE6E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2E75-DD6B-46D6-A65D-52C393011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7F91-0660-4218-9D81-F00C88E1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B25E-0AAD-4788-B5EF-EF9580C5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6CAD-0CD1-4E37-8B77-0E7CE55B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203A-6F0D-488B-8B0B-F529A46E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980F-FE74-40A8-8930-E4015E90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E5B7-4BE3-4D00-8A25-C10F3F94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CAD6-05D0-492D-84CC-7ED9CCAE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749D-5B53-4F47-9237-1C718F18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A68A-70D7-4E52-A15E-48155C95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153B-AD16-487C-BF82-AE68B2DC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D076-D33B-45EB-A205-9F29FDDD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05FA-50E7-4D16-9139-D1B3EA4C6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0CE1-51A1-4734-9AF4-954929EC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7F7A5-18D6-421C-874D-36CC401FD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DC80F-A9D3-402D-A7D2-51EE6B44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0C11F-AC6B-4E0D-A9DA-BF972AA8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D6189-1428-4016-B459-92EB347E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D0C1B-CAA4-4AC1-9264-FE447C55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71AE-6F1A-4EFA-8DE3-A13E0558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BC456-3BBF-47B3-B7A3-F6DF734B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6110A-5F07-4D40-A527-CA079597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06CC6-8851-4D67-B955-B0BF45BE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CC4FF-2E4B-4D01-8502-AA783CDA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EE33D-5701-4877-A8B3-3D4C0B74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63ACA-27B9-4E56-910C-A6A04B4EF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45F82-3BC4-4E3D-B98C-C8D039625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11D7B-067E-4053-AC18-A7F1D7470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EAE57-0205-4001-909E-11908161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42444-4015-4E8C-BD1F-54D4C32D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8035-83D2-495C-8660-A19C6B25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46B90-8863-4D5E-B1D7-15BA70F4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BCA50-5C54-4956-BFC1-382BAF65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4FFAC-CD6F-43E9-B03A-807903ED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84C3C-2089-4717-80FD-C28729B0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A85D6-BFCE-460F-9B2E-95E62151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6BCF5-0E66-45D2-8941-067549E9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8D1E1-5159-4902-AAE1-AA06D513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D28CE-48F7-41FE-BC37-197A3E670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B8BF0-D84E-406C-9F27-BF32AA4E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F1560-E38D-4B7E-9D19-43A26F72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9FB9-0FAE-48B0-938D-B26CF923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10334-8A7A-48FB-BD93-F1950D0C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10CF2-D908-4F9A-AA4D-EAB3A9CF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38678-D907-49C5-8D05-00B93D47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F51FA-954E-4D00-91F2-A2327F55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921A6-2045-442B-8091-A92F2F8C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92845-1438-49E4-B8C5-C4B119AA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7A7ED-EE04-4B27-9D13-DCA7FD83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DFCAD-733A-4D06-8C95-919015A8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662E4-9B31-43DE-9B1C-2E82FFCB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21E46-F8CC-440B-ACEB-639946F3D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7577-96A1-487B-80C4-CE4B0FB9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2CE4A-755C-4E9A-BF4D-0861B191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E4B8-EEC6-4792-AAD1-75D56017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F76A-3ADB-4A6E-8F2F-B004BD85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B2AF-FB1D-419B-A846-E2B44009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566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DCB5-8B6E-40B8-A704-DF5E03A7A300}" type="slidenum">
              <a:rPr b="0" lang="en-US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1f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3B40-B9A9-43E4-8FA5-D59113AE8279}" type="slidenum">
              <a:rPr b="0" lang="en-US" sz="1200" spc="-1" strike="noStrike">
                <a:solidFill>
                  <a:srgbClr val="cce1f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1f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9001-F69D-4EF5-93D7-DAF8A2B7DCDC}" type="slidenum">
              <a:rPr b="0" lang="en-US" sz="1200" spc="-1" strike="noStrike">
                <a:solidFill>
                  <a:srgbClr val="cce1f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566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CF60-BC19-41C2-AF54-3CB451E678F1}" type="slidenum">
              <a:rPr b="0" lang="en-US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E43D-721D-423A-8224-9046798E4250}" type="slidenum">
              <a:rPr b="0" lang="en-US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hyperlink" Target="http://vi.wikipedia.org/wiki/T&#7853;p_tin:Cobia_fingerlings.jpg" TargetMode="External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tintucvietnam.vn/stores/news_dataimages/afamily/012014/20/07/nam-dinh-lang-nuoi-ca-chep-do-tat-bat-truoc-ngay-tien-tao-quan-ve-troi20140121143741.2639800.jpg" TargetMode="External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hyperlink" Target="http://www.vatgia.com/raovat_pictures/1/gua1342060129.jpg" TargetMode="External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hyperlink" Target="https://ccresaquaponics.files.wordpress.com/2012/12/ccresspirulina023.jpg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itle 1" descr=""/>
          <p:cNvPicPr/>
          <p:nvPr/>
        </p:nvPicPr>
        <p:blipFill>
          <a:blip r:embed="rId1"/>
          <a:stretch/>
        </p:blipFill>
        <p:spPr>
          <a:xfrm>
            <a:off x="530280" y="596880"/>
            <a:ext cx="7785000" cy="11350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380880" y="1828800"/>
            <a:ext cx="8382240" cy="13716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ОЙЧИВОЕ РАЗВИТИЕ АКВАКУЛЬТУРЫ ВО ВЬЕТНАМЕ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STAINABLE DEVELOPMENT OF AQUACULTURE IN VIETNAM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4" name="Picture 4" descr="image"/>
          <p:cNvPicPr/>
          <p:nvPr/>
        </p:nvPicPr>
        <p:blipFill>
          <a:blip r:embed="rId2"/>
          <a:stretch/>
        </p:blipFill>
        <p:spPr>
          <a:xfrm>
            <a:off x="152280" y="3352680"/>
            <a:ext cx="4267440" cy="31989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http://www.vishipel.com.vn/images/uploads/images/nuoicalong.jpg"/>
          <p:cNvPicPr/>
          <p:nvPr/>
        </p:nvPicPr>
        <p:blipFill>
          <a:blip r:embed="rId3"/>
          <a:stretch/>
        </p:blipFill>
        <p:spPr>
          <a:xfrm>
            <a:off x="4419720" y="3352680"/>
            <a:ext cx="4572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КЛЮЧЕВЫЕ НАУЧНО-ИССЛЕДОВАТЕЛЬСКИЕ ПРОЕКТЫ</a:t>
            </a:r>
            <a:br>
              <a:rPr sz="2800"/>
            </a:br>
            <a:r>
              <a:rPr b="1" lang="en-US" sz="1800" spc="-1" strike="noStrike">
                <a:solidFill>
                  <a:srgbClr val="cc0000"/>
                </a:solidFill>
                <a:latin typeface="Calibri"/>
              </a:rPr>
              <a:t>KEY COMPLETE RESEARCH PROJECTS</a:t>
            </a:r>
            <a:r>
              <a:rPr b="1" lang="ru-RU" sz="18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89913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46320" indent="-346320"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сследование ихтиофтириоза у культивируемой тигровой креветки (Penaeus monodon) в провинции Кханьхоа.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Study on white spot disease in  cultured tiger shrimp (</a:t>
            </a:r>
            <a:r>
              <a:rPr b="0" i="1" lang="en-US" sz="1400" spc="-1" strike="noStrike">
                <a:solidFill>
                  <a:srgbClr val="000000"/>
                </a:solidFill>
                <a:latin typeface="Constantia"/>
              </a:rPr>
              <a:t>Penaeus monodon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) in Khanh Hoa province.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46320" indent="-346320">
              <a:lnSpc>
                <a:spcPct val="105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епродуктивная биология и плодовитость сердцевидки (Andra granosa).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The reproductive biology and seed production of blood cockle (Andra granosa).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46320" indent="-346320">
              <a:lnSpc>
                <a:spcPct val="105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епродуктивная биология и плодовитость морского гребешка 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(Comptopallium radula)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The reproductive biology and seed production of scallop (Comptopallium radula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46320" indent="-346320">
              <a:lnSpc>
                <a:spcPct val="105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сследование популяции микроводорослей в окультуренных прудах креветок в Центральном Вьетнаме.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Survey on microalgae population in shrimp cultured ponds in central Vietnam.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46320" indent="-346320">
              <a:lnSpc>
                <a:spcPct val="105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епродуктивная биология и плодовитость Thenus orientalis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The reproductive biology and seed production of Thenus orientali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46320" indent="-346320">
              <a:lnSpc>
                <a:spcPct val="105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лодовитость и культивирование песчаного окуня (Psammoperca waigiensis)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Seed production and culture of sand bass (</a:t>
            </a:r>
            <a:r>
              <a:rPr b="0" i="1" lang="en-US" sz="1400" spc="-1" strike="noStrike">
                <a:solidFill>
                  <a:srgbClr val="000000"/>
                </a:solidFill>
                <a:latin typeface="Constantia"/>
              </a:rPr>
              <a:t>Psammoperca waigiensis)</a:t>
            </a:r>
            <a:r>
              <a:rPr b="0" i="1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46320" indent="-346320">
              <a:lnSpc>
                <a:spcPct val="105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домашнивание и культивирование пангасиевых сомов tra и basa (Pangasiid) в Центральном Вьетнаме.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Domestication and culture of Tra and Basa catfish (Pangasiid) in Central Vietnam.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87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ТЕКУЩИЕ НАУЧНО-ИССЛЕДОВАТЕЛЬСКИЕ ПРОЕКТЫ</a:t>
            </a:r>
            <a:br>
              <a:rPr sz="2800"/>
            </a:br>
            <a:r>
              <a:rPr b="1" lang="en-US" sz="1800" spc="-1" strike="noStrike">
                <a:solidFill>
                  <a:srgbClr val="cc0000"/>
                </a:solidFill>
                <a:latin typeface="Calibri"/>
              </a:rPr>
              <a:t>ON-GOING RESEARCH PROJECTS</a:t>
            </a:r>
            <a:endParaRPr b="0" lang="en-US" sz="18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8840" indent="-438840"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епродуктивная биология и плодовитость красного люциана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Lutjanus argentimaculatus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The reproductive biology and seed production of snapper 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Constantia"/>
              </a:rPr>
              <a:t>Lutjanus argentimaculatus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пределение пищевых потребностей и производства рецептированного корма для настоящего лангуста.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Identification of nutritional requirements and producing formulated feed for spiny lobster.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сследование общих заболеваний в культивируемых морских рыбных объектах в провинции Кханьхоа и методов лечения.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Survey on common disease in cultured marine finfish in Khanh Hoa province and treatment methods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ищевые потребности кобии (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Rachycentron canadum)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на этапе мальков.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Nutritional requirements of Cobia (Rachycentron canadum) at fingerling stage.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ультивирование артемии для сбора биомассы и икры в соленосной площади г. Камрань.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Artemia culture for biomass and egg collection in Cam Ranh salt-field.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епродуктивная биология и семенная продуктивность сигана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Siganus guttatus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)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The reproductive biology and seed production of rabbit fish (Siganus guttatus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епродуктивная биология и плодовитость pompoanose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The reproductive biology and seed production of pompoanose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риоконсервация молоков морских рыбных объектов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Cryopreservation on marine finfish seme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0">
              <a:lnSpc>
                <a:spcPct val="10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0">
              <a:lnSpc>
                <a:spcPct val="10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0440" y="-139680"/>
            <a:ext cx="87631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Calibri"/>
              </a:rPr>
              <a:t>МЕЖДУНАРОДНОЕ СОТРУДНИЧЕСТВО </a:t>
            </a:r>
            <a:r>
              <a:rPr b="1" lang="en-US" sz="1800" spc="-1" strike="noStrike">
                <a:solidFill>
                  <a:srgbClr val="cc0000"/>
                </a:solidFill>
                <a:latin typeface="Calibri"/>
              </a:rPr>
              <a:t>INTERNATIONAL</a:t>
            </a:r>
            <a:r>
              <a:rPr b="1" lang="ru-RU" sz="18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Calibri"/>
              </a:rPr>
              <a:t>COLLABORATION</a:t>
            </a:r>
            <a:endParaRPr b="0" lang="en-US" sz="18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0" y="347760"/>
          <a:ext cx="9144000" cy="6318000"/>
        </p:xfrm>
        <a:graphic>
          <a:graphicData uri="http://schemas.openxmlformats.org/drawingml/2006/table">
            <a:tbl>
              <a:tblPr/>
              <a:tblGrid>
                <a:gridCol w="5791320"/>
                <a:gridCol w="2590560"/>
                <a:gridCol w="76212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качества научно-исследовательской и образовательной деятельности в обл. Морской аквакультур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ing research and training capacity in Marine Aquacul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F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орвежская программа развития науки и образования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7 – 200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качества образовательной и научно-исследовательской деятельности Факультета аквакультур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ing training and research capacity of Faculty of Aquacul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NIDA (through AI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атское агентство межд. развития) (через Азиатский институт технологи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8 – 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ие культивируемых видов груперов в промышленных масштабах во Вьетнам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entification of commercially cultivated grouper species in Vietn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FID through Stirling University (U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 межд. развития Великобритании через Университет Стирлинга (Великобритания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9 - 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 рыболовных сообществ, обеспечиваемый путем развития устойчивой Аквакультур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ome for fishing communities ensured by developing sustainable Aquacul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встрал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 - 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мотрение и оценка причин экологической деградации и снижения ресурсов в Лагуне Най, провинции Ниньтхуа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dress and assess the causes of environmental degradation and resource decline at Nai Lagoon, Ninh Thuan provi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RC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ada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д. научно-исследовательский центр развития (Канад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 - 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еские рекомендации по экологической оценке и распределительной способности аквакультуры во Вьетнам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ctical guidelines of environmental assessment and allocation capacity of aquaculture in Vietn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FID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. межд. развития Великобритании через Университет Стирлинга (Великобритания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2 - 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способности Факультета аквакультуры и Университета Нячанг улучшать качество базового высшего образования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hancing capacity of Aquaculture Faculty and Nha Trang University to improve the undergraduate education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itish Counc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танский Сов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 -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качества научно-исследовательской и образовательной деятельности Университета Нячанг и Факультета аквакультуры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ing research and training capacity of Nha Trang University and Faculty of Aquacul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AD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Norwa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вежское агентство по сотрудничеству в целях развития (Норвегия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 - 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Профилактика заболеваний и лечение</a:t>
            </a:r>
            <a:br>
              <a:rPr sz="3200"/>
            </a:br>
            <a:r>
              <a:rPr b="1" lang="en-US" sz="24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Diseases prevention and treatment</a:t>
            </a:r>
            <a:r>
              <a:rPr b="1" lang="ru-RU" sz="24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52280" y="1371240"/>
            <a:ext cx="88394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ногая креветка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itopenaeus vannamei)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черная тигровая креветка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 monodon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 leg shrimp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itopenaeus vannamei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Black tiger shrimp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 monodon)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паразиты, как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kinsus sp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, monogenia Capsalida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site such as Perkinsus spp., monogenia Capsalida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цинация морского окун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ccination for seabas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1" name="Picture 5" descr="thủy sản bệnh nhiễm khuẩn aeromonas"/>
          <p:cNvPicPr/>
          <p:nvPr/>
        </p:nvPicPr>
        <p:blipFill>
          <a:blip r:embed="rId1"/>
          <a:stretch/>
        </p:blipFill>
        <p:spPr>
          <a:xfrm>
            <a:off x="4967280" y="3962520"/>
            <a:ext cx="3795840" cy="28191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tôm càng xanh bênh nhiễm khuẩn aeromonas"/>
          <p:cNvPicPr/>
          <p:nvPr/>
        </p:nvPicPr>
        <p:blipFill>
          <a:blip r:embed="rId2"/>
          <a:stretch/>
        </p:blipFill>
        <p:spPr>
          <a:xfrm>
            <a:off x="914400" y="3962520"/>
            <a:ext cx="39243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Barramundi_Lates%20calcarifer"/>
          <p:cNvPicPr/>
          <p:nvPr/>
        </p:nvPicPr>
        <p:blipFill>
          <a:blip r:embed="rId1"/>
          <a:stretch/>
        </p:blipFill>
        <p:spPr>
          <a:xfrm>
            <a:off x="4267080" y="1523880"/>
            <a:ext cx="3721320" cy="1676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Trachinotus blochii2.jpg"/>
          <p:cNvPicPr/>
          <p:nvPr/>
        </p:nvPicPr>
        <p:blipFill>
          <a:blip r:embed="rId2"/>
          <a:stretch/>
        </p:blipFill>
        <p:spPr>
          <a:xfrm>
            <a:off x="0" y="4354560"/>
            <a:ext cx="3657600" cy="1913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Достижения </a:t>
            </a:r>
            <a:r>
              <a:rPr b="1" lang="en-US" sz="22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Achievements</a:t>
            </a:r>
            <a:endParaRPr b="0" lang="en-US" sz="22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371240"/>
            <a:ext cx="327816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nstantia"/>
              </a:rPr>
              <a:t>Морская рыба </a:t>
            </a:r>
            <a:r>
              <a:rPr b="1" lang="en-US" sz="1600" spc="-1" strike="noStrike">
                <a:solidFill>
                  <a:srgbClr val="0070c0"/>
                </a:solidFill>
                <a:latin typeface="Constantia"/>
              </a:rPr>
              <a:t>Marine fish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орской окунь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eabas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обия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obi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mpano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иган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Rabbit fish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7" name="Picture 10" descr="http://dnulib.edu.vn:1025/collect/bstcvdbs/index/assoc/HASH0c4b.dir/400x4.png"/>
          <p:cNvPicPr/>
          <p:nvPr/>
        </p:nvPicPr>
        <p:blipFill>
          <a:blip r:embed="rId3"/>
          <a:stretch/>
        </p:blipFill>
        <p:spPr>
          <a:xfrm>
            <a:off x="6324480" y="40384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2" descr="http://upload.wikimedia.org/wikipedia/commons/thumb/d/d3/Cobia_fingerlings.jpg/220px-Cobia_fingerlings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05320" y="4038480"/>
            <a:ext cx="2741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Достижения </a:t>
            </a:r>
            <a:r>
              <a:rPr b="1" lang="en-US" sz="26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Achievements</a:t>
            </a:r>
            <a:endParaRPr b="0" lang="en-US" sz="2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09480" y="1371240"/>
            <a:ext cx="411480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есноводная рыба 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reshwater fish</a:t>
            </a:r>
            <a:r>
              <a:rPr b="1" lang="en-US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</a:t>
            </a: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лапи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lapi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п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p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гасиус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gaseu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1" name="Picture 2" descr="cá chạch sụn"/>
          <p:cNvPicPr/>
          <p:nvPr/>
        </p:nvPicPr>
        <p:blipFill>
          <a:blip r:embed="rId1"/>
          <a:stretch/>
        </p:blipFill>
        <p:spPr>
          <a:xfrm>
            <a:off x="5257800" y="1371600"/>
            <a:ext cx="3657600" cy="29257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Nam Định: làng nuôi cá chép đỏ tất bật trước ngày tiễn táo quân về trời 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4206960"/>
            <a:ext cx="3673440" cy="26510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0" descr="http://nongnghiep.vn/Upload/Image/2009/8/10/langvnag.bmp"/>
          <p:cNvPicPr/>
          <p:nvPr/>
        </p:nvPicPr>
        <p:blipFill>
          <a:blip r:embed="rId4"/>
          <a:stretch/>
        </p:blipFill>
        <p:spPr>
          <a:xfrm>
            <a:off x="1187280" y="3825720"/>
            <a:ext cx="403884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Достижения </a:t>
            </a:r>
            <a:r>
              <a:rPr b="1" lang="en-US" sz="26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Achievements</a:t>
            </a:r>
            <a:endParaRPr b="0" lang="en-US" sz="2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35" name="Content Placeholder 2"/>
          <p:cNvSpPr/>
          <p:nvPr/>
        </p:nvSpPr>
        <p:spPr>
          <a:xfrm>
            <a:off x="533520" y="1371600"/>
            <a:ext cx="4572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nstantia"/>
              </a:rPr>
              <a:t>Панцерные </a:t>
            </a:r>
            <a:r>
              <a:rPr b="1" lang="en-US" sz="2000" spc="-1" strike="noStrike">
                <a:solidFill>
                  <a:srgbClr val="0070c0"/>
                </a:solidFill>
                <a:latin typeface="Constantia"/>
              </a:rPr>
              <a:t>Crustation</a:t>
            </a:r>
            <a:r>
              <a:rPr b="1" lang="en-US" sz="2600" spc="-1" strike="noStrike">
                <a:solidFill>
                  <a:srgbClr val="0070c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nod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anname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мар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ob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рупный съедобный краб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Mud cr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1" descr="155_5536"/>
          <p:cNvPicPr/>
          <p:nvPr/>
        </p:nvPicPr>
        <p:blipFill>
          <a:blip r:embed="rId1"/>
          <a:stretch/>
        </p:blipFill>
        <p:spPr>
          <a:xfrm>
            <a:off x="5257800" y="1955880"/>
            <a:ext cx="3733920" cy="23875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" descr=""/>
          <p:cNvPicPr/>
          <p:nvPr/>
        </p:nvPicPr>
        <p:blipFill>
          <a:blip r:embed="rId2"/>
          <a:stretch/>
        </p:blipFill>
        <p:spPr>
          <a:xfrm>
            <a:off x="685800" y="4343400"/>
            <a:ext cx="2819520" cy="23623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http://www.vatgia.com/raovat_pictures/1l/larger_gua1342060129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5320" y="4343400"/>
            <a:ext cx="3124080" cy="23623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http://3.bp.blogspot.com/-Rsa8Z5-7NV0/T-1Q-5-89pI/AAAAAAAAF8M/OaxuVa2KBS0/s400/nuoi%2Btom%2Bhum.jpg"/>
          <p:cNvPicPr/>
          <p:nvPr/>
        </p:nvPicPr>
        <p:blipFill>
          <a:blip r:embed="rId5"/>
          <a:stretch/>
        </p:blipFill>
        <p:spPr>
          <a:xfrm>
            <a:off x="6400800" y="4343400"/>
            <a:ext cx="2666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56840" y="1447560"/>
            <a:ext cx="33526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nstantia"/>
              </a:rPr>
              <a:t>Моллюски </a:t>
            </a:r>
            <a:r>
              <a:rPr b="1" lang="en-US" sz="2000" spc="-1" strike="noStrike">
                <a:solidFill>
                  <a:srgbClr val="0070c0"/>
                </a:solidFill>
                <a:latin typeface="Constantia"/>
              </a:rPr>
              <a:t>Mollusks</a:t>
            </a:r>
            <a:r>
              <a:rPr b="1" lang="en-US" sz="2600" spc="-1" strike="noStrike">
                <a:solidFill>
                  <a:srgbClr val="0070c0"/>
                </a:solidFill>
                <a:latin typeface="Constantia"/>
              </a:rPr>
              <a:t>:</a:t>
            </a:r>
            <a:r>
              <a:rPr b="1" lang="ru-RU" sz="26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ердцевидка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Blood cockle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енерка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Hard clam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Устрицы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Oyster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Достижения </a:t>
            </a:r>
            <a:r>
              <a:rPr b="1" lang="en-US" sz="26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Achievements</a:t>
            </a:r>
            <a:endParaRPr b="0" lang="en-US" sz="2600" spc="-1" strike="noStrike">
              <a:solidFill>
                <a:srgbClr val="4e5b6f"/>
              </a:solidFill>
              <a:latin typeface="Calibri"/>
            </a:endParaRPr>
          </a:p>
        </p:txBody>
      </p:sp>
      <p:pic>
        <p:nvPicPr>
          <p:cNvPr id="342" name="Picture 6" descr="http://quangyen.vn/UserFiles/RadEditor/News/Images/OtherSite/559Tu-hai.jpg"/>
          <p:cNvPicPr/>
          <p:nvPr/>
        </p:nvPicPr>
        <p:blipFill>
          <a:blip r:embed="rId1"/>
          <a:stretch/>
        </p:blipFill>
        <p:spPr>
          <a:xfrm>
            <a:off x="3908520" y="1523880"/>
            <a:ext cx="2562120" cy="19814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http://dulichdaocatba.com/upload/sohuyet1.jpg"/>
          <p:cNvPicPr/>
          <p:nvPr/>
        </p:nvPicPr>
        <p:blipFill>
          <a:blip r:embed="rId2"/>
          <a:stretch/>
        </p:blipFill>
        <p:spPr>
          <a:xfrm>
            <a:off x="5257800" y="4114800"/>
            <a:ext cx="3733920" cy="25146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http://ntu.edu.vn/Portals/56/Khoa%20NTTS/Hinh%20tin%20tuc/khsv2.png"/>
          <p:cNvPicPr/>
          <p:nvPr/>
        </p:nvPicPr>
        <p:blipFill>
          <a:blip r:embed="rId3"/>
          <a:stretch/>
        </p:blipFill>
        <p:spPr>
          <a:xfrm>
            <a:off x="609480" y="4114800"/>
            <a:ext cx="4491000" cy="25146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2" descr="http://kinhteht.vcmedia.vn/Images/Uploaded/Share/2009/12/16/12-.JPG"/>
          <p:cNvPicPr/>
          <p:nvPr/>
        </p:nvPicPr>
        <p:blipFill>
          <a:blip r:embed="rId4"/>
          <a:stretch/>
        </p:blipFill>
        <p:spPr>
          <a:xfrm>
            <a:off x="6481800" y="1523880"/>
            <a:ext cx="25351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Достижения</a:t>
            </a:r>
            <a:r>
              <a:rPr b="1" lang="ru-RU" sz="48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Achievements</a:t>
            </a:r>
            <a:endParaRPr b="0" lang="en-US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38120" y="1492200"/>
            <a:ext cx="5276880" cy="21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мовая рецептура для настоящего лангуст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 formulation for spiny lobster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водоросли и зоопланктон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algae and zooplankton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8" name="Picture 6" descr="Tảo được nuôi trồng trong hộp nhựa (Ảnh: Tepbac.com)"/>
          <p:cNvPicPr/>
          <p:nvPr/>
        </p:nvPicPr>
        <p:blipFill>
          <a:blip r:embed="rId1"/>
          <a:stretch/>
        </p:blipFill>
        <p:spPr>
          <a:xfrm>
            <a:off x="762120" y="37339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2" descr="copepoda"/>
          <p:cNvPicPr/>
          <p:nvPr/>
        </p:nvPicPr>
        <p:blipFill>
          <a:blip r:embed="rId2"/>
          <a:stretch/>
        </p:blipFill>
        <p:spPr>
          <a:xfrm>
            <a:off x="4648320" y="3733920"/>
            <a:ext cx="4114800" cy="28810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https://ccresaquaponics.files.wordpress.com/2012/12/ccresspirulina023.jpg?w=450&amp;h=36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8380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5640" y="228600"/>
            <a:ext cx="876276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СТАНЦИИ ИССЛЕДОВАНИЯ </a:t>
            </a:r>
            <a:r>
              <a:rPr b="1" lang="en-US" sz="20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RESEARCH STATIONS</a:t>
            </a:r>
            <a:endParaRPr b="0" lang="en-US" sz="2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762120"/>
            <a:ext cx="5257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ция пресноводных исследований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shwater research st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8 h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ция морских исследований (г. Камрань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ine research statio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26 ha (Cam Ranh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ция морских садков (Залив Нячанг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cage station (Nha Trang bay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3" name="Picture 2" descr="C:\Users\user\Desktop\Camranh.png"/>
          <p:cNvPicPr/>
          <p:nvPr/>
        </p:nvPicPr>
        <p:blipFill>
          <a:blip r:embed="rId1"/>
          <a:stretch/>
        </p:blipFill>
        <p:spPr>
          <a:xfrm>
            <a:off x="5445000" y="1828800"/>
            <a:ext cx="3546720" cy="48690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C:\Users\user\Desktop\Vien NTTS\Ninh Phung.png"/>
          <p:cNvPicPr/>
          <p:nvPr/>
        </p:nvPicPr>
        <p:blipFill>
          <a:blip r:embed="rId2"/>
          <a:stretch/>
        </p:blipFill>
        <p:spPr>
          <a:xfrm>
            <a:off x="1204920" y="4340160"/>
            <a:ext cx="41911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ЕМ МЫ ЗАНИМАЕМСЯ </a:t>
            </a:r>
            <a:br>
              <a:rPr sz="2600"/>
            </a:br>
            <a:r>
              <a:rPr b="1" lang="en-US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HAT WE DO</a:t>
            </a:r>
            <a:endParaRPr b="0" lang="en-US" sz="1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44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кадров в сфере аквакультуры для Вьетнама, Лаоса и Камбодж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cating human resources in aquaculture for Vietnam and for Laos and Combodi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о-технический обмен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and technology transfer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о (питомников и рыбоводных заводов)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on (growth out and hatcheries)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5" descr="E:\Photo\Tot nghiep K51 2913\DSC_0094.JPG"/>
          <p:cNvPicPr/>
          <p:nvPr/>
        </p:nvPicPr>
        <p:blipFill>
          <a:blip r:embed="rId1"/>
          <a:stretch/>
        </p:blipFill>
        <p:spPr>
          <a:xfrm>
            <a:off x="457200" y="3733920"/>
            <a:ext cx="4248000" cy="29718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9" descr="http://www.thefishsite.com/slir/w280/imagelib/85_fishfarmfebsized.jpg"/>
          <p:cNvPicPr/>
          <p:nvPr/>
        </p:nvPicPr>
        <p:blipFill>
          <a:blip r:embed="rId2"/>
          <a:stretch/>
        </p:blipFill>
        <p:spPr>
          <a:xfrm>
            <a:off x="4648320" y="3733920"/>
            <a:ext cx="4190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240" y="7621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МЫ ГОТОВЫ СОТРУДНИЧАТЬ ПО СЛЕДУЮЩИМ НАПРАВЛЕНИЯМ </a:t>
            </a:r>
            <a:br>
              <a:rPr sz="25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TIVITIES WE LOOK FORWAR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 COLLABORATING WITH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52280" y="175212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380520" indent="-380520">
              <a:lnSpc>
                <a:spcPct val="13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ЕНЫ СТУДЕНТАМИ И ПРЕПОДАВАТЕЛЯМ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 and STAFF EXCHANG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80520" indent="-380520">
              <a:lnSpc>
                <a:spcPct val="13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ЕРСКИЕ И КАНДИДАТСКИЕ ПРОГРАММЫ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c and PhD TRAINING COLLABORATIO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80520" indent="-380520">
              <a:lnSpc>
                <a:spcPct val="13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СРОЧНЫЕ ОБРАЗОВАТЕЛЬНЫЕ КУРСЫ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TRAINING COURSES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80520" indent="-380520">
              <a:lnSpc>
                <a:spcPct val="13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ПРОИЗВОДСТВО</a:t>
            </a:r>
            <a:br>
              <a:rPr sz="2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ON COOPERATIO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80520" indent="-380520">
              <a:lnSpc>
                <a:spcPct val="13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ИЕ ПРОЕКТЫ</a:t>
            </a:r>
            <a:br>
              <a:rPr sz="2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PROJECTS COLLABORATIO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80520" indent="-380520">
              <a:lnSpc>
                <a:spcPct val="13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Номер слайд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9EF2-6AD7-462B-8A30-2BD8F6A705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6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Спасибо за внимание</a:t>
            </a:r>
            <a:r>
              <a:rPr b="1" i="1" lang="en-US" sz="5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!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59" name="Номер слайд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53F6-EE80-4DBF-BF2A-7EFBF362E0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704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5b6f"/>
                </a:solidFill>
                <a:latin typeface="Calibri"/>
              </a:rPr>
              <a:t>Институт аквакультуры (ранее Факультет аквакультуры) </a:t>
            </a:r>
            <a:r>
              <a:rPr b="1" lang="nb-NO" sz="2000" spc="-1" strike="noStrike">
                <a:solidFill>
                  <a:srgbClr val="4e5b6f"/>
                </a:solidFill>
                <a:latin typeface="Calibri"/>
              </a:rPr>
              <a:t>Institute of Aquaculture (formerly Faculty of Aquaculture)</a:t>
            </a:r>
            <a:endParaRPr b="0" lang="en-US" sz="2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935000"/>
            <a:ext cx="861048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607680" indent="-233280">
              <a:spcBef>
                <a:spcPts val="601"/>
              </a:spcBef>
              <a:spcAft>
                <a:spcPts val="601"/>
              </a:spcAft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Ведущее учреждение по подготовке кадров для сектора рыбных хозяйств и аквакультуры Вьетнама на протяжении 55 лет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A leading institution in training human resources for fisheries and aquaculture sectors in Vietnam for 55 year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spcAft>
                <a:spcPts val="601"/>
              </a:spcAft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Кадры: 50 человек преподавательского состава и 10 технических специалистов </a:t>
            </a:r>
            <a:r>
              <a:rPr b="0" lang="nb-NO" sz="1600" spc="-1" strike="noStrike">
                <a:solidFill>
                  <a:srgbClr val="000000"/>
                </a:solidFill>
                <a:latin typeface="Constantia"/>
              </a:rPr>
              <a:t>Humans resource: 50 teaching staff  and 10 technitian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spcAft>
                <a:spcPts val="601"/>
              </a:spcAft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Образовательная деятельность: степень бакалавра и ученые степени по специальностям Аквакультура, Ветеренария, Менеджмент в сфере водных ресурсов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nb-NO" sz="1600" spc="-1" strike="noStrike">
                <a:solidFill>
                  <a:srgbClr val="000000"/>
                </a:solidFill>
                <a:latin typeface="Constantia"/>
              </a:rPr>
              <a:t>Educational activity: training undergraduate and graduate degrees in Aquaculture, Fish Health, Aquatic resource Management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spcAft>
                <a:spcPts val="601"/>
              </a:spcAft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Область научного интереса</a:t>
            </a:r>
            <a:r>
              <a:rPr b="0" lang="nb-NO" sz="19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морские и пресноводные аквакультуры</a:t>
            </a:r>
            <a:r>
              <a:rPr b="0" lang="nb-NO" sz="19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размножение</a:t>
            </a:r>
            <a:r>
              <a:rPr b="0" lang="nb-NO" sz="19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патология рыб</a:t>
            </a:r>
            <a:r>
              <a:rPr b="0" lang="nb-NO" sz="19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питание и выкармливание аквакультур</a:t>
            </a:r>
            <a:r>
              <a:rPr b="0" lang="nb-NO" sz="19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управление водными ресурсами </a:t>
            </a:r>
            <a:r>
              <a:rPr b="0" lang="nb-NO" sz="1600" spc="-1" strike="noStrike">
                <a:solidFill>
                  <a:srgbClr val="000000"/>
                </a:solidFill>
                <a:latin typeface="Constantia"/>
              </a:rPr>
              <a:t>Research activity: marine and freshwater aquaculture, reproduction, fish pathology, nutrion and feed in aquaculture, aquatic resource management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alibri"/>
              </a:rPr>
              <a:t>TRAINING CAPACITY</a:t>
            </a:r>
            <a:br>
              <a:rPr sz="3600"/>
            </a:b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cc0000"/>
                </a:solidFill>
                <a:latin typeface="Calibri"/>
              </a:rPr>
              <a:t>ОБРАЗОВАТЕЛЬНАЯ ДЕЯТЕЛЬНОСТЬ</a:t>
            </a:r>
            <a:endParaRPr b="0" lang="en-US" sz="1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228600" y="457200"/>
            <a:ext cx="891540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СПИРАНТУР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DU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КТОРСКИЕ ПРОГРАММЫ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CTORAL PROGRAM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СНОВОДНАЯ АКВАКУЛЬТУР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SHWATER AQUACULTUR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СКАЯ АКВАКУЛЬТУР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INE AQUACULTURE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         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ОЛЖИТЕЛЬНОСТЬ КУРСА: 4 ГО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URSE DURATION: 4 Y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ГИСТЕРСКАЯ ПРОГРАММА В ОБЛАСТИ АКВАКУЛЬТУР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STER PROGRAM IN AQUACULTURE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    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               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ОЛЖИТЕЛЬНОСТЬ КУРСА: 2 ГО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URSE DURATION: 2 Y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АГАЕМАЯ СТЕПЕНЬ: МАГИСТР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 OFFERED: MASTER’S DEG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КАЛАВРИАТ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DERGRADU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Ы БАКАЛАВРИАТ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HELOR PROGRAM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ВАКУЛЬТУР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QUA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НЕДЖМЕНТ В СФЕРЕ ВОДНОЙ СРЕД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QUATIC ENVIRONMENT MANAGEMEN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ТОЛОГИЯ РЫБ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SH PATHOLOGY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ОЛЖИТЕЛЬНОСТЬ КУРСА: 4 ГОД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URSE DURATION: 4 Y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АГАЕМАЯ СТЕПЕНЬ: БАКАЛАВР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 OFFERED: BACHELOR DEG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3"/>
          <p:cNvSpPr/>
          <p:nvPr/>
        </p:nvSpPr>
        <p:spPr>
          <a:xfrm>
            <a:off x="228600" y="1066680"/>
            <a:ext cx="81532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АСПИРАНТСКИЕ ПРОГРАММЫ: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КУРСОВАЯ РАБОТА И ДИССЕРТА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nstantia"/>
              </a:rPr>
              <a:t>PhD PROGRAM: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OURSE WORK &amp; TH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МАГИСТЕРСКАЯ ПРОГРАММА </a:t>
            </a:r>
            <a:r>
              <a:rPr b="1" lang="en-US" sz="1400" spc="-1" strike="noStrike">
                <a:solidFill>
                  <a:srgbClr val="0000ff"/>
                </a:solidFill>
                <a:latin typeface="Constantia"/>
              </a:rPr>
              <a:t>MSc. PROGRAM 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БЯЗАТЕЛЬНЫЕ ЗАЧЕТНЫЕ ЕДИНИЦЫ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REDITS REQUIRED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 45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УРСОВАЯ РАБОТА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OURSE WORK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 30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РЕДИТНЫХ ЕДИНИЦ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REDITS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ИССЕРТАЦИЯ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ESIS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 15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РЕДИТНЫХ ЕДИНИЦ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REDITS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ПРОГРАММА БАКАЛАВРИАТ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nstantia"/>
              </a:rPr>
              <a:t>BSc. PROGRAM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БЯЗАТЕЛЬНЫЕ ЗАЧЕТ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ЕДИНИЦЫ (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REDITS REQUIRED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 1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http://ntu.edu.vn/Portals/0/Images/Rwanda%20(2).JPG"/>
          <p:cNvPicPr/>
          <p:nvPr/>
        </p:nvPicPr>
        <p:blipFill>
          <a:blip r:embed="rId1"/>
          <a:stretch/>
        </p:blipFill>
        <p:spPr>
          <a:xfrm>
            <a:off x="5638680" y="3979800"/>
            <a:ext cx="342900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6" descr="http://emuniv.com/Cms_Data/Contents/admin_emuniv/Media/bai%20viet/vaxin_tucung.jpg"/>
          <p:cNvPicPr/>
          <p:nvPr/>
        </p:nvPicPr>
        <p:blipFill>
          <a:blip r:embed="rId1"/>
          <a:stretch/>
        </p:blipFill>
        <p:spPr>
          <a:xfrm>
            <a:off x="5502240" y="1447920"/>
            <a:ext cx="3641760" cy="27432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Исследовательская деятельность</a:t>
            </a:r>
            <a:br>
              <a:rPr sz="3000"/>
            </a:br>
            <a:r>
              <a:rPr b="1" lang="en-US" sz="20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Research capacity</a:t>
            </a:r>
            <a:r>
              <a:rPr b="1" lang="ru-RU" sz="20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52280" y="1371600"/>
            <a:ext cx="5486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еподавательский состав и персонал, научные сотрудники </a:t>
            </a:r>
            <a:r>
              <a:rPr b="1" lang="en-US" sz="1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aculty and staff, researchers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87480" indent="306360">
              <a:lnSpc>
                <a:spcPct val="100000"/>
              </a:lnSpc>
              <a:spcBef>
                <a:spcPts val="45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% сотрудников – аспирант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 graduated holder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7480" indent="306360">
              <a:lnSpc>
                <a:spcPct val="100000"/>
              </a:lnSpc>
              <a:spcBef>
                <a:spcPts val="45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человек преподавательского состава / научные сотрудник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ing staff/researcher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лючевые области исследования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Key research areas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87480" indent="30636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бные садки и подращивание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sh hatcheries and growth out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87480" indent="30636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м и питание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 and nutrition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87480" indent="30636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левани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ase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87480" indent="30636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ы культивировани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lture system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9" name="Picture 7" descr=""/>
          <p:cNvPicPr/>
          <p:nvPr/>
        </p:nvPicPr>
        <p:blipFill>
          <a:blip r:embed="rId2"/>
          <a:stretch/>
        </p:blipFill>
        <p:spPr>
          <a:xfrm>
            <a:off x="5486400" y="4175280"/>
            <a:ext cx="365760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Oval 16"/>
          <p:cNvSpPr/>
          <p:nvPr/>
        </p:nvSpPr>
        <p:spPr>
          <a:xfrm>
            <a:off x="380880" y="3191040"/>
            <a:ext cx="2362320" cy="1380960"/>
          </a:xfrm>
          <a:prstGeom prst="ellipse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5"/>
          <p:cNvSpPr/>
          <p:nvPr/>
        </p:nvSpPr>
        <p:spPr>
          <a:xfrm>
            <a:off x="3390840" y="4919760"/>
            <a:ext cx="2514600" cy="1295280"/>
          </a:xfrm>
          <a:prstGeom prst="ellipse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4"/>
          <p:cNvSpPr/>
          <p:nvPr/>
        </p:nvSpPr>
        <p:spPr>
          <a:xfrm>
            <a:off x="3429000" y="1380960"/>
            <a:ext cx="2209680" cy="1219320"/>
          </a:xfrm>
          <a:prstGeom prst="ellipse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376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ИССЛЕДОВАТЕЛЬСКАЯ ДЕЯТЕЛЬНОСТЬ </a:t>
            </a: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RESEARCH CAPACITY</a:t>
            </a:r>
            <a:endParaRPr b="0" lang="en-US" sz="2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74" name="Oval 5"/>
          <p:cNvSpPr/>
          <p:nvPr/>
        </p:nvSpPr>
        <p:spPr>
          <a:xfrm>
            <a:off x="6477120" y="3429000"/>
            <a:ext cx="2057400" cy="1143000"/>
          </a:xfrm>
          <a:prstGeom prst="ellipse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6522120" y="3708360"/>
            <a:ext cx="20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болевания ры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sh Dise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3581280" y="1447920"/>
            <a:ext cx="190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логи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прод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logy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0"/>
          <p:cNvSpPr/>
          <p:nvPr/>
        </p:nvSpPr>
        <p:spPr>
          <a:xfrm>
            <a:off x="3798000" y="527364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тание и кор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trition and F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3"/>
          <p:cNvSpPr/>
          <p:nvPr/>
        </p:nvSpPr>
        <p:spPr>
          <a:xfrm>
            <a:off x="495360" y="3208320"/>
            <a:ext cx="21337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родоохранной деятель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4"/>
          <p:cNvSpPr/>
          <p:nvPr/>
        </p:nvSpPr>
        <p:spPr>
          <a:xfrm>
            <a:off x="3390840" y="2954160"/>
            <a:ext cx="2438640" cy="1676520"/>
          </a:xfrm>
          <a:prstGeom prst="ellipse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3619440" y="3114720"/>
            <a:ext cx="2057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еджмент в сфере водн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quatic resources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Line 18"/>
          <p:cNvSpPr/>
          <p:nvPr/>
        </p:nvSpPr>
        <p:spPr>
          <a:xfrm flipH="1" flipV="1">
            <a:off x="3352320" y="21337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6"/>
          <p:cNvSpPr/>
          <p:nvPr/>
        </p:nvSpPr>
        <p:spPr>
          <a:xfrm>
            <a:off x="5562720" y="3962520"/>
            <a:ext cx="6858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6400800" y="1544760"/>
            <a:ext cx="2666880" cy="152064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5257800" y="4952880"/>
            <a:ext cx="3200400" cy="88596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1"/>
          <p:cNvSpPr/>
          <p:nvPr/>
        </p:nvSpPr>
        <p:spPr>
          <a:xfrm>
            <a:off x="290520" y="4737240"/>
            <a:ext cx="3276720" cy="20224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380880" y="1447920"/>
            <a:ext cx="2971800" cy="166212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22240" y="506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Calibri"/>
              </a:rPr>
              <a:t>ИССЛЕДОВАНИЕ </a:t>
            </a:r>
            <a:r>
              <a:rPr b="1" lang="en-US" sz="2200" spc="-1" strike="noStrike">
                <a:solidFill>
                  <a:srgbClr val="cc0000"/>
                </a:solidFill>
                <a:latin typeface="Calibri"/>
              </a:rPr>
              <a:t>RESEARCH</a:t>
            </a:r>
            <a:r>
              <a:rPr b="1" lang="ru-RU" sz="40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8" name="Oval 4"/>
          <p:cNvSpPr/>
          <p:nvPr/>
        </p:nvSpPr>
        <p:spPr>
          <a:xfrm>
            <a:off x="3581280" y="2819520"/>
            <a:ext cx="2362320" cy="1371600"/>
          </a:xfrm>
          <a:prstGeom prst="ellipse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773520" y="2855880"/>
            <a:ext cx="21510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родоохранной деятель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228600" y="1447920"/>
            <a:ext cx="31892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ИС в области Управления водной средой и ресурс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S application in Aquatic Environment and Resource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9"/>
          <p:cNvSpPr/>
          <p:nvPr/>
        </p:nvSpPr>
        <p:spPr>
          <a:xfrm>
            <a:off x="5295960" y="491652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ксичные микроводоросли в пру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xic micro algae in p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"/>
          <p:cNvSpPr/>
          <p:nvPr/>
        </p:nvSpPr>
        <p:spPr>
          <a:xfrm>
            <a:off x="176040" y="4697280"/>
            <a:ext cx="350532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кроводоросли, используемые для экологической обработки и управления в области аква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 algae used for environmental treatment &amp; management for aqua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3"/>
          <p:cNvSpPr/>
          <p:nvPr/>
        </p:nvSpPr>
        <p:spPr>
          <a:xfrm>
            <a:off x="6153120" y="1581120"/>
            <a:ext cx="312408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логическое воз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дков в аквакуль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vironmental imp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cage aqua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5"/>
          <p:cNvSpPr/>
          <p:nvPr/>
        </p:nvSpPr>
        <p:spPr>
          <a:xfrm flipH="1">
            <a:off x="3315960" y="3962520"/>
            <a:ext cx="569880" cy="77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7"/>
          <p:cNvSpPr/>
          <p:nvPr/>
        </p:nvSpPr>
        <p:spPr>
          <a:xfrm flipV="1">
            <a:off x="5486400" y="228564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Line 14"/>
          <p:cNvSpPr/>
          <p:nvPr/>
        </p:nvSpPr>
        <p:spPr>
          <a:xfrm flipH="1">
            <a:off x="2895480" y="3840120"/>
            <a:ext cx="990720" cy="80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0"/>
          <p:cNvSpPr/>
          <p:nvPr/>
        </p:nvSpPr>
        <p:spPr>
          <a:xfrm>
            <a:off x="6400800" y="1523880"/>
            <a:ext cx="2585880" cy="179712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609480" y="1371600"/>
            <a:ext cx="2438640" cy="160020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6019920" y="4952880"/>
            <a:ext cx="2438280" cy="129564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838080" y="4343400"/>
            <a:ext cx="2057400" cy="23842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6"/>
          <p:cNvSpPr/>
          <p:nvPr/>
        </p:nvSpPr>
        <p:spPr>
          <a:xfrm>
            <a:off x="3581280" y="2743200"/>
            <a:ext cx="2210040" cy="1347840"/>
          </a:xfrm>
          <a:prstGeom prst="ellipse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alibri"/>
              </a:rPr>
              <a:t>RESEARCH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Calibri"/>
              </a:rPr>
              <a:t> ИССЛЕДОВАНИЕ</a:t>
            </a: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3733920" y="2895480"/>
            <a:ext cx="190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логи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прод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logy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28640" y="4343400"/>
            <a:ext cx="2286000" cy="23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явление профиля стероидных гормонов у рыбы методом И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ication of hormone steroid profile in fish with ELISA 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5943600" y="4952880"/>
            <a:ext cx="259092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оконсервация молоков ры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preservation of fish sp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2"/>
          <p:cNvSpPr/>
          <p:nvPr/>
        </p:nvSpPr>
        <p:spPr>
          <a:xfrm>
            <a:off x="609480" y="1447920"/>
            <a:ext cx="251460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гонад гистологическими метод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nadal development with histological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6"/>
          <p:cNvSpPr/>
          <p:nvPr/>
        </p:nvSpPr>
        <p:spPr>
          <a:xfrm>
            <a:off x="1600200" y="2971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7"/>
          <p:cNvSpPr/>
          <p:nvPr/>
        </p:nvSpPr>
        <p:spPr>
          <a:xfrm flipV="1">
            <a:off x="2133720" y="29746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8"/>
          <p:cNvSpPr/>
          <p:nvPr/>
        </p:nvSpPr>
        <p:spPr>
          <a:xfrm>
            <a:off x="5638680" y="3733920"/>
            <a:ext cx="106704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9"/>
          <p:cNvSpPr/>
          <p:nvPr/>
        </p:nvSpPr>
        <p:spPr>
          <a:xfrm>
            <a:off x="6477120" y="1459080"/>
            <a:ext cx="250956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имулирование нереста путем гормонального ле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cing spawming with hormone 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1"/>
          <p:cNvSpPr/>
          <p:nvPr/>
        </p:nvSpPr>
        <p:spPr>
          <a:xfrm flipV="1">
            <a:off x="5562720" y="228564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22"/>
          <p:cNvSpPr/>
          <p:nvPr/>
        </p:nvSpPr>
        <p:spPr>
          <a:xfrm flipH="1" flipV="1">
            <a:off x="3048120" y="228564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1T00:38:35Z</dcterms:created>
  <dc:creator>User</dc:creator>
  <dc:description/>
  <dc:language>en-US</dc:language>
  <cp:lastModifiedBy>Владелец</cp:lastModifiedBy>
  <dcterms:modified xsi:type="dcterms:W3CDTF">2015-09-25T03:38:46Z</dcterms:modified>
  <cp:revision>145</cp:revision>
  <dc:subject/>
  <dc:title>VIỆN NUÔI TRỒNG THỦY SẢN</dc:title>
</cp:coreProperties>
</file>